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32.wmf" ContentType="image/x-wmf"/>
  <Override PartName="/ppt/media/image25.jpeg" ContentType="image/jpeg"/>
  <Override PartName="/ppt/media/image19.wmf" ContentType="image/x-wmf"/>
  <Override PartName="/ppt/media/image17.png" ContentType="image/png"/>
  <Override PartName="/ppt/media/image20.wmf" ContentType="image/x-wmf"/>
  <Override PartName="/ppt/media/image35.png" ContentType="image/png"/>
  <Override PartName="/ppt/media/image26.jpeg" ContentType="image/jpeg"/>
  <Override PartName="/ppt/media/image12.png" ContentType="image/png"/>
  <Override PartName="/ppt/media/image7.wmf" ContentType="image/x-wmf"/>
  <Override PartName="/ppt/media/image30.jpeg" ContentType="image/jpeg"/>
  <Override PartName="/ppt/media/image24.jpeg" ContentType="image/jpeg"/>
  <Override PartName="/ppt/media/image9.jpeg" ContentType="image/jpeg"/>
  <Override PartName="/ppt/media/image23.wmf" ContentType="image/x-wmf"/>
  <Override PartName="/ppt/media/image31.jpeg" ContentType="image/jpeg"/>
  <Override PartName="/ppt/media/image33.jpeg" ContentType="image/jpeg"/>
  <Override PartName="/ppt/media/image27.jpeg" ContentType="image/jpeg"/>
  <Override PartName="/ppt/media/image3.jpeg" ContentType="image/jpeg"/>
  <Override PartName="/ppt/media/image28.wmf" ContentType="image/x-wmf"/>
  <Override PartName="/ppt/media/image5.jpeg" ContentType="image/jpeg"/>
  <Override PartName="/ppt/media/image11.wmf" ContentType="image/x-wmf"/>
  <Override PartName="/ppt/media/image6.wmf" ContentType="image/x-wmf"/>
  <Override PartName="/ppt/media/image34.jpeg" ContentType="image/jpeg"/>
  <Override PartName="/ppt/media/image36.png" ContentType="image/png"/>
  <Override PartName="/ppt/media/image13.jpeg" ContentType="image/jpeg"/>
  <Override PartName="/ppt/media/image8.jpeg" ContentType="image/jpeg"/>
  <Override PartName="/ppt/media/image4.png" ContentType="image/png"/>
  <Override PartName="/ppt/media/image18.wmf" ContentType="image/x-wmf"/>
  <Override PartName="/ppt/media/image2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4.png" ContentType="image/png"/>
  <Override PartName="/ppt/media/image15.jpeg" ContentType="image/jpeg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5944-379E-4435-9915-51656F35A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AA7B-2EC2-464C-8FDB-A3CB0D8D6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FA02-541B-4B13-AF0C-8EDCB89BD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FDC7-A233-4DED-9A67-42C1E0A3B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6D4E-7822-4015-8D2F-EB8F24BDA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6488-C26B-46EF-806E-26C2A6125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512F-25F5-4EA6-BEC2-0585C8720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436E-BDC3-48F3-845C-EED305D68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D21A-9C10-4B22-BBCA-FA911344E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1ECD-0CF6-4CCA-B417-16A7C5B5C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3CEB-2988-494E-A2C9-38C2AFB84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4283-62FA-401A-B5ED-18F7DAAD0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9EA7D-5666-4E35-B5D9-F841E1C18AF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58E1D-A817-4599-9140-4768997780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slide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7"/>
          <p:cNvSpPr/>
          <p:nvPr/>
        </p:nvSpPr>
        <p:spPr>
          <a:xfrm>
            <a:off x="6781680" y="64008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Su Casa Propi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8305920" y="6400800"/>
            <a:ext cx="380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9D629-62EE-41E6-B5D8-4A9CABFC2011}" type="slidenum">
              <a:rPr b="1" lang="en-US" sz="1000" spc="-1" strike="noStrike">
                <a:solidFill>
                  <a:srgbClr val="132f5a"/>
                </a:solidFill>
                <a:latin typeface="Helvetica Neu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lide3.jpg"/>
          <p:cNvPicPr/>
          <p:nvPr/>
        </p:nvPicPr>
        <p:blipFill>
          <a:blip r:embed="rId3"/>
          <a:stretch/>
        </p:blipFill>
        <p:spPr>
          <a:xfrm>
            <a:off x="5943600" y="5346720"/>
            <a:ext cx="2720880" cy="673200"/>
          </a:xfrm>
          <a:prstGeom prst="rect">
            <a:avLst/>
          </a:prstGeom>
          <a:ln w="0">
            <a:noFill/>
          </a:ln>
        </p:spPr>
      </p:pic>
      <p:sp>
        <p:nvSpPr>
          <p:cNvPr id="45" name="TextBox 10"/>
          <p:cNvSpPr/>
          <p:nvPr/>
        </p:nvSpPr>
        <p:spPr>
          <a:xfrm>
            <a:off x="6480000" y="5638680"/>
            <a:ext cx="251460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1f497d"/>
                </a:solidFill>
                <a:latin typeface="Arial Rounded MT Bold"/>
              </a:rPr>
              <a:t>Programa de Educación Financiera FD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3BDF3-97CC-420E-A348-6DCAD881459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hyperlink" Target="http://www.hud.gov/" TargetMode="External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Your Own Home title slide with FDIC Money Smart logo and module logo of a house outline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87" name="TextBox 4"/>
          <p:cNvSpPr/>
          <p:nvPr/>
        </p:nvSpPr>
        <p:spPr>
          <a:xfrm>
            <a:off x="228600" y="838080"/>
            <a:ext cx="4419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5"/>
          <p:cNvSpPr/>
          <p:nvPr/>
        </p:nvSpPr>
        <p:spPr>
          <a:xfrm>
            <a:off x="304920" y="1905120"/>
            <a:ext cx="426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Cas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6"/>
          <p:cNvSpPr/>
          <p:nvPr/>
        </p:nvSpPr>
        <p:spPr>
          <a:xfrm>
            <a:off x="380880" y="3002040"/>
            <a:ext cx="426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ropi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8"/>
          <p:cNvSpPr/>
          <p:nvPr/>
        </p:nvSpPr>
        <p:spPr>
          <a:xfrm>
            <a:off x="1143000" y="5016600"/>
            <a:ext cx="4191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1961c"/>
                </a:solidFill>
                <a:latin typeface="Arial Rounded MT Bold"/>
              </a:rPr>
              <a:t>Programa de Educación Financiera de la FD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Les presento a Patric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atricia…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Es técnica de medici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Gana $49,200 al año, o $4,100 al 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Vive con sus pad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Quiere aprender más </a:t>
            </a: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sobre la propiedad de vivien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8" descr="Woman examining a petri dish"/>
          <p:cNvPicPr/>
          <p:nvPr/>
        </p:nvPicPr>
        <p:blipFill>
          <a:blip r:embed="rId1"/>
          <a:stretch/>
        </p:blipFill>
        <p:spPr>
          <a:xfrm>
            <a:off x="6858000" y="762120"/>
            <a:ext cx="1752480" cy="1752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imer paso: Disponibilidad para comprar una cas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27600" indent="-327600">
              <a:lnSpc>
                <a:spcPct val="100000"/>
              </a:lnSpc>
              <a:spcBef>
                <a:spcPts val="726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Tienen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26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una fuente de ingresos establ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26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un buen historial crediticio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26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la habilidad de pagar deudas, hipoteca y otros gastos adicional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26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planes de mudarse en 2 o 3 año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26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dinero para una entrada y los gastos de la firma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Entrada y otros gast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6840" y="990360"/>
            <a:ext cx="8534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ntrad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Arial"/>
              </a:rPr>
              <a:t>Generalmente el 20% del precio de ven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Helvetica Neue"/>
                <a:ea typeface="Arial"/>
              </a:rPr>
              <a:t>Opciones para una entrada más baja podrían estar disponibles (p. ej., el 3% del precio de venta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Otros gasto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</a:rPr>
              <a:t>Emergencias, reparaciones y otros gastos del hog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Helvetica Neue"/>
              </a:rPr>
              <a:t>Seguro hipotecario privado (PMI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2" descr="Coin falling into a piggy bank"/>
          <p:cNvPicPr/>
          <p:nvPr/>
        </p:nvPicPr>
        <p:blipFill>
          <a:blip r:embed="rId1"/>
          <a:stretch/>
        </p:blipFill>
        <p:spPr>
          <a:xfrm>
            <a:off x="6931080" y="4340160"/>
            <a:ext cx="152388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agos hipotecari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2952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Incluyen capital e intere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Podrían incluir PMI, impuestos de propiedad y seguro de propietar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No deberían ser más del 28% de sus ingres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House with dollar bills sticking out of the roof"/>
          <p:cNvPicPr/>
          <p:nvPr/>
        </p:nvPicPr>
        <p:blipFill>
          <a:blip r:embed="rId1"/>
          <a:stretch/>
        </p:blipFill>
        <p:spPr>
          <a:xfrm>
            <a:off x="3581280" y="3354480"/>
            <a:ext cx="190512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tras preguntas que debería hacers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2193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Dónde quiere vivir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Qué tipo de vecindario quiere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i tiene hijos, ¿qué tipos de escuelas debería haber en el vecindario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Cuánto espacio necesita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dad 1: ¿Está preparada Patricia para comprar una casa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alice la Actividad 1 en la Guía para los Participantes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Lea la situación plantead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sponda a las pregunta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Esté preparado para explicar su respuest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99172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ogramas de asistencia para compradores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914400"/>
            <a:ext cx="83818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275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ara programas en su área, consulte 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Su prestamista o a su oficina del gobierno local sobre los programas de asistencia para compradores de vivien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Una agencia de asesoría de propiedad de vivienda aprobada por el Departamento de Vivienda y Desarrollo Urbano (HU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8" descr="Young couple in front of home with male realtor"/>
          <p:cNvPicPr/>
          <p:nvPr/>
        </p:nvPicPr>
        <p:blipFill>
          <a:blip r:embed="rId1"/>
          <a:stretch/>
        </p:blipFill>
        <p:spPr>
          <a:xfrm>
            <a:off x="2971800" y="4714920"/>
            <a:ext cx="2286000" cy="1228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aracterísticas de los programas gubernamental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765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quisitos de una entrada reduci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stándares flexibles de subvenció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érminos más largos de pag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quisito formativo para propietarios de vivien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57200" y="9907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3760" indent="-293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ohibe discriminar en transacciones relacionadas a la vivienda en base 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az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Col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lig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Sex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País de oríg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Estatus famili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Discapacid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Ley de Equidad en la Vivien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2" descr=" Equal Housing Opportunity Logo"/>
          <p:cNvPicPr/>
          <p:nvPr/>
        </p:nvPicPr>
        <p:blipFill>
          <a:blip r:embed="rId1"/>
          <a:stretch/>
        </p:blipFill>
        <p:spPr>
          <a:xfrm>
            <a:off x="4952880" y="2362320"/>
            <a:ext cx="242748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dad 2: ¿Tiene suficiente dinero Patricia para pagar la entrada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alice la Actividad 2 en la Guía para los Participant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Lea la situación plantead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sponda a las preguntas planteada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Esté preparado para explicar su respuesta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Bienvenid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962160" y="1295280"/>
            <a:ext cx="434340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gen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Normas b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ásic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esentacion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1" descr="Handshake"/>
          <p:cNvPicPr/>
          <p:nvPr/>
        </p:nvPicPr>
        <p:blipFill>
          <a:blip r:embed="rId1"/>
          <a:stretch/>
        </p:blipFill>
        <p:spPr>
          <a:xfrm>
            <a:off x="0" y="1219320"/>
            <a:ext cx="4343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Términos hipotecari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ITI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apit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ntere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mpues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egu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M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2" descr="Computer keyboard, cash and tax paperwork on desk with eye glasses and pen"/>
          <p:cNvPicPr/>
          <p:nvPr/>
        </p:nvPicPr>
        <p:blipFill>
          <a:blip r:embed="rId1"/>
          <a:stretch/>
        </p:blipFill>
        <p:spPr>
          <a:xfrm>
            <a:off x="5257800" y="1371600"/>
            <a:ext cx="1968480" cy="23493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ómo se pagan los impuestos y el segur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n una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cuenta de depósito en garantía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</a:rPr>
              <a:t>La Ley de Procedimientos de Liquidación de Bienes Raíces (RESPA) limita el monto que necesita tener en una cuenta de depósito en garantía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or separad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690480" indent="-2286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Geneva"/>
              </a:rPr>
              <a:t>Usted es responsable de los pagos regular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6" descr="Home model being held in two hands"/>
          <p:cNvPicPr/>
          <p:nvPr/>
        </p:nvPicPr>
        <p:blipFill>
          <a:blip r:embed="rId1"/>
          <a:stretch/>
        </p:blipFill>
        <p:spPr>
          <a:xfrm>
            <a:off x="6858000" y="3581280"/>
            <a:ext cx="1371600" cy="1171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320" y="380880"/>
            <a:ext cx="90676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uatro factores al decidir sobre préstamo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Diagram 6" descr=""/>
          <p:cNvPicPr/>
          <p:nvPr/>
        </p:nvPicPr>
        <p:blipFill>
          <a:blip r:embed="rId1"/>
          <a:stretch/>
        </p:blipFill>
        <p:spPr>
          <a:xfrm>
            <a:off x="1292400" y="1255680"/>
            <a:ext cx="663876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egundo paso: Determinar el tamaño de la hipoteca que se puede permiti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6840" y="1676520"/>
            <a:ext cx="807732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alificación previ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Le informa del tamaño de la hipoteca que se puede permit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e aprobació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C</a:t>
            </a:r>
            <a:r>
              <a:rPr b="0" lang="es-ES" sz="2800" spc="-1" strike="noStrike">
                <a:solidFill>
                  <a:srgbClr val="002060"/>
                </a:solidFill>
                <a:latin typeface="Helvetica Neue"/>
              </a:rPr>
              <a:t>ompromiso que hace el prestamista con usted de prestarle dine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2" descr="Woman and man reviewing pre-qualification paperwork"/>
          <p:cNvPicPr/>
          <p:nvPr/>
        </p:nvPicPr>
        <p:blipFill>
          <a:blip r:embed="rId1"/>
          <a:stretch/>
        </p:blipFill>
        <p:spPr>
          <a:xfrm>
            <a:off x="3352680" y="4784760"/>
            <a:ext cx="236232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alificación previa de Patric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4440" indent="-334440">
              <a:lnSpc>
                <a:spcPct val="95000"/>
              </a:lnSpc>
              <a:spcBef>
                <a:spcPts val="374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alificación previa de $165,00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lnSpc>
                <a:spcPct val="95000"/>
              </a:lnSpc>
              <a:spcBef>
                <a:spcPts val="374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stimación general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334800">
              <a:lnSpc>
                <a:spcPct val="95000"/>
              </a:lnSpc>
              <a:spcBef>
                <a:spcPts val="34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De 2 a 3 veces sus ingresos total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334800" algn="r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33480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Helvetica Neue"/>
              </a:rPr>
              <a:t>Si recibe una calificación mayor, ¡piense en lo que se puede permitir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914400" y="2743200"/>
            <a:ext cx="685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$49,200 x 2  =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$  98,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$49,200 x 2.5 =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$123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$49,200 x 3    =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$147,6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laciones deuda-ingresos (DTI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lación frontal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PITI o gastos de la vivienda deberían ser menos del 25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28% de sus ingresos brutos mensual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lación final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Gastos de la vivienda + deudas de largo plazo deberían ser menos del 33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36% de sus ingresos brutos mensual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dad 3: ¿Qué tamaño de hipoteca se puede permitir Patricia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alice la Actividad 3 en la Guía para los Participant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Lea la situación plantead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sponda a las pregunta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Esté preparado para explicar su respuesta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Términos hipotecari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380880" y="1289160"/>
          <a:ext cx="8229600" cy="4572000"/>
        </p:xfrm>
        <a:graphic>
          <a:graphicData uri="http://schemas.openxmlformats.org/drawingml/2006/table">
            <a:tbl>
              <a:tblPr/>
              <a:tblGrid>
                <a:gridCol w="3810240"/>
                <a:gridCol w="4419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Hipoteca a 15 añ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Hipoteca a 30 añ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4053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Menos dinero prestado porque realiza pagos mensuales más alto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El capital se genera más rápidament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Intereses más bajos a pagar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Tasa de interés más baj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solidFill>
                      <a:srgbClr val="b7dbf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Más dinero prestado porque realiza pagos mensuales más bajo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El capital se genera más lentament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Se puede deducir más intereses de sus impuestos sobre la rent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Tasa de interés más alt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solidFill>
                      <a:srgbClr val="b7dbff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Tipo de hipotec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380880" y="1266840"/>
          <a:ext cx="8458200" cy="4998960"/>
        </p:xfrm>
        <a:graphic>
          <a:graphicData uri="http://schemas.openxmlformats.org/drawingml/2006/table">
            <a:tbl>
              <a:tblPr/>
              <a:tblGrid>
                <a:gridCol w="3276720"/>
                <a:gridCol w="51814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Hipoteca de tasa fij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Hipoteca de tasa ajust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9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7760" indent="-235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No puede aumentar la tasa de interé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235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Pagos predecibl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235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Las tasas de interés podrían disminuir por debajo de su tasa fij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235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bf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7760" indent="-235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La tasa de interés puede aumentar o disminuir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235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Las tasas podrían ser bajas sólo durante el periodo inicia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235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Las mensualidades podrían empezar más bajas que los préstamos de tasa fija, pero luego subir considerablement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bff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Tercer paso: Determinar qué opción hipotecaria es mejor para ust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761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ipoteca de tasa fij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ipoteca de tasa ajustable (ARM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ipoteca de sólo-interé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ipoteca de pagos quincenal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2" descr="Home and mortgage paperwork"/>
          <p:cNvPicPr/>
          <p:nvPr/>
        </p:nvPicPr>
        <p:blipFill>
          <a:blip r:embed="rId1"/>
          <a:stretch/>
        </p:blipFill>
        <p:spPr>
          <a:xfrm>
            <a:off x="6858000" y="3733920"/>
            <a:ext cx="181440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17520" indent="-3175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i usted está en la fase previa a la compra de una casa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486360" indent="-26856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Explicar las ventajas e inconvenientes de alquilar comparado con ser propietario de una cas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86360" indent="-26856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Identificar las preguntas que se deben hacer para saber si están preparados para comprar una cas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86360" indent="-26856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Identificar los pasos necesarios para comprar una cas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86360" indent="-26856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Identificar los términos básicos y divulgaciones necesarias usadas en una transacción hipotecari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5" descr="Arrow in target bulls eye"/>
          <p:cNvPicPr/>
          <p:nvPr/>
        </p:nvPicPr>
        <p:blipFill>
          <a:blip r:embed="rId1"/>
          <a:stretch/>
        </p:blipFill>
        <p:spPr>
          <a:xfrm>
            <a:off x="8310600" y="304920"/>
            <a:ext cx="7570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Hipotecas de sólo-interé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218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Paga solamente el interés (no el capital) durante un plazo fijo 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(p. ej., 5 a 7 año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spués del plazo fijo, pued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financia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Pagar el saldo de una ve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Empezar a hacer pagos mensuales de la hipoteca para amortizar el capit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6" descr="Man pulling percentage symbol up a steep hill"/>
          <p:cNvPicPr/>
          <p:nvPr/>
        </p:nvPicPr>
        <p:blipFill>
          <a:blip r:embed="rId1"/>
          <a:stretch/>
        </p:blipFill>
        <p:spPr>
          <a:xfrm>
            <a:off x="6477120" y="2133720"/>
            <a:ext cx="2352600" cy="15238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99172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Ventajas de los préstamos de sólo-interé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29528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na buena opción si usted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No va a vivir en la casa más allá del periodo de sólo-interé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Tiene ingresos modestos que aumentarán en el futu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Está intentando resolver problemas crediticios para refinanciar su tasa a una tasa fija men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6" descr="Man pulling percentage symbol up a steep hill"/>
          <p:cNvPicPr/>
          <p:nvPr/>
        </p:nvPicPr>
        <p:blipFill>
          <a:blip r:embed="rId1"/>
          <a:stretch/>
        </p:blipFill>
        <p:spPr>
          <a:xfrm>
            <a:off x="3352680" y="5029200"/>
            <a:ext cx="2438640" cy="1579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convenientes de los préstamos de sólo-interé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os pago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Podrían no cubrir todos los intereses que debe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, no le permiten generar capit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Pueden ser imposibles de pagar después del periodo de sólo-interé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Geneva"/>
              </a:rPr>
              <a:t>Podría incurrir en gastos de refinanciación si ya no puede realizar los pag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6" descr="Man pulling percentage symbol up a steep hill"/>
          <p:cNvPicPr/>
          <p:nvPr/>
        </p:nvPicPr>
        <p:blipFill>
          <a:blip r:embed="rId1"/>
          <a:stretch/>
        </p:blipFill>
        <p:spPr>
          <a:xfrm>
            <a:off x="3352680" y="5029200"/>
            <a:ext cx="2438640" cy="1579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Hipoteca de pagos quincenal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Una hipoteca convencional de tasa fija con pagos cada 2 seman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275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lternativa: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ñadir más dinero a su pago mensu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Asegúrese de que el prestamista no le cobrará una penalización por prepag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Picture 6" descr="Person filling out checkbook"/>
          <p:cNvPicPr/>
          <p:nvPr/>
        </p:nvPicPr>
        <p:blipFill>
          <a:blip r:embed="rId1"/>
          <a:stretch/>
        </p:blipFill>
        <p:spPr>
          <a:xfrm>
            <a:off x="3048120" y="4613400"/>
            <a:ext cx="2743200" cy="1482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Busque, compare, negoci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2952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1120" indent="-321120">
              <a:lnSpc>
                <a:spcPct val="90000"/>
              </a:lnSpc>
              <a:spcBef>
                <a:spcPts val="374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nsulte en periódicos e Internet para términos y tas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1120" indent="-321120">
              <a:lnSpc>
                <a:spcPct val="90000"/>
              </a:lnSpc>
              <a:spcBef>
                <a:spcPts val="374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Negocie su mejor preci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1120" indent="-321120">
              <a:lnSpc>
                <a:spcPct val="90000"/>
              </a:lnSpc>
              <a:spcBef>
                <a:spcPts val="374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je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que los prestamistas compitan para conseguirle como clien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1120" indent="-321120">
              <a:lnSpc>
                <a:spcPct val="90000"/>
              </a:lnSpc>
              <a:spcBef>
                <a:spcPts val="374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ida los gastos por escri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1120" indent="-321120">
              <a:lnSpc>
                <a:spcPct val="90000"/>
              </a:lnSpc>
              <a:spcBef>
                <a:spcPts val="374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tilice la APR y GFE para comparar todos los gast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Estimación de Buena F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Estimación de gastos de los servicios de liquida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La recibe cuando solicita el préstam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Guarde su GFE para comparar con los costos finales de liquidació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egunte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l prestamista si hay algún cambi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2" descr="Man signing paperwork"/>
          <p:cNvPicPr/>
          <p:nvPr/>
        </p:nvPicPr>
        <p:blipFill>
          <a:blip r:embed="rId1"/>
          <a:stretch/>
        </p:blipFill>
        <p:spPr>
          <a:xfrm>
            <a:off x="3352680" y="4495680"/>
            <a:ext cx="2360880" cy="15670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Hoja de trabajo de búsqueda de hipotec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4475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a ley federal exige al prestamista o al agente que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Divulgue las estimaciones de cuánto costará el préstamo y la APR (Divulgación de Veracidad en los Préstamo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Le diga una estimación de los gastos de la firma, y del dinero que va a necesitar en la firma (GF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12" descr="Couple shopping for mortgages"/>
          <p:cNvPicPr/>
          <p:nvPr/>
        </p:nvPicPr>
        <p:blipFill>
          <a:blip r:embed="rId1"/>
          <a:stretch/>
        </p:blipFill>
        <p:spPr>
          <a:xfrm>
            <a:off x="3581280" y="4925880"/>
            <a:ext cx="206532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uarto paso: Ser elegible para un préstam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Obtener una calificación previa y una pre aprobació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cluya las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uotas de asociación de vecinos al calcular sus gastos del hoga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Picture 4" descr="Man sitting with female lender"/>
          <p:cNvPicPr/>
          <p:nvPr/>
        </p:nvPicPr>
        <p:blipFill>
          <a:blip r:embed="rId1"/>
          <a:stretch/>
        </p:blipFill>
        <p:spPr>
          <a:xfrm>
            <a:off x="3056040" y="3809880"/>
            <a:ext cx="250668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dad 4: ¿Es elegible Patricia para un préstamo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6761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alice la Actividad 4 en la Guía para los Participantes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Lea la situación plantead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sponda a la pregunta plantead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Esté preparado para explicar su respuest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uando la relación deuda-ingresos excede la relación recomenda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6840" y="1066680"/>
            <a:ext cx="655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4280" indent="-3142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4280" indent="-3142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ún podría ser elegible para un préstamo si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Tiene la habilidad de pagar más hacia los gastos del hog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Muestra pruebas de historial crediticio positivo y sosteni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Paga una entrada considerabl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Tiene reservas de dine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8" descr="Woman completing paperwork"/>
          <p:cNvPicPr/>
          <p:nvPr/>
        </p:nvPicPr>
        <p:blipFill>
          <a:blip r:embed="rId1"/>
          <a:stretch/>
        </p:blipFill>
        <p:spPr>
          <a:xfrm>
            <a:off x="6934320" y="1752480"/>
            <a:ext cx="1904760" cy="2830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ersonas en la fase previa a la compra de una casa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Describir las ventajas e inconvenientes de las diferentes opciones para una hipote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Describir cómo las tasas de interés afectan el precio de la casa que pueden compr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Explicar cómo los impuestos y el seguro afectan el pago mensual y el precio de la casa que pueden compr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5" descr="Arrow in target bulls eye"/>
          <p:cNvPicPr/>
          <p:nvPr/>
        </p:nvPicPr>
        <p:blipFill>
          <a:blip r:embed="rId1"/>
          <a:stretch/>
        </p:blipFill>
        <p:spPr>
          <a:xfrm>
            <a:off x="8310600" y="304920"/>
            <a:ext cx="7570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6" descr="Paperwork with Sign Here sticker"/>
          <p:cNvPicPr/>
          <p:nvPr/>
        </p:nvPicPr>
        <p:blipFill>
          <a:blip r:embed="rId1"/>
          <a:stretch/>
        </p:blipFill>
        <p:spPr>
          <a:xfrm>
            <a:off x="3505320" y="4648320"/>
            <a:ext cx="1981080" cy="14475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Quinto paso: Realizar la liquidac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218960"/>
            <a:ext cx="830592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1200" indent="-3312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iquidació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Firma de documentos que finalizarán la venta de la casa y cualquier financiación hipotecaria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Derecho de revisar la declaración de liquidación al menos un día antes de la firma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¿Tiene problemas con los pagos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óngase en contacto de inmediato con su prestamis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ida ayuda a un asesor inmobiliario reconocido que le ofrezca servicios gratuitos o de bajo costo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2" descr="Man with his head in his hands and hundred dollar bills in background"/>
          <p:cNvPicPr/>
          <p:nvPr/>
        </p:nvPicPr>
        <p:blipFill>
          <a:blip r:embed="rId1"/>
          <a:stretch/>
        </p:blipFill>
        <p:spPr>
          <a:xfrm>
            <a:off x="3048120" y="3962520"/>
            <a:ext cx="2743200" cy="1828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provechar el capital de su cas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6840" y="1417680"/>
            <a:ext cx="65530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éstamos sobre el capital de la viviend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ínea de crédito sobre el capital de una vivienda (HELOC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financiación y refinanciación en efectiv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ipotecas revertid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3" descr="Paperwork, calculator, and thousands of dollars in cash"/>
          <p:cNvPicPr/>
          <p:nvPr/>
        </p:nvPicPr>
        <p:blipFill>
          <a:blip r:embed="rId1"/>
          <a:stretch/>
        </p:blipFill>
        <p:spPr>
          <a:xfrm>
            <a:off x="6858000" y="1905120"/>
            <a:ext cx="1847880" cy="24638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éstamos sobre el capital de la vivien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990360"/>
            <a:ext cx="8686800" cy="505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275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n préstamo único con una suma específic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e suele ofrecer a una tasa de interés fija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uotas mensuales iguales a lo largo de un periodo específico de tiemp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Picture 7" descr="Bank or financial institution"/>
          <p:cNvPicPr/>
          <p:nvPr/>
        </p:nvPicPr>
        <p:blipFill>
          <a:blip r:embed="rId1"/>
          <a:stretch/>
        </p:blipFill>
        <p:spPr>
          <a:xfrm>
            <a:off x="3124080" y="4038480"/>
            <a:ext cx="21337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Línea de crédito sobre el capital de una vivien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8284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unciona como una tarjeta de crédito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93800" indent="-2858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Utiliza la línea de crédito cuando lo necesi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93800" indent="-2858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Al pagar el capital el crédito disponible vuelve a aument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asas de interés normalmente variabl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4" descr="Credit card and percentage symbol"/>
          <p:cNvPicPr/>
          <p:nvPr/>
        </p:nvPicPr>
        <p:blipFill>
          <a:blip r:embed="rId1"/>
          <a:stretch/>
        </p:blipFill>
        <p:spPr>
          <a:xfrm>
            <a:off x="6095880" y="91440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Ventajas del capital de la vivien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0880" y="1143000"/>
            <a:ext cx="838224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17520" indent="-3175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lexibilidad para financiar grandes gast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7520" indent="-3175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asa de interés más baja que las tarjetas de crédi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7520" indent="-3175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terés se puede deducir de sus impuest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Picture 10" descr="Living/entry room being renovated"/>
          <p:cNvPicPr/>
          <p:nvPr/>
        </p:nvPicPr>
        <p:blipFill>
          <a:blip r:embed="rId1"/>
          <a:stretch/>
        </p:blipFill>
        <p:spPr>
          <a:xfrm>
            <a:off x="3505320" y="3886200"/>
            <a:ext cx="2133360" cy="21337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iesgos del capital de la vivien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218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81960" indent="-3819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a casa es la garantí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81960" indent="-3819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l valor de la inmobiliaria puede disminui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81960" indent="-3819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asas/pagos pueden aumenta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81960" indent="-3819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entación de usar el dinero para inversiones o compras insensat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69680" indent="-27720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Sea cuidadoso y autodisciplina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us derechos bajo la ley feder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6840" y="11430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iene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3 días hábiles después de firmar los documentos del préstamo para cancelar el acuerdo sin penalización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Debe cancelar el acuerdo por escri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El prestamista debe devolverle cualquier costo o cargo de financiación que haya paga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No se aplica si está comprando una casa o refinanciando sin tomar más dinero presta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pciones de refinanciac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6840" y="1341360"/>
            <a:ext cx="838188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Refinanciación: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n préstamo para vivienda existente es pagado y reemplazado por un préstamo nuevo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Préstamo de refinanciación en efectivo</a:t>
            </a: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: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e permite tomar más dinero prestado de lo que debe en el préstamo que va a sustitui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Picture 5" descr="Small model home"/>
          <p:cNvPicPr/>
          <p:nvPr/>
        </p:nvPicPr>
        <p:blipFill>
          <a:blip r:embed="rId1"/>
          <a:stretch/>
        </p:blipFill>
        <p:spPr>
          <a:xfrm>
            <a:off x="3038400" y="4341960"/>
            <a:ext cx="2524320" cy="16779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Ejemplo de refinanciación en efectiv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533520" y="1066320"/>
            <a:ext cx="807696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17520" indent="-317520">
              <a:lnSpc>
                <a:spcPct val="95000"/>
              </a:lnSpc>
              <a:spcBef>
                <a:spcPts val="374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ipoteca actual: $100,000 al 9.95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7520" indent="-317520">
              <a:lnSpc>
                <a:spcPct val="95000"/>
              </a:lnSpc>
              <a:spcBef>
                <a:spcPts val="374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be un total de $87,000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7520" indent="-317520">
              <a:lnSpc>
                <a:spcPct val="95000"/>
              </a:lnSpc>
              <a:spcBef>
                <a:spcPts val="374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Mensualidad: $873.8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7520" indent="-317520">
              <a:lnSpc>
                <a:spcPct val="95000"/>
              </a:lnSpc>
              <a:spcBef>
                <a:spcPts val="374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Quiere $20,000 para hacer reform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152280" y="3581280"/>
            <a:ext cx="4038840" cy="29718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2" descr="Ladder"/>
          <p:cNvPicPr/>
          <p:nvPr/>
        </p:nvPicPr>
        <p:blipFill>
          <a:blip r:embed="rId1"/>
          <a:stretch/>
        </p:blipFill>
        <p:spPr>
          <a:xfrm>
            <a:off x="3373560" y="3706920"/>
            <a:ext cx="173196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4280" indent="-314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i usted es propietario de una viviend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Describir las ventajas e inconvenientes de tomar dinero prestado contra el valor de una cas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Explicar qué pueden hacer si están teniendo problemas para cumplir con los pag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Describir las opciones de refinanciació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Explicar las ventajas e inconvenientes de una hipoteca revertid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Identificar prácticas abusivas de préstamos y timos en los préstam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5" descr="Arrow in target bulls eye"/>
          <p:cNvPicPr/>
          <p:nvPr/>
        </p:nvPicPr>
        <p:blipFill>
          <a:blip r:embed="rId1"/>
          <a:stretch/>
        </p:blipFill>
        <p:spPr>
          <a:xfrm>
            <a:off x="8310600" y="304920"/>
            <a:ext cx="7570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Ejemplo de refinanciación en efectiv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152280" y="3581280"/>
            <a:ext cx="4038840" cy="29718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33520" y="960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4360" indent="-324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Opción nº 1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17480" indent="-2786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Refinanciar $107,000 ($87,000 + 20,000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7480" indent="-2786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Tasa de interés: 6.02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7480" indent="-2786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Mensualidad: $642.90 x 30 añ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7480" indent="-2786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Total = $231,442.4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4360" indent="-32436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4360" indent="-324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Opción nº 2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17480" indent="-2786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Refinanciar $87,000 a $522.73 x 30 añ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7480" indent="-2786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Préstamo sobre el capital de la vivienda: $20,000 a 7.36% x 20 añ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7480" indent="-2786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Total = $226,440.7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4360" indent="-32436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Hipoteca reverti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80520" y="9907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27600" indent="-327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omar prestado contra el capital de la vivienda para recibir dinero en efectiv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55840" indent="-27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De una vez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55840" indent="-27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Mediante pagos mensua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55840" indent="-27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Como una línea de crédito que usa cuando necesi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ropietarios deben tener al menos 62 añ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l menos un titular debe vivir en la casa durante la mayor parte del año</a:t>
            </a: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l tipo de casa debe ser elegib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55840" indent="-27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nsideraciones de la hipoteca revertida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6840" y="94284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4200" indent="-304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be devolver el préstamo + intereses cuando vende, se muda o mue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Helvetica Neue"/>
                <a:ea typeface="Arial"/>
              </a:rPr>
              <a:t>El monto que debe asciende con el tiempo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04200" indent="-304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igue pagando los impuestos de propiedad, el seguro y reparacion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4200" indent="-304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l heredero debe devolver el préstamo si se queda con la cas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4200" indent="-304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a suma que tiene que pagar por adelantado hace que los primeros años sean bastante costosos</a:t>
            </a: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4200" indent="-304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ácticas de préstamos abusiv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886200" y="1599840"/>
            <a:ext cx="50292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ácticas de marketing, prácticas de cobro y plazos de préstamos que engañan y abusan de los consumidores que piden un préstam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Picture 6" descr="Computer mouse cord caught in mouse trap"/>
          <p:cNvPicPr/>
          <p:nvPr/>
        </p:nvPicPr>
        <p:blipFill>
          <a:blip r:embed="rId1"/>
          <a:stretch/>
        </p:blipFill>
        <p:spPr>
          <a:xfrm>
            <a:off x="533520" y="1600200"/>
            <a:ext cx="3163680" cy="20574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Departamento de Vivienda y Desarrollo Urban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80880" y="1447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4440" indent="-3344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inancia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33480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Un curso para personas que han comprado una vivien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33480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Agencias de asesoría de vivien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lame a HUD para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na lista de agencias de asesoría para viviendas aprobadas por HUD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3348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1-800-569-4287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3348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Helvetica Neue"/>
                <a:ea typeface="Arial"/>
                <a:hlinkClick r:id="rId1"/>
              </a:rPr>
              <a:t>www.hud.gov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7" name="Picture 5" descr="Classroom with instructor drawing on whiteboard"/>
          <p:cNvPicPr/>
          <p:nvPr/>
        </p:nvPicPr>
        <p:blipFill>
          <a:blip r:embed="rId2"/>
          <a:stretch/>
        </p:blipFill>
        <p:spPr>
          <a:xfrm>
            <a:off x="7238880" y="1371600"/>
            <a:ext cx="1633680" cy="2205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sum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3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¿Qué preguntas adicionales tienen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3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3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¿Qué han aprendid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3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3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¿Cómo evaluarían el curso de capacitación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0" name="Picture 7" descr="Clipboard and pencil"/>
          <p:cNvPicPr/>
          <p:nvPr/>
        </p:nvPicPr>
        <p:blipFill>
          <a:blip r:embed="rId1"/>
          <a:srcRect l="0" t="22003" r="0" b="0"/>
          <a:stretch/>
        </p:blipFill>
        <p:spPr>
          <a:xfrm>
            <a:off x="6705720" y="4038480"/>
            <a:ext cx="20635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nclus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8524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4360" indent="-3243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prendieron acerca d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50080" indent="-27432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Arial"/>
              </a:rPr>
              <a:t>Alquilar comparado con ser propietario de su cas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50080" indent="-27432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Arial"/>
              </a:rPr>
              <a:t>Los pasos necesarios para comprar una cas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50080" indent="-27432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Arial"/>
              </a:rPr>
              <a:t>Preguntas que debe hacerse para determinar si está preparado para comprar una cas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50080" indent="-27432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Arial"/>
              </a:rPr>
              <a:t>Los componente de una hipotec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50080" indent="-27432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Arial"/>
              </a:rPr>
              <a:t>Diferentes opciones de hipotecas para comprar una cas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50080" indent="-27432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Arial"/>
              </a:rPr>
              <a:t>Aprovechar el capital de su cas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50080" indent="-27432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Arial"/>
              </a:rPr>
              <a:t>Inconvenientes y riesgos de una refinanciación hipotecaria insensa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Picture 2" descr="Outline of person under roofline"/>
          <p:cNvPicPr/>
          <p:nvPr/>
        </p:nvPicPr>
        <p:blipFill>
          <a:blip r:embed="rId1"/>
          <a:stretch/>
        </p:blipFill>
        <p:spPr>
          <a:xfrm>
            <a:off x="7848720" y="45720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¿Qué sabe usted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819160" y="990360"/>
            <a:ext cx="617220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¿Qué saben o quieren aprender sobre comprar o ser propietario de una casa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lquilar una cas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17520" indent="-31752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Ventaja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3720" indent="-25956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No hay mantenimiento del inmue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3720" indent="-25956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Contrato de alquiler de 1 año o menos 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3720" indent="-25956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No hay costos asociados a ser propietar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7520" indent="-31752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convenient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3720" indent="-25956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Usted no es el dueñ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3720" indent="-25956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Su alquiler podría aument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3720" indent="-25956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Es posible que no pueda renovar su contra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7520" indent="-3175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7520" indent="-317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1" descr="For Rent sign in front of high-rise building"/>
          <p:cNvPicPr/>
          <p:nvPr/>
        </p:nvPicPr>
        <p:blipFill>
          <a:blip r:embed="rId1"/>
          <a:stretch/>
        </p:blipFill>
        <p:spPr>
          <a:xfrm>
            <a:off x="7162920" y="3200400"/>
            <a:ext cx="1757160" cy="17683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er propietario de una cas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6840" y="9903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0600" indent="-3006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Ventajas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10200" indent="-254160">
              <a:lnSpc>
                <a:spcPct val="100000"/>
              </a:lnSpc>
              <a:spcBef>
                <a:spcPts val="649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Generar capital y tomar dinero prestado contra é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10200" indent="-254160">
              <a:lnSpc>
                <a:spcPct val="100000"/>
              </a:lnSpc>
              <a:spcBef>
                <a:spcPts val="649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Buena inversió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10200" indent="-254160">
              <a:lnSpc>
                <a:spcPct val="100000"/>
              </a:lnSpc>
              <a:spcBef>
                <a:spcPts val="649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Intereses de la hipoteca desgravab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10200" indent="-254160">
              <a:lnSpc>
                <a:spcPct val="100000"/>
              </a:lnSpc>
              <a:spcBef>
                <a:spcPts val="649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Un activo que puede dejar a su famili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00600" indent="-3006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convenientes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10200" indent="-254160">
              <a:lnSpc>
                <a:spcPct val="100000"/>
              </a:lnSpc>
              <a:spcBef>
                <a:spcPts val="649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Mantenimiento y reformas de la propied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10200" indent="-254160">
              <a:lnSpc>
                <a:spcPct val="100000"/>
              </a:lnSpc>
              <a:spcBef>
                <a:spcPts val="649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No es tan fácil mudarse como con alquile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10200" indent="-254160">
              <a:lnSpc>
                <a:spcPct val="100000"/>
              </a:lnSpc>
              <a:spcBef>
                <a:spcPts val="649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Riesgo de perder su cas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4" descr="Family (mother, father, and three girls) sitting on couch in home"/>
          <p:cNvPicPr/>
          <p:nvPr/>
        </p:nvPicPr>
        <p:blipFill>
          <a:blip r:embed="rId1"/>
          <a:stretch/>
        </p:blipFill>
        <p:spPr>
          <a:xfrm>
            <a:off x="6934320" y="2209680"/>
            <a:ext cx="1996920" cy="16765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inco pasos para comprar una cas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218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57560" indent="-45756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ar si está preparado para comprar una cas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57560" indent="-45756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ar el tamaño de la hipoteca que se puede permiti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57560" indent="-45756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ar qué opción hipotecaria es mejor para uste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57560" indent="-45756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er elegible para un préstam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57560" indent="-45756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alizar la liquidació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7T18:58:15Z</dcterms:created>
  <dc:creator/>
  <dc:description/>
  <dc:language>en-US</dc:language>
  <cp:lastModifiedBy> </cp:lastModifiedBy>
  <cp:lastPrinted>2010-01-07T20:59:10Z</cp:lastPrinted>
  <dcterms:modified xsi:type="dcterms:W3CDTF">2011-02-14T18:36:54Z</dcterms:modified>
  <cp:revision>60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F39A119390EE2E43A4E19FA973347658</vt:lpwstr>
  </property>
</Properties>
</file>