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2.wmf" ContentType="image/x-wmf"/>
  <Override PartName="/ppt/media/image25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35.png" ContentType="image/png"/>
  <Override PartName="/ppt/media/image26.jpeg" ContentType="image/jpeg"/>
  <Override PartName="/ppt/media/image12.png" ContentType="image/png"/>
  <Override PartName="/ppt/media/image7.wmf" ContentType="image/x-wmf"/>
  <Override PartName="/ppt/media/image30.jpeg" ContentType="image/jpeg"/>
  <Override PartName="/ppt/media/image24.jpeg" ContentType="image/jpeg"/>
  <Override PartName="/ppt/media/image9.jpeg" ContentType="image/jpeg"/>
  <Override PartName="/ppt/media/image23.wmf" ContentType="image/x-wmf"/>
  <Override PartName="/ppt/media/image31.jpeg" ContentType="image/jpeg"/>
  <Override PartName="/ppt/media/image33.jpeg" ContentType="image/jpeg"/>
  <Override PartName="/ppt/media/image27.jpeg" ContentType="image/jpeg"/>
  <Override PartName="/ppt/media/image3.jpeg" ContentType="image/jpeg"/>
  <Override PartName="/ppt/media/image28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34.jpeg" ContentType="image/jpeg"/>
  <Override PartName="/ppt/media/image36.png" ContentType="image/png"/>
  <Override PartName="/ppt/media/image13.jpeg" ContentType="image/jpeg"/>
  <Override PartName="/ppt/media/image8.jpeg" ContentType="image/jpeg"/>
  <Override PartName="/ppt/media/image4.png" ContentType="image/png"/>
  <Override PartName="/ppt/media/image18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385A-2F45-4F47-B432-6EAC8CF1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D903-0DD3-411C-A175-0D72788E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9F1C-5C69-41D1-A6F8-2FC1A647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8520-BB0E-4DE4-B2ED-97FA908C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AB21-B527-41EF-90CC-B32FB785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0868-D574-44AD-868D-38E98DC6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49A8-44FB-4CFA-AFAB-2DDAED32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B23C-D9C1-48AF-92B1-2E6B5D53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858B-A9E6-4DA0-ACE0-908F4331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2F2A-8D9A-496D-8DFA-851D9447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1883-9157-4F64-B5C8-BF4CDC61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86D-DC0B-4E0F-B9FD-E53FE223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9D7D-989F-4570-8251-1A8B77D5B0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A8D0-07B6-47E2-B32D-27DF9B905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u Casa Prop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A6F0-A9A6-4A0E-8059-584E614FABEC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D5CF-314B-4665-A7ED-332447D481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hud.gov/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Your Own Home title slide with FDIC Money Smart logo and module logo of a house outline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228600" y="8380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304920" y="190512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as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380880" y="300204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op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es presento a Patr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tricia…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 técnica de medic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ana $49,200 al año, o $4,100 al 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Vive con sus pad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Quiere aprender más 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obre la propiedad de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8" descr="Woman examining a petri dish"/>
          <p:cNvPicPr/>
          <p:nvPr/>
        </p:nvPicPr>
        <p:blipFill>
          <a:blip r:embed="rId1"/>
          <a:stretch/>
        </p:blipFill>
        <p:spPr>
          <a:xfrm>
            <a:off x="6858000" y="762120"/>
            <a:ext cx="17524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mer paso: Disponibilidad para comprar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27600" indent="-3276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Tienen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a fuente de ingresos es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 buen historial creditici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a habilidad de pagar deudas, hipoteca y otros gastos adicional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lanes de mudarse en 2 o 3 año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nero para una entrada y los gastos de la firm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ntrada y otros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9903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ntr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Generalmente el 20% del precio de v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Opciones para una entrada más baja podrían estar disponibles (p. ej., el 3% del precio de vent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tros gast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</a:rPr>
              <a:t>Emergencias, reparaciones y otros gastos del hog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</a:rPr>
              <a:t>Seguro hipotecario privado (PMI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oin falling into a piggy bank"/>
          <p:cNvPicPr/>
          <p:nvPr/>
        </p:nvPicPr>
        <p:blipFill>
          <a:blip r:embed="rId1"/>
          <a:stretch/>
        </p:blipFill>
        <p:spPr>
          <a:xfrm>
            <a:off x="6931080" y="4340160"/>
            <a:ext cx="15238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agos hipotec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cluyen capital e inter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odrían incluir PMI, impuestos de propiedad y seguro de propiet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deberían ser más del 28% de sus ingres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ouse with dollar bills sticking out of the roof"/>
          <p:cNvPicPr/>
          <p:nvPr/>
        </p:nvPicPr>
        <p:blipFill>
          <a:blip r:embed="rId1"/>
          <a:stretch/>
        </p:blipFill>
        <p:spPr>
          <a:xfrm>
            <a:off x="3581280" y="3354480"/>
            <a:ext cx="19051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ras preguntas que debería hacer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Dónde quiere vivi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tipo de vecindario quier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tiene hijos, ¿qué tipos de escuelas debería haber en el vecindari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espacio necesit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1: ¿Está preparada Patricia para comprar una cas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1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ogramas de asistencia para compradore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914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ra programas en su área, consulte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u prestamista o a su oficina del gobierno local sobre los programas de asistencia para compradores de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a agencia de asesoría de propiedad de vivienda aprobada por el Departamento de Vivienda y Desarrollo Urbano (HU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8" descr="Young couple in front of home with male realtor"/>
          <p:cNvPicPr/>
          <p:nvPr/>
        </p:nvPicPr>
        <p:blipFill>
          <a:blip r:embed="rId1"/>
          <a:stretch/>
        </p:blipFill>
        <p:spPr>
          <a:xfrm>
            <a:off x="2971800" y="4714920"/>
            <a:ext cx="2286000" cy="122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acterísticas de los programas gubernament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765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sitos de una entrada reduci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ándares flexibles de subven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érminos más largos de pag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sito formativo para propietarios de vivi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3760" indent="-293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hibe discriminar en transacciones relacionadas a la vivienda en base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a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lig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ex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ís de orí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atus famili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scapac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ey de Equidad en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 Equal Housing Opportunity Logo"/>
          <p:cNvPicPr/>
          <p:nvPr/>
        </p:nvPicPr>
        <p:blipFill>
          <a:blip r:embed="rId1"/>
          <a:stretch/>
        </p:blipFill>
        <p:spPr>
          <a:xfrm>
            <a:off x="4952880" y="2362320"/>
            <a:ext cx="2427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2: ¿Tiene suficiente dinero Patricia para pagar la entrad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2 en la Guía para los Participan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 plantead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" descr="Handshake"/>
          <p:cNvPicPr/>
          <p:nvPr/>
        </p:nvPicPr>
        <p:blipFill>
          <a:blip r:embed="rId1"/>
          <a:stretch/>
        </p:blipFill>
        <p:spPr>
          <a:xfrm>
            <a:off x="0" y="12193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érminos hipotec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IT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ter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g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M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Computer keyboard, cash and tax paperwork on desk with eye glasses and pen"/>
          <p:cNvPicPr/>
          <p:nvPr/>
        </p:nvPicPr>
        <p:blipFill>
          <a:blip r:embed="rId1"/>
          <a:stretch/>
        </p:blipFill>
        <p:spPr>
          <a:xfrm>
            <a:off x="5257800" y="1371600"/>
            <a:ext cx="1968480" cy="2349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ómo se pagan los impuestos y el segu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 una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cuenta de depósito en garantí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</a:rPr>
              <a:t>La Ley de Procedimientos de Liquidación de Bienes Raíces (RESPA) limita el monto que necesita tener en una cuenta de depósito en garantí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or separ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69048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Geneva"/>
              </a:rPr>
              <a:t>Usted es responsable de los pagos regula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6" descr="Home model being held in two hands"/>
          <p:cNvPicPr/>
          <p:nvPr/>
        </p:nvPicPr>
        <p:blipFill>
          <a:blip r:embed="rId1"/>
          <a:stretch/>
        </p:blipFill>
        <p:spPr>
          <a:xfrm>
            <a:off x="6858000" y="3581280"/>
            <a:ext cx="1371600" cy="1171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380880"/>
            <a:ext cx="90676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tro factores al decidir sobre préstamo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Diagram 6" descr=""/>
          <p:cNvPicPr/>
          <p:nvPr/>
        </p:nvPicPr>
        <p:blipFill>
          <a:blip r:embed="rId1"/>
          <a:stretch/>
        </p:blipFill>
        <p:spPr>
          <a:xfrm>
            <a:off x="1292400" y="1255680"/>
            <a:ext cx="66387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egundo paso: Determinar el tamaño de la hipoteca que se puede permit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76520"/>
            <a:ext cx="80773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lificación previ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 informa del tamaño de la hipoteca que se puede permit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 aprob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</a:rPr>
              <a:t>ompromiso que hace el prestamista con usted de prestarle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Woman and man reviewing pre-qualification paperwork"/>
          <p:cNvPicPr/>
          <p:nvPr/>
        </p:nvPicPr>
        <p:blipFill>
          <a:blip r:embed="rId1"/>
          <a:stretch/>
        </p:blipFill>
        <p:spPr>
          <a:xfrm>
            <a:off x="3352680" y="4784760"/>
            <a:ext cx="23623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lificación previa de Patr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4440" indent="-33444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lificación previa de $165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95000"/>
              </a:lnSpc>
              <a:spcBef>
                <a:spcPts val="37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timación general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95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De 2 a 3 veces sus ingresos tota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 algn="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Helvetica Neue"/>
              </a:rPr>
              <a:t>Si recibe una calificación mayor, ¡piense en lo que se puede permitir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914400" y="274320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2  =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  98,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2.5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123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3   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147,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laciones deuda-ingresos (DTI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lación front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ITI o gastos de la vivienda deberían ser menos del 25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28% de sus ingresos brutos mensu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lación fin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astos de la vivienda + deudas de largo plazo deberían ser menos del 33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36% de sus ingresos brutos mensu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3: ¿Qué tamaño de hipoteca se puede permitir Patrici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3 en la Guía para los Participan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érminos hipotec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0880" y="1289160"/>
          <a:ext cx="8229600" cy="4572000"/>
        </p:xfrm>
        <a:graphic>
          <a:graphicData uri="http://schemas.openxmlformats.org/drawingml/2006/table">
            <a:tbl>
              <a:tblPr/>
              <a:tblGrid>
                <a:gridCol w="3810240"/>
                <a:gridCol w="4419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a 15 añ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a 30 añ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05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Menos dinero prestado porque realiza pagos mensuales más alt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El capital se genera más rápidame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Intereses más bajos a paga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Tasa de interés más baj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Más dinero prestado porque realiza pagos mensuales más baj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El capital se genera más lentame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Se puede deducir más intereses de sus impuestos sobre la ren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Tasa de interés más al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o de hipote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80880" y="1266840"/>
          <a:ext cx="8458200" cy="4998960"/>
        </p:xfrm>
        <a:graphic>
          <a:graphicData uri="http://schemas.openxmlformats.org/drawingml/2006/table">
            <a:tbl>
              <a:tblPr/>
              <a:tblGrid>
                <a:gridCol w="3276720"/>
                <a:gridCol w="51814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de tasa fi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de tasa ajus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No puede aumentar la tasa de interé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Pagos predecib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s tasas de interés podrían disminuir por debajo de su tasa fij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 tasa de interés puede aumentar o disminui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s tasas podrían ser bajas sólo durante el periodo inici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s mensualidades podrían empezar más bajas que los préstamos de tasa fija, pero luego subir considerableme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rcer paso: Determinar qué opción hipotecaria es mejor para us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tasa fij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tasa ajustable (AR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sólo-interé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pagos quincen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Home and mortgage paperwork"/>
          <p:cNvPicPr/>
          <p:nvPr/>
        </p:nvPicPr>
        <p:blipFill>
          <a:blip r:embed="rId1"/>
          <a:stretch/>
        </p:blipFill>
        <p:spPr>
          <a:xfrm>
            <a:off x="6858000" y="3733920"/>
            <a:ext cx="18144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usted está en la fase previa a la compra de una cas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las ventajas e inconvenientes de alquilar comparado con ser propietario de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las preguntas que se deben hacer para saber si están preparado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los pasos necesario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los términos básicos y divulgaciones necesarias usadas en una transacción hipotecar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s de sólo-inter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ga solamente el interés (no el capital) durante un plazo fijo 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(p. ej., 5 a 7 añ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pués del plazo fijo, pue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financi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gar el saldo de una ve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mpezar a hacer pagos mensuales de la hipoteca para amortizar el ca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6477120" y="2133720"/>
            <a:ext cx="235260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Ventajas de los préstamos de sólo-interé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29528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buena opción si usted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va a vivir en la casa más allá del periodo de sólo-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iene ingresos modestos que aumentarán en el fut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á intentando resolver problemas crediticios para refinanciar su tasa a una tasa fija me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3352680" y="5029200"/>
            <a:ext cx="243864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convenientes de los préstamos de sólo-inter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pag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odrían no cubrir todos los intereses que debe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, no le permiten generar ca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ueden ser imposibles de pagar después del periodo de sólo-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Geneva"/>
              </a:rPr>
              <a:t>Podría incurrir en gastos de refinanciación si ya no puede realizar los pag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3352680" y="5029200"/>
            <a:ext cx="243864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 de pagos quincen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a hipoteca convencional de tasa fija con pagos cada 2 seman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ternativa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ñadir más dinero a su pago mens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segúrese de que el prestamista no le cobrará una penalización por prepa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6" descr="Person filling out checkbook"/>
          <p:cNvPicPr/>
          <p:nvPr/>
        </p:nvPicPr>
        <p:blipFill>
          <a:blip r:embed="rId1"/>
          <a:stretch/>
        </p:blipFill>
        <p:spPr>
          <a:xfrm>
            <a:off x="3048120" y="4613400"/>
            <a:ext cx="2743200" cy="148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usque, compare, negoc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ulte en periódicos e Internet para términos y tas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gocie su mejor prec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je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que los prestamistas compitan para conseguirle como cli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ida los gastos por escr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la APR y GFE para comparar todos los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imación de Buena F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imación de gastos de los servicios de liquid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a recibe cuando solicita el présta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uarde su GFE para comparar con los costos finales de liquid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gunte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 prestamista si hay algún camb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Man signing paperwork"/>
          <p:cNvPicPr/>
          <p:nvPr/>
        </p:nvPicPr>
        <p:blipFill>
          <a:blip r:embed="rId1"/>
          <a:stretch/>
        </p:blipFill>
        <p:spPr>
          <a:xfrm>
            <a:off x="3352680" y="4495680"/>
            <a:ext cx="2360880" cy="1567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ja de trabajo de búsqueda de hipotec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ley federal exige al prestamista o al agente qu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vulgue las estimaciones de cuánto costará el préstamo y la APR (Divulgación de Veracidad en los Préstam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 diga una estimación de los gastos de la firma, y del dinero que va a necesitar en la firma (GF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12" descr="Couple shopping for mortgages"/>
          <p:cNvPicPr/>
          <p:nvPr/>
        </p:nvPicPr>
        <p:blipFill>
          <a:blip r:embed="rId1"/>
          <a:stretch/>
        </p:blipFill>
        <p:spPr>
          <a:xfrm>
            <a:off x="3581280" y="4925880"/>
            <a:ext cx="20653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rto paso: Ser elegible para un présta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btener una calificación previa y una pre aprob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ya las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otas de asociación de vecinos al calcular sus gastos del hog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Man sitting with female lender"/>
          <p:cNvPicPr/>
          <p:nvPr/>
        </p:nvPicPr>
        <p:blipFill>
          <a:blip r:embed="rId1"/>
          <a:stretch/>
        </p:blipFill>
        <p:spPr>
          <a:xfrm>
            <a:off x="3056040" y="3809880"/>
            <a:ext cx="25066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4: ¿Es elegible Patricia para un préstam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4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 pregunta plantead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ndo la relación deuda-ingresos excede la relación recomend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06668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4280" indent="-314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ún podría ser elegible para un préstamo s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iene la habilidad de pagar más hacia los gastos del ho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uestra pruebas de historial crediticio positivo y sosten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ga una entrada consider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iene reservas de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8" descr="Woman completing paperwork"/>
          <p:cNvPicPr/>
          <p:nvPr/>
        </p:nvPicPr>
        <p:blipFill>
          <a:blip r:embed="rId1"/>
          <a:stretch/>
        </p:blipFill>
        <p:spPr>
          <a:xfrm>
            <a:off x="6934320" y="1752480"/>
            <a:ext cx="1904760" cy="283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ersonas en la fase previa a la compra de una cas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las ventajas e inconvenientes de las diferentes opciones para una hipot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cómo las tasas de interés afectan el precio de la casa que pueden compr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cómo los impuestos y el seguro afectan el pago mensual y el precio de la casa que pueden compr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Paperwork with Sign Here sticker"/>
          <p:cNvPicPr/>
          <p:nvPr/>
        </p:nvPicPr>
        <p:blipFill>
          <a:blip r:embed="rId1"/>
          <a:stretch/>
        </p:blipFill>
        <p:spPr>
          <a:xfrm>
            <a:off x="3505320" y="4648320"/>
            <a:ext cx="1981080" cy="1447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Quinto paso: Realizar la liquid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218960"/>
            <a:ext cx="83059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1200" indent="-331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iquidació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Firma de documentos que finalizarán la venta de la casa y cualquier financiación hipotecari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erecho de revisar la declaración de liquidación al menos un día antes de la firm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Tiene problemas con los pago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óngase en contacto de inmediato con su prestam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da ayuda a un asesor inmobiliario reconocido que le ofrezca servicios gratuitos o de bajo cost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Man with his head in his hands and hundred dollar bills in background"/>
          <p:cNvPicPr/>
          <p:nvPr/>
        </p:nvPicPr>
        <p:blipFill>
          <a:blip r:embed="rId1"/>
          <a:stretch/>
        </p:blipFill>
        <p:spPr>
          <a:xfrm>
            <a:off x="3048120" y="3962520"/>
            <a:ext cx="274320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provechar el capital de su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417680"/>
            <a:ext cx="6553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éstamos sobre el capital de la vivien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ínea de crédito sobre el capital de una vivienda (HELO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financiación y refinanciación en efectiv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s revertid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3" descr="Paperwork, calculator, and thousands of dollars in cash"/>
          <p:cNvPicPr/>
          <p:nvPr/>
        </p:nvPicPr>
        <p:blipFill>
          <a:blip r:embed="rId1"/>
          <a:stretch/>
        </p:blipFill>
        <p:spPr>
          <a:xfrm>
            <a:off x="6858000" y="1905120"/>
            <a:ext cx="1847880" cy="2463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éstamos sobre el capital de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990360"/>
            <a:ext cx="86868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préstamo único con una suma específ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 suele ofrecer a una tasa de interés fij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otas mensuales iguales a lo largo de un periodo específico de tiemp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7" descr="Bank or financial institution"/>
          <p:cNvPicPr/>
          <p:nvPr/>
        </p:nvPicPr>
        <p:blipFill>
          <a:blip r:embed="rId1"/>
          <a:stretch/>
        </p:blipFill>
        <p:spPr>
          <a:xfrm>
            <a:off x="3124080" y="4038480"/>
            <a:ext cx="2133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ínea de crédito sobre el capital de un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unciona como una tarjeta de crédit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tiliza la línea de crédito cuando lo neces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l pagar el capital el crédito disponible vuelve a aument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sas de interés normalmente variab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4" descr="Credit card and percentage symbol"/>
          <p:cNvPicPr/>
          <p:nvPr/>
        </p:nvPicPr>
        <p:blipFill>
          <a:blip r:embed="rId1"/>
          <a:stretch/>
        </p:blipFill>
        <p:spPr>
          <a:xfrm>
            <a:off x="6095880" y="9144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Ventajas del capital de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0880" y="114300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exibilidad para financiar grandes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sa de interés más baja que las tarjetas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és se puede deducir de sus impue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10" descr="Living/entry room being renovated"/>
          <p:cNvPicPr/>
          <p:nvPr/>
        </p:nvPicPr>
        <p:blipFill>
          <a:blip r:embed="rId1"/>
          <a:stretch/>
        </p:blipFill>
        <p:spPr>
          <a:xfrm>
            <a:off x="3505320" y="3886200"/>
            <a:ext cx="213336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iesgos del capital de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casa es la garantí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valor de la inmobiliaria puede disminu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sas/pagos pueden aument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entación de usar el dinero para inversiones o compras insensat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9680" indent="-2772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ea cuidadoso y autodisciplin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s derechos bajo la ley fede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ene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3 días hábiles después de firmar los documentos del préstamo para cancelar el acuerdo sin penalizac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ebe cancelar el acuerdo por escr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l prestamista debe devolverle cualquier costo o cargo de financiación que haya pag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se aplica si está comprando una casa o refinanciando sin tomar más dinero prest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ciones de refinanci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34136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Refinanciación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préstamo para vivienda existente es pagado y reemplazado por un préstamo nuev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Préstamo de refinanciación en efectivo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e permite tomar más dinero prestado de lo que debe en el préstamo que va a sustitu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5" descr="Small model home"/>
          <p:cNvPicPr/>
          <p:nvPr/>
        </p:nvPicPr>
        <p:blipFill>
          <a:blip r:embed="rId1"/>
          <a:stretch/>
        </p:blipFill>
        <p:spPr>
          <a:xfrm>
            <a:off x="3038400" y="4341960"/>
            <a:ext cx="2524320" cy="1677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jemplo de refinanciación en efectiv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33520" y="1066320"/>
            <a:ext cx="80769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actual: $100,000 al 9.9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be un total de $87,000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ensualidad: $873.8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Quiere $20,000 para hacer reform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52280" y="3581280"/>
            <a:ext cx="4038840" cy="29718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Ladder"/>
          <p:cNvPicPr/>
          <p:nvPr/>
        </p:nvPicPr>
        <p:blipFill>
          <a:blip r:embed="rId1"/>
          <a:stretch/>
        </p:blipFill>
        <p:spPr>
          <a:xfrm>
            <a:off x="3373560" y="3706920"/>
            <a:ext cx="173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4280" indent="-314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usted es propietario de una vivien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las ventajas e inconvenientes de tomar dinero prestado contra el valor de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qué pueden hacer si están teniendo problemas para cumplir con los pag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las opciones de refinancia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las ventajas e inconvenientes de una hipoteca reverti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prácticas abusivas de préstamos y timos en los préstam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jemplo de refinanciación en efectiv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52280" y="3581280"/>
            <a:ext cx="4038840" cy="29718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4360" indent="-32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ción nº 1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financiar $107,000 ($87,000 + 20,00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asa de interés: 6.02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Mensualidad: $642.90 x 30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tal = $231,442.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ción nº 2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financiar $87,000 a $522.73 x 30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réstamo sobre el capital de la vivienda: $20,000 a 7.36% x 20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tal = $226,440.7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 reverti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520" y="990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27600" indent="-327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omar prestado contra el capital de la vivienda para recibir dinero en efectiv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De una ve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Mediante pagos mens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mo una línea de crédito que usa cuando necesi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pietarios deben tener al menos 62 añ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 menos un titular debe vivir en la casa durante la mayor parte del año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tipo de casa debe ser eleg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sideraciones de la hipoteca revertida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6840" y="94284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be devolver el préstamo + intereses cuando vende, se muda o mu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El monto que debe asciende con el tiemp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gue pagando los impuestos de propiedad, el seguro y repara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heredero debe devolver el préstamo si se queda con la cas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suma que tiene que pagar por adelantado hace que los primeros años sean bastante costosos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ácticas de préstamos abus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6200" y="1599840"/>
            <a:ext cx="5029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ácticas de marketing, prácticas de cobro y plazos de préstamos que engañan y abusan de los consumidores que piden un présta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6" descr="Computer mouse cord caught in mouse trap"/>
          <p:cNvPicPr/>
          <p:nvPr/>
        </p:nvPicPr>
        <p:blipFill>
          <a:blip r:embed="rId1"/>
          <a:stretch/>
        </p:blipFill>
        <p:spPr>
          <a:xfrm>
            <a:off x="533520" y="1600200"/>
            <a:ext cx="316368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partamento de Vivienda y Desarrollo Urba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447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ancia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 curso para personas que han comprado una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gencias de asesoría de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 HUD para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lista de agencias de asesoría para viviendas aprobadas por HUD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1-800-569-4287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hud.gov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5" descr="Classroom with instructor drawing on whiteboard"/>
          <p:cNvPicPr/>
          <p:nvPr/>
        </p:nvPicPr>
        <p:blipFill>
          <a:blip r:embed="rId2"/>
          <a:stretch/>
        </p:blipFill>
        <p:spPr>
          <a:xfrm>
            <a:off x="7238880" y="1371600"/>
            <a:ext cx="1633680" cy="2205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8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4360" indent="-3243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prendieron acerca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Alquilar comparado con ser propietario de su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Los pasos necesario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Preguntas que debe hacerse para determinar si está preparado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Los componente de una hipote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Diferentes opciones de hipoteca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Aprovechar el capital de su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Inconvenientes y riesgos de una refinanciación hipotecaria insens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2" descr="Outline of person under roofline"/>
          <p:cNvPicPr/>
          <p:nvPr/>
        </p:nvPicPr>
        <p:blipFill>
          <a:blip r:embed="rId1"/>
          <a:stretch/>
        </p:blipFill>
        <p:spPr>
          <a:xfrm>
            <a:off x="7848720" y="4572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comprar o ser propietario de una cas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lquilar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entaja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hay mantenimiento del inmue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ntrato de alquiler de 1 año o menos 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hay costos asociados a ser propiet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onvenient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sted no es el dueñ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u alquiler podría aument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 posible que no pueda renovar su con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" descr="For Rent sign in front of high-rise building"/>
          <p:cNvPicPr/>
          <p:nvPr/>
        </p:nvPicPr>
        <p:blipFill>
          <a:blip r:embed="rId1"/>
          <a:stretch/>
        </p:blipFill>
        <p:spPr>
          <a:xfrm>
            <a:off x="7162920" y="3200400"/>
            <a:ext cx="1757160" cy="1768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er propietario de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990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0600" indent="-3006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entaja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Generar capital y tomar dinero prestado contra é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Buena invers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ntereses de la hipoteca desgrav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Un activo que puede dejar a su famil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0600" indent="-3006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onvenie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Mantenimiento y reformas de la propied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o es tan fácil mudarse como con alquil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iesgo de perder su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Family (mother, father, and three girls) sitting on couch in home"/>
          <p:cNvPicPr/>
          <p:nvPr/>
        </p:nvPicPr>
        <p:blipFill>
          <a:blip r:embed="rId1"/>
          <a:stretch/>
        </p:blipFill>
        <p:spPr>
          <a:xfrm>
            <a:off x="6934320" y="2209680"/>
            <a:ext cx="199692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inco pasos para comprar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si está preparado para comprar una ca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el tamaño de la hipoteca que se puede permit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qué opción hipotecaria es mejor para us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 elegible para un présta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liquid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/>
  <dc:description/>
  <dc:language>en-US</dc:language>
  <cp:lastModifiedBy> </cp:lastModifiedBy>
  <cp:lastPrinted>2010-01-07T20:59:10Z</cp:lastPrinted>
  <dcterms:modified xsi:type="dcterms:W3CDTF">2011-02-14T18:36:54Z</dcterms:modified>
  <cp:revision>60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