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02A-82CA-42B2-8F0F-4A4E6D1D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6DB-0917-4F37-8E59-042B9470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9E0-0FA2-46F3-AA19-8ECD0C7E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553-4C63-4580-BDAF-198808F0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A45-3750-431A-8BF1-22509C2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B98-0859-4C5F-898A-8DEA9CA3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1FA-AD02-48BD-A053-0232DF53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EA6-F894-49D6-86F4-1E520128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0B9-C3AB-474B-BBAA-15B7209C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57A-AD84-47EE-BAB3-6A6F0579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B73-B4D0-4369-BFDE-2EDFD878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652-6F6A-4673-B5DE-BB21149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0381-E99C-4065-B705-B139F469D1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D82D-EE8C-455A-804D-64616FC87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Your Own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8C4-DB94-4777-B3BB-B40B06459AC9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CEE5-17A7-4576-AF0A-180FEE520E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w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et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a medical techno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s $49,200/year, or $4,100/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currently living with he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Wants to know more about home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1: Readiness to Buy A 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steady source of inco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ood credit hi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bility to pay debts, mortgage, and other additional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s to move within 2 to 3 yea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ey for a down payment and closing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own Payment and Other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wn pay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ypically 20% of the purchase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maller down payment options may be available (e.g., 3% of purchase pri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her exp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usehold emergencies, repairs, and oth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ivate Mortgage Insurance (PM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Pay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de principal and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include PMI, property taxes, and homeowners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uld be no more than 28% of your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Questions to Ask Yoursel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re do you want to li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kind of neighborhood do you w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children, what types of schools should be in the neighborhoo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space do you ne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Is Patricia Ready to Buy a Hou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buyer Assistance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 programs in your area, check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lender, real estate agent, or local government about homebuyer assistance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local Housing and Urban Development (HUD)-approved homeownership counseling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495680"/>
            <a:ext cx="269388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acteristics of Government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 down payment require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underwriting stand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nger payment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 education requ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its discrimination in housing-related transactions on the basis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ational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amily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ndicap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air Housing 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Does Patricia Have Enough Money for a Down Pay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P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T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w Taxes and Insurance are Pa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escrow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he Real Estate Settlement Procedures Act (RESPA) limits amount required to be held in escrow acc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par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are responsible for periodic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17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our Cs of Loan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Diagram 6" descr=""/>
          <p:cNvPicPr/>
          <p:nvPr/>
        </p:nvPicPr>
        <p:blipFill>
          <a:blip r:embed="rId1"/>
          <a:stretch/>
        </p:blipFill>
        <p:spPr>
          <a:xfrm>
            <a:off x="1292400" y="1195560"/>
            <a:ext cx="66387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2: Determine How Much Mortgage Can You Affo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qualific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ts you know how much mortgage you can af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mmitment from the lender to lend you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048120" y="4572000"/>
            <a:ext cx="26668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tricia’s Pre-Qua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-qualified for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ule of thumb estimat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2 to 3 times their household inc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Consider what you can afford if you qualify for mor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ront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r housing expenses should generally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an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ck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expenses + long-term debt should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than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Much Mortgage Can Patricia Affo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289160"/>
          <a:ext cx="8229600" cy="4022640"/>
        </p:xfrm>
        <a:graphic>
          <a:graphicData uri="http://schemas.openxmlformats.org/drawingml/2006/table">
            <a:tbl>
              <a:tblPr/>
              <a:tblGrid>
                <a:gridCol w="3632400"/>
                <a:gridCol w="459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15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30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less money because of larg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ess interest to p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ow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more money because of low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more slow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Can deduct more interest from income t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High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y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66840"/>
          <a:ext cx="8458200" cy="4067280"/>
        </p:xfrm>
        <a:graphic>
          <a:graphicData uri="http://schemas.openxmlformats.org/drawingml/2006/table">
            <a:tbl>
              <a:tblPr/>
              <a:tblGrid>
                <a:gridCol w="3810240"/>
                <a:gridCol w="46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Fixed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Adjustable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not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Payments are predic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s could go below your se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 increase or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Rates may be low for only an initial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Monthly payments may initially be lower than fixed-rate loans, but can increase signific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3: Which Mortgage Option Is Best for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-rate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justable-rate mortgag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-only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iweekly payment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pre-homebuy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renting versus own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questions to ask to determine your readiness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basic terms and required disclosures used in a mortgage trans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-Only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only the interest, not the principal, for a fixed term (e.g., 5 to 7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fter the fixed term, you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the balance 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art monthly mortgage payments toward the p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enefit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2952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good choice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 not plan to live in your home for more than the interest-only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modest current income that will go up in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trying to resolve credit issues so that you can refinance into a lower fixed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itfall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not cover all of the interest owed, prevents you from building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n become unaffordable after the interest-only peri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may incur refinancing costs if you can no longer afford the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weekly Payment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fixed-rate conventional mortgage with payment due every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e: Add more money to your monthly pay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sure your lender does not charge a prepayment penal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hop, Compare, Negoti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heck newspapers and the Internet for terms and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tiate your best pr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t lenders compete for your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costs in wri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APR and GFE to compare all cos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Good Faith Est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ttlement services cost est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n to you when you apply for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GFE to compare with the final settlement co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the lender questions about any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Man signing paperwork"/>
          <p:cNvPicPr/>
          <p:nvPr/>
        </p:nvPicPr>
        <p:blipFill>
          <a:blip r:embed="rId1"/>
          <a:stretch/>
        </p:blipFill>
        <p:spPr>
          <a:xfrm>
            <a:off x="3048120" y="4191120"/>
            <a:ext cx="281916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Shopping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law requires the lender or broker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lose estimates of how much the loan will cost and the APR (Truth in Lending Disclos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 you an estimate of closing cost fees and the money required at closing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429000" y="4800600"/>
            <a:ext cx="22176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4: Qualify For a Lo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ain pre-qualification and 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homeowner’s association dues when calculating your housing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2743200" y="3186000"/>
            <a:ext cx="3033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4: Does Patricia Qualify for a Lo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Exceeds Recommended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might still qualify for a loan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ability to pay more toward housing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w evidence of sustained, good credit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arger down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cash res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homebuy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different mortgag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how interest rates affect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how taxes and insurance affect a monthly payment and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5: Go Through Settl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ttle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ign documents to finalize the sale of the house and any mortgage financ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ight to review the settlement statement at least 1 day before clo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aving Trouble Making Paymen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lender immedi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help from a trained reputable housing counselor at no charge or for a small f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2438280" y="3403440"/>
            <a:ext cx="3353040" cy="22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apping Into Your Home’s Equ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o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ines of credi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 and cash-ou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erse mortg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248520" y="1523880"/>
            <a:ext cx="245736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e-time loan for a lump s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ically at a fixed interest 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al monthly payments over a set period of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3733920"/>
            <a:ext cx="2133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ines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orks like a credit car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raw from the line of credit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pay the principal and available credit goes up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rates are typically vari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vantages of Home Equity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143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ty to finance major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er interest rate than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-deductible inter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124080" y="33526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Options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is collat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using values can de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ates/payment may in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mptation to use the money for unwise investments 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e caution and self-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Rights Under Federal La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3 business days after signing loan papers to cancel the deal without penalt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st cancel the deal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nder must return any fees or finance charges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es not apply if you are buying a home or refinancing without borrowing additional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financ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ng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ay off an existing home loan replace with a new loa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ash out refinance 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 borrow more money than owed on the loan to be replac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Small model home"/>
          <p:cNvPicPr/>
          <p:nvPr/>
        </p:nvPicPr>
        <p:blipFill>
          <a:blip r:embed="rId1"/>
          <a:stretch/>
        </p:blipFill>
        <p:spPr>
          <a:xfrm>
            <a:off x="3048120" y="4038480"/>
            <a:ext cx="25239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ing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rrent Mortgage: $100,000 at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e a total of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payment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ant $20,000 for improv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homeown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borrowing against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what to do if you are having trouble making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different types of refinancing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a reverse mortg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predatory lending practices and loan sc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e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terest rate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onthly payment: $642.90 x 30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87,000 at $522.73 x 3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me equity loan: $20,000 at 7.36% x 2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rrowing against home equity to receive cas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monthly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 a line of credit you can tap when nee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s must be at least 62 years o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 least one owner must live in the house most of the ye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type must be elig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repay loan + interest when you sell, move, or d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mount owed increases over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inue to pay property taxes, insurance, and repair co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eir must repay the loan to keep the ho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p-front costs make the first years of the loan relatively expens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rketing tactics, collection practices, and loan terms that deceive and exploit borrow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ment of Housing and Urban Develop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d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st-home ownership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counseling agenci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HUD for a list of HUD-approved housing counseling agenc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086600" y="1371600"/>
            <a:ext cx="1785960" cy="241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ing versus own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estions to determine if you are ready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components of a mortg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fferent mortgage options for buy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pping into your home’s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falls and dangers of unwise mortgage re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buying or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wning a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nt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property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al contract 1 year or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omeowner associated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are not the ow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rent might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might not be able to renew your 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6858000" y="1981080"/>
            <a:ext cx="2062080" cy="207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wn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ilding equity and borrowing again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ood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ax-deductible mortgage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set you can pass on to family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operty maintenance and upk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t as easy to move as r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sk of los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7010280" y="3809880"/>
            <a:ext cx="19972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ve Steps to Buy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eadiness to buy a 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much mortgage you can aff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mortgage option is bes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alify for a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 through settle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45:06Z</dcterms:modified>
  <cp:revision>5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