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35.png" ContentType="image/png"/>
  <Override PartName="/ppt/media/image26.jpeg" ContentType="image/jpeg"/>
  <Override PartName="/ppt/media/image12.png" ContentType="image/png"/>
  <Override PartName="/ppt/media/image7.wmf" ContentType="image/x-wmf"/>
  <Override PartName="/ppt/media/image30.jpeg" ContentType="image/jpeg"/>
  <Override PartName="/ppt/media/image24.jpeg" ContentType="image/jpeg"/>
  <Override PartName="/ppt/media/image9.jpeg" ContentType="image/jpeg"/>
  <Override PartName="/ppt/media/image23.wmf" ContentType="image/x-wmf"/>
  <Override PartName="/ppt/media/image31.jpeg" ContentType="image/jpeg"/>
  <Override PartName="/ppt/media/image33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34.jpeg" ContentType="image/jpeg"/>
  <Override PartName="/ppt/media/image36.png" ContentType="image/png"/>
  <Override PartName="/ppt/media/image13.jpeg" ContentType="image/jpeg"/>
  <Override PartName="/ppt/media/image8.jpeg" ContentType="image/jpeg"/>
  <Override PartName="/ppt/media/image4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DCB-A68C-404F-BE72-CAA21DD6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614-D746-45D3-8D22-6D90D61D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F5E-A00A-4165-AA08-0968C188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85B-8FC5-43E0-99B1-DD2FDD0A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ECF5-A55C-4F5E-A6C0-5352DC5E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83F4-1476-4383-93B5-A3D65353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18D-06BD-4752-9822-033609BA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D0D-5CDA-42F4-97D2-8554265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DBF-D281-4D97-ADAA-E3753542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FA4-000F-428F-8605-D865E15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89B-13B0-4098-B0B6-E2C9A6E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448-8D83-407B-95E1-094E4C2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FC0-67C4-4EC6-9D60-B692A3B9C0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7D1-9E70-46AC-A98A-7E7837CF7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Your Own H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195E-04B8-4887-8266-56552DC7F59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6F45-AC69-4EFA-8214-4A6A88F4E3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hud.gov/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Your Own Home title slide with FDIC Money Smart logo and module logo of a house outline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28600" y="838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304920" y="190512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w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380880" y="300204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eet Patri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tricia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a medical technolog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s $49,200/year, or $4,100/mon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s currently living with her par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Wants to know more about home 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Woman examining a petri dish"/>
          <p:cNvPicPr/>
          <p:nvPr/>
        </p:nvPicPr>
        <p:blipFill>
          <a:blip r:embed="rId1"/>
          <a:stretch/>
        </p:blipFill>
        <p:spPr>
          <a:xfrm>
            <a:off x="6858000" y="762120"/>
            <a:ext cx="17524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1: Readiness to Buy A 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steady source of inc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ood credit hi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bility to pay debts, mortgage, and other additional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lans to move within 2 to 3 year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ey for a down payment and closing cos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own Payment and Other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wn pay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ypically 20% of the purchase 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maller down payment options may be available (e.g., 3% of purchase pri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ther expen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usehold emergencies, repairs, and oth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ivate Mortgage Insurance (PM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oin falling into a piggy bank"/>
          <p:cNvPicPr/>
          <p:nvPr/>
        </p:nvPicPr>
        <p:blipFill>
          <a:blip r:embed="rId1"/>
          <a:stretch/>
        </p:blipFill>
        <p:spPr>
          <a:xfrm>
            <a:off x="6931080" y="4340160"/>
            <a:ext cx="1523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Pay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clude principal and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include PMI, property taxes, and homeowners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uld be no more than 28% of your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ouse with dollar bills sticking out of the roof"/>
          <p:cNvPicPr/>
          <p:nvPr/>
        </p:nvPicPr>
        <p:blipFill>
          <a:blip r:embed="rId1"/>
          <a:stretch/>
        </p:blipFill>
        <p:spPr>
          <a:xfrm>
            <a:off x="3581280" y="3354480"/>
            <a:ext cx="19051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ther Questions to Ask Your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re do you want to li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kind of neighborhood do you w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children, what types of schools should be in the neighborhoo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space do you ne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Is Patricia Ready to Buy a Ho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buyer Assistance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or programs in your area, check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lender, real estate agent, or local government about homebuyer assistance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local Housing and Urban Development (HUD)-approved homeownership counseling ag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Young couple in front of home with male realtor"/>
          <p:cNvPicPr/>
          <p:nvPr/>
        </p:nvPicPr>
        <p:blipFill>
          <a:blip r:embed="rId1"/>
          <a:stretch/>
        </p:blipFill>
        <p:spPr>
          <a:xfrm>
            <a:off x="2971800" y="4495680"/>
            <a:ext cx="269388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acteristics of Government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765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 down payment require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underwriting stand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nger payment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 education requ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hibits discrimination in housing-related transactions on the basis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ational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Family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ndicap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air Housing 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 Equal Housing Opportunity Logo"/>
          <p:cNvPicPr/>
          <p:nvPr/>
        </p:nvPicPr>
        <p:blipFill>
          <a:blip r:embed="rId1"/>
          <a:stretch/>
        </p:blipFill>
        <p:spPr>
          <a:xfrm>
            <a:off x="4952880" y="2362320"/>
            <a:ext cx="2427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Does Patricia Have Enough Money for a Down Paymen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" descr="Handshake"/>
          <p:cNvPicPr/>
          <p:nvPr/>
        </p:nvPicPr>
        <p:blipFill>
          <a:blip r:embed="rId1"/>
          <a:stretch/>
        </p:blipFill>
        <p:spPr>
          <a:xfrm>
            <a:off x="0" y="12193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IT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P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T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1961c"/>
                </a:solidFill>
                <a:latin typeface="Helvetica Neue"/>
                <a:ea typeface="Arial"/>
              </a:rPr>
              <a:t>I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M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Computer keyboard, cash and tax paperwork on desk with eye glasses and pen"/>
          <p:cNvPicPr/>
          <p:nvPr/>
        </p:nvPicPr>
        <p:blipFill>
          <a:blip r:embed="rId1"/>
          <a:stretch/>
        </p:blipFill>
        <p:spPr>
          <a:xfrm>
            <a:off x="5257800" y="1371600"/>
            <a:ext cx="1968480" cy="2349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w Taxes and Insurance are Pai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escrow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he Real Estate Settlement Procedures Act (RESPA) limits amount required to be held in escrow acc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par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9048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are responsible for periodic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Home model being held in two hands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171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our Cs of Loan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Diagram 6" descr=""/>
          <p:cNvPicPr/>
          <p:nvPr/>
        </p:nvPicPr>
        <p:blipFill>
          <a:blip r:embed="rId1"/>
          <a:stretch/>
        </p:blipFill>
        <p:spPr>
          <a:xfrm>
            <a:off x="1292400" y="1195560"/>
            <a:ext cx="6638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2: Determine How Much Mortgage Can You Aff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76520"/>
            <a:ext cx="80773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qualifica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ts you know how much mortgage you can aff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mmitment from the lender to lend you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Woman and man reviewing pre-qualification paperwork"/>
          <p:cNvPicPr/>
          <p:nvPr/>
        </p:nvPicPr>
        <p:blipFill>
          <a:blip r:embed="rId1"/>
          <a:stretch/>
        </p:blipFill>
        <p:spPr>
          <a:xfrm>
            <a:off x="3048120" y="4572000"/>
            <a:ext cx="26668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tricia’s Pre-Qua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-qualified for $165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95000"/>
              </a:lnSpc>
              <a:spcBef>
                <a:spcPts val="374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ule of thumb estimat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95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2 to 3 times their household inc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 algn="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3348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</a:rPr>
              <a:t>Consider what you can afford if you qualify for mor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914400" y="274320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  =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  98,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2.5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23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$49,200 x 3   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$147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ront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I or housing expenses should generally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 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an 25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28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ck-End Rati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expenses + long-term debt should be </a:t>
            </a:r>
            <a:r>
              <a:rPr b="0" lang="en-US" sz="2800" spc="-1" strike="noStrike">
                <a:solidFill>
                  <a:srgbClr val="002060"/>
                </a:solidFill>
                <a:latin typeface="Microsoft Sans Serif"/>
                <a:ea typeface="Microsoft Sans Serif"/>
              </a:rPr>
              <a:t>less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than 33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36% of your monthly gross in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3: How Much Mortgage Can Patricia Affo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289160"/>
          <a:ext cx="8229600" cy="4022640"/>
        </p:xfrm>
        <a:graphic>
          <a:graphicData uri="http://schemas.openxmlformats.org/drawingml/2006/table">
            <a:tbl>
              <a:tblPr/>
              <a:tblGrid>
                <a:gridCol w="3632400"/>
                <a:gridCol w="459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15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30-Year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less money because of larg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ess interest to p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Low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orrow more money because of lower monthly pay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Build equity more slow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Can deduct more interest from income t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Higher interes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7f7f7f"/>
                      </a:solidFill>
                    </a:lnT>
                    <a:lnB w="13680">
                      <a:solidFill>
                        <a:srgbClr val="7f7f7f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Ty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266840"/>
          <a:ext cx="8458200" cy="4067280"/>
        </p:xfrm>
        <a:graphic>
          <a:graphicData uri="http://schemas.openxmlformats.org/drawingml/2006/table">
            <a:tbl>
              <a:tblPr/>
              <a:tblGrid>
                <a:gridCol w="3810240"/>
                <a:gridCol w="4647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Fixed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Adjustable-Rate Mortg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not in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Payments are predic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s could go below your set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Interest rate can increase or decr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Rates may be low for only an initial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7760" indent="-235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Helvetica Neue"/>
                          <a:ea typeface="ＭＳ Ｐゴシック"/>
                        </a:rPr>
                        <a:t>Monthly payments may initially be lower than fixed-rate loans, but can increase signific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3: Which Mortgage Option Is Best for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-rate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justable-rate mortgage (AR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-only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iweekly payment mortg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ome and mortgage paperwork"/>
          <p:cNvPicPr/>
          <p:nvPr/>
        </p:nvPicPr>
        <p:blipFill>
          <a:blip r:embed="rId1"/>
          <a:stretch/>
        </p:blipFill>
        <p:spPr>
          <a:xfrm>
            <a:off x="6858000" y="37339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pre-homebuy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renting versus own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questions to ask to determine your readiness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basic terms and required disclosures used in a mortgage trans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-Only Mortgag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only the interest, not the principal, for a fixed term (e.g., 5 to 7 ye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fter the fixed term, you c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fin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ay the balance 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art monthly mortgage payments toward the princip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6477120" y="2133720"/>
            <a:ext cx="235260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enefit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2952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good choice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 not plan to live in your home for more than the interest-only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modest current income that will go up in the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trying to resolve credit issues so that you can refinance into a lower fixed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itfalls of Interest-Onl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y not cover all of the interest owed, prevents you from building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an become unaffordable after the interest-only peri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Geneva"/>
              </a:rPr>
              <a:t>You may incur refinancing costs if you can no longer afford the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Man pulling percentage symbol up a steep hill"/>
          <p:cNvPicPr/>
          <p:nvPr/>
        </p:nvPicPr>
        <p:blipFill>
          <a:blip r:embed="rId1"/>
          <a:stretch/>
        </p:blipFill>
        <p:spPr>
          <a:xfrm>
            <a:off x="3352680" y="5029200"/>
            <a:ext cx="243864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iweekly Payment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fixed-rate conventional mortgage with payment due every 2 wee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ternative: Add more money to your monthly pay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sure your lender does not charge a prepayment penal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6" descr="Person filling out checkbook"/>
          <p:cNvPicPr/>
          <p:nvPr/>
        </p:nvPicPr>
        <p:blipFill>
          <a:blip r:embed="rId1"/>
          <a:stretch/>
        </p:blipFill>
        <p:spPr>
          <a:xfrm>
            <a:off x="3048120" y="4613400"/>
            <a:ext cx="2743200" cy="148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hop, Compare, Negoti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heck newspapers and the Internet for terms and ra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gotiate your best pr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t lenders compete for your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costs in writ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APR and GFE to compare all cos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Good Faith Est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ettlement services cost est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n to you when you apply for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GFE to compare with the final settlement co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the lender questions about any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Man signing paperwork"/>
          <p:cNvPicPr/>
          <p:nvPr/>
        </p:nvPicPr>
        <p:blipFill>
          <a:blip r:embed="rId1"/>
          <a:stretch/>
        </p:blipFill>
        <p:spPr>
          <a:xfrm>
            <a:off x="3048120" y="4191120"/>
            <a:ext cx="281916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Mortgage Shopping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 law requires the lender or broker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sclose estimates of how much the loan will cost and the APR (Truth in Lending Disclos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Give you an estimate of closing cost fees and the money required at closing (GF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2" descr="Couple shopping for mortgages"/>
          <p:cNvPicPr/>
          <p:nvPr/>
        </p:nvPicPr>
        <p:blipFill>
          <a:blip r:embed="rId1"/>
          <a:stretch/>
        </p:blipFill>
        <p:spPr>
          <a:xfrm>
            <a:off x="3429000" y="4800600"/>
            <a:ext cx="22176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4: Qualify For a Lo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btain pre-qualification and pre-appro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homeowner’s association dues when calculating your housing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Man sitting with female lender"/>
          <p:cNvPicPr/>
          <p:nvPr/>
        </p:nvPicPr>
        <p:blipFill>
          <a:blip r:embed="rId1"/>
          <a:stretch/>
        </p:blipFill>
        <p:spPr>
          <a:xfrm>
            <a:off x="2743200" y="3186000"/>
            <a:ext cx="3033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4: Does Patricia Qualify for a Lo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nswer the question provi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e prepared to share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bt-to-Income (DTI) Exceeds Recommended Rat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06668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might still qualify for a loan if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ability to pay more toward housing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how evidence of sustained, good credit hi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arger down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ave cash reser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8" descr="Woman completing paperwork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283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homebuy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different mortgage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how interest rates affect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how taxes and insurance affect a monthly payment and the amount of house you can b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Paperwork with Sign Here sticker"/>
          <p:cNvPicPr/>
          <p:nvPr/>
        </p:nvPicPr>
        <p:blipFill>
          <a:blip r:embed="rId1"/>
          <a:stretch/>
        </p:blipFill>
        <p:spPr>
          <a:xfrm>
            <a:off x="3505320" y="4648320"/>
            <a:ext cx="1981080" cy="1447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tep 5: Go Through Settl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18960"/>
            <a:ext cx="8305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ttlemen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ign documents to finalize the sale of the house and any mortgage financ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ight to review the settlement statement at least 1 day before clos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aving Trouble Making Paymen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lender immediate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et help from a trained reputable housing counselor at no charge or for a small fe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Man with his head in his hands and hundred dollar bills in background"/>
          <p:cNvPicPr/>
          <p:nvPr/>
        </p:nvPicPr>
        <p:blipFill>
          <a:blip r:embed="rId1"/>
          <a:stretch/>
        </p:blipFill>
        <p:spPr>
          <a:xfrm>
            <a:off x="2438280" y="3403440"/>
            <a:ext cx="3353040" cy="2235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Tapping Into Your Home’s Equ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417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o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equity lines of credi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(HELO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 and cash-out </a:t>
            </a:r>
            <a:br>
              <a:rPr sz="3000"/>
            </a:b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finan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verse mortg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Paperwork, calculator, and thousands of dollars in cash"/>
          <p:cNvPicPr/>
          <p:nvPr/>
        </p:nvPicPr>
        <p:blipFill>
          <a:blip r:embed="rId1"/>
          <a:stretch/>
        </p:blipFill>
        <p:spPr>
          <a:xfrm>
            <a:off x="6248520" y="1523880"/>
            <a:ext cx="245736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ne-time loan for a lump s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ically at a fixed interest 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al monthly payments over a set period of 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7" descr="Bank or financial institution"/>
          <p:cNvPicPr/>
          <p:nvPr/>
        </p:nvPicPr>
        <p:blipFill>
          <a:blip r:embed="rId1"/>
          <a:stretch/>
        </p:blipFill>
        <p:spPr>
          <a:xfrm>
            <a:off x="3124080" y="3733920"/>
            <a:ext cx="21337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Lines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orks like a credit car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raw from the line of credit a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pay the principal and available credit goes up a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rates are typically vari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Credit card and percentage symbol"/>
          <p:cNvPicPr/>
          <p:nvPr/>
        </p:nvPicPr>
        <p:blipFill>
          <a:blip r:embed="rId1"/>
          <a:stretch/>
        </p:blipFill>
        <p:spPr>
          <a:xfrm>
            <a:off x="60958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vantages of Home Equity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0880" y="1143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ility to finance major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er interest rate than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-deductible inter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Living/entry room being renovated"/>
          <p:cNvPicPr/>
          <p:nvPr/>
        </p:nvPicPr>
        <p:blipFill>
          <a:blip r:embed="rId1"/>
          <a:stretch/>
        </p:blipFill>
        <p:spPr>
          <a:xfrm>
            <a:off x="3124080" y="3352680"/>
            <a:ext cx="2667240" cy="2667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Home Equity Options Ris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is collat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using values can de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ates/payment may incr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93840" indent="-393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mptation to use the money for unwise investments or purch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Use caution and self-discip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Rights Under Federal La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3 business days after signing loan papers to cancel the deal without penalt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ust cancel the deal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Lender must return any fees or finance charges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oes not apply if you are buying a home or refinancing without borrowing additional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financ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3413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Refinancing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ay off an existing home loan replace with a new lo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ash out refinance 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n borrow more money than owed on the loan to be replac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Small model home"/>
          <p:cNvPicPr/>
          <p:nvPr/>
        </p:nvPicPr>
        <p:blipFill>
          <a:blip r:embed="rId1"/>
          <a:stretch/>
        </p:blipFill>
        <p:spPr>
          <a:xfrm>
            <a:off x="3048120" y="4038480"/>
            <a:ext cx="2523960" cy="1677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ing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106632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rrent Mortgage: $100,000 at 9.9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e a total of $87,00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payment: $873.8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95000"/>
              </a:lnSpc>
              <a:spcBef>
                <a:spcPts val="374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ant $20,000 for improv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Ladder"/>
          <p:cNvPicPr/>
          <p:nvPr/>
        </p:nvPicPr>
        <p:blipFill>
          <a:blip r:embed="rId1"/>
          <a:stretch/>
        </p:blipFill>
        <p:spPr>
          <a:xfrm>
            <a:off x="3373560" y="3706920"/>
            <a:ext cx="17319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3760" indent="-293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a homeown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the advantages and disadvantages of borrowing against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what to do if you are having trouble making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Describe different types of refinancing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Explain the advantages and disadvantages of a reverse mortg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Identify predatory lending practices and loan sc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rrow in target bulls eye"/>
          <p:cNvPicPr/>
          <p:nvPr/>
        </p:nvPicPr>
        <p:blipFill>
          <a:blip r:embed="rId1"/>
          <a:stretch/>
        </p:blipFill>
        <p:spPr>
          <a:xfrm>
            <a:off x="8310600" y="304920"/>
            <a:ext cx="757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ash-Out Refinance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152280" y="3581280"/>
            <a:ext cx="4038840" cy="2971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1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107,000 ($87,000 + 20,00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terest rate: 6.0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Monthly payment: $642.90 x 30 ye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31,442.4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ion 2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finance $87,000 at $522.73 x 3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me equity loan: $20,000 at 7.36% x 20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7480" indent="-2786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tal = $226,440.7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rrowing against home equity to receive ca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 a lump s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rough monthly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 a line of credit you can tap when need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owners must be at least 62 years ol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 least one owner must live in the house most of the ye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me type must be elig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4280" indent="-314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verse Mortgage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repay loan + interest when you sell, move, or d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mount owed increases over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inue to pay property taxes, insurance, and repair cos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eir must repay the loan to keep the ho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p-front costs make the first years of the loan relatively expens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1120" indent="-321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edatory Lending Prac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6200" y="1599840"/>
            <a:ext cx="5029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rketing tactics, collection practices, and loan terms that deceive and exploit borrow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6" descr="Computer mouse cord caught in mouse trap"/>
          <p:cNvPicPr/>
          <p:nvPr/>
        </p:nvPicPr>
        <p:blipFill>
          <a:blip r:embed="rId1"/>
          <a:stretch/>
        </p:blipFill>
        <p:spPr>
          <a:xfrm>
            <a:off x="533520" y="1600200"/>
            <a:ext cx="31636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artment of Housing and Urban Developmen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und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ost-home ownership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Housing counseling agenci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HUD for a list of HUD-approved housing counseling agenci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1-800-569-428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3384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hud.gov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5" descr="Classroom with instructor drawing on whiteboard"/>
          <p:cNvPicPr/>
          <p:nvPr/>
        </p:nvPicPr>
        <p:blipFill>
          <a:blip r:embed="rId2"/>
          <a:stretch/>
        </p:blipFill>
        <p:spPr>
          <a:xfrm>
            <a:off x="7086600" y="1371600"/>
            <a:ext cx="1785960" cy="241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3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ing versus own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steps required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Questions to determine if you are ready to buy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components of a mortg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ifferent mortgage options for buying a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pping into your home’s e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itfalls and dangers of unwise mortgage re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Outline of person under roofline"/>
          <p:cNvPicPr/>
          <p:nvPr/>
        </p:nvPicPr>
        <p:blipFill>
          <a:blip r:embed="rId1"/>
          <a:stretch/>
        </p:blipFill>
        <p:spPr>
          <a:xfrm>
            <a:off x="7848720" y="4572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buying or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wning a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nt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property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ntal contract 1 year or 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No homeowner associated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are not the ow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r rent might incr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3720" indent="-25956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You might not be able to renew your 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3175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For Rent sign in front of high-rise building"/>
          <p:cNvPicPr/>
          <p:nvPr/>
        </p:nvPicPr>
        <p:blipFill>
          <a:blip r:embed="rId1"/>
          <a:stretch/>
        </p:blipFill>
        <p:spPr>
          <a:xfrm>
            <a:off x="6858000" y="1981080"/>
            <a:ext cx="2062080" cy="207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wn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Building equity and borrowing against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Good inves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Tax-deductible mortgage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Asset you can pass on to family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isadvantag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Property maintenance and upk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Not as easy to move as re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Helvetica Neue"/>
              </a:rPr>
              <a:t>Risk of losing your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Family (mother, father, and three girls) sitting on couch in home"/>
          <p:cNvPicPr/>
          <p:nvPr/>
        </p:nvPicPr>
        <p:blipFill>
          <a:blip r:embed="rId1"/>
          <a:stretch/>
        </p:blipFill>
        <p:spPr>
          <a:xfrm>
            <a:off x="7010280" y="3809880"/>
            <a:ext cx="199728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ve Steps to Buying a H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eadiness to buy a ho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much mortgage you can affo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mortgage option is bes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Qualify for a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 through settle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45:06Z</dcterms:modified>
  <cp:revision>5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