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3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2.png" ContentType="image/png"/>
  <Override PartName="/ppt/media/image3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9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0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666D-E5A5-4EFB-A66C-A8B4C1DDC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F03-4567-4D79-889E-F5F17F17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738-0D0F-4A9F-9779-02F09DAD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052-3188-4CFF-8BE0-145DCB67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E78-E675-40E9-92C0-E0DD408D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A076-BE55-441F-A67B-1EE1F408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F153-EA7E-4CCD-BA83-E792A76E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AD6D-E4FF-46DA-877E-FB0B770C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9598-9B85-403C-8C39-868C4E73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4CD9-B341-4722-BE01-BFDC6143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7C2C-F2DB-4BE4-A552-A76A8BF8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0B5C-4B15-4715-9963-6D37B680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382-AF6A-486F-9DDF-76BEA612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8D81-9EE6-48E0-85EC-2E8C50FD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E00F-2DB1-4740-B13A-4B131464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86BA-0848-477E-8F34-34F6DF1D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F0D4-B82D-4E3B-AFAE-8B3C18DE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0BAE-1AC1-4A34-AD4E-B2F6FACB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2CA87-7F61-43C4-99BA-30595BED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D4F0D-5595-44C6-8DB0-871D7225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51B29-7361-4BEC-8BF9-6C7A02F6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DDCA5-A668-4617-975D-3FCFDADE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5440E-A7DD-4ACD-937A-12E62ECD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AE3-BB93-4429-8C44-3F37F8E7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4129C-7DB6-49B4-8912-308A198D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EB54E-8EC7-4C73-950D-B7CFCAC5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E4475-FC53-4BA8-B821-9E51D54B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435E2-1189-4067-8D60-626485F2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9E5BB-4603-40F0-92AD-9F8FA3C8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A8F1D-C0DE-4175-89C4-7E0CFAD2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A3318-2A0F-4657-9494-66BA379C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52A-6F57-43A6-B833-F1B766D4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1C27C-57E8-4B7A-8DBE-F786C80C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99D-5F90-4BF0-B788-B36C621E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54B02-6180-4FC8-A80A-AAEE2ED9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68E1C-DFCD-44C6-9892-10DFAF80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E985A7-619B-4023-A5B2-15FD6974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708543-C060-4480-86B3-EB457BED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EECDAF-29E5-4427-AE8B-4AE4EEDA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C78BF0-49AD-4257-A6E8-48640E35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9B00A-F15E-43D1-884E-693BD4F8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616E48-C0C8-48B3-8C47-68187631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A491E-BD2D-4E95-9F4F-2CD1FB83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EF62D-02BC-4BEF-8D23-13FAC4A4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933-5AC6-4FEC-89CF-733B93CF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D1FE8-95FE-4560-90ED-14DFE024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56B88-2C65-4251-9755-6BA3A68F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C41C3-47E0-4C1B-AD69-AF9018A9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EB63FB-BCA2-410B-B246-4CB56DFD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B8800-FC81-403A-AA2C-B9DFFF9C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C6F3F-F2A5-4C14-9F07-079B2883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A783C7-C0FD-4C64-B49C-5D045379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F3B198-ED5F-42BB-A52D-0460C210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86EE3-48A5-4C3E-8BC2-9D1BF0B9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C16950-CBAF-458C-9F05-EB2B796B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716-21D4-4E8A-A942-7CF8B615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022FC-2834-44CA-80F2-AD9B9087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91974-59E9-4B3A-91D1-744D25E0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3C2C09-F3D0-4948-971B-05D062CC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0DF-63FD-446D-99A5-A8A2ECF1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E08-B725-494B-B7AB-044FB993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F82A-210F-4A3B-A996-9EC954924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harge I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765D-348C-4D1E-A9DE-66EC0FB04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4727-C96C-4608-AD3A-106A6EDCD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rédito y U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C698-D80B-4070-A915-22E5FBB6BE35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3E97-2AF3-4A8F-934F-DC8F1A325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logo.jpg"/>
          <p:cNvPicPr/>
          <p:nvPr/>
        </p:nvPicPr>
        <p:blipFill>
          <a:blip r:embed="rId3"/>
          <a:stretch/>
        </p:blipFill>
        <p:spPr>
          <a:xfrm>
            <a:off x="6477120" y="614376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"/>
          <p:cNvSpPr/>
          <p:nvPr/>
        </p:nvSpPr>
        <p:spPr>
          <a:xfrm>
            <a:off x="679284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Su Crédito y 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8534520" y="6095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E33C-0E95-43E6-A86F-6E2AF54A8B9C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F91E-7A3E-42E3-B44E-6A2A7363F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To Your Credit title slide with FDIC Money Smart logo and module logo including credit reports and loan applic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76320" y="838080"/>
            <a:ext cx="4647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c1961c"/>
                </a:solidFill>
                <a:latin typeface="Helvetica Neue"/>
              </a:rPr>
              <a:t>Su Cr</a:t>
            </a:r>
            <a:r>
              <a:rPr b="1" lang="es-ES" sz="7600" spc="-1" strike="noStrike">
                <a:solidFill>
                  <a:srgbClr val="c1961c"/>
                </a:solidFill>
                <a:latin typeface="Helvetica Neue"/>
              </a:rPr>
              <a:t>édi</a:t>
            </a:r>
            <a:r>
              <a:rPr b="1" lang="en-US" sz="7600" spc="-1" strike="noStrike">
                <a:solidFill>
                  <a:srgbClr val="c1961c"/>
                </a:solidFill>
                <a:latin typeface="Helvetica Neue"/>
              </a:rPr>
              <a:t>to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457200" y="3124080"/>
            <a:ext cx="426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132f5a"/>
                </a:solidFill>
                <a:latin typeface="Helvetica Neue"/>
              </a:rPr>
              <a:t>y Usted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1961c"/>
                </a:solidFill>
                <a:latin typeface="Helvetica Neue"/>
              </a:rPr>
              <a:t>¿Qué es un informe creditici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 informa a los prestamistas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Quién es 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ántas deudas 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Si ha realizado sus pagos a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Si hay información negativa sobre usted en los registr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gencias de informes creditici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Group 4" descr=""/>
          <p:cNvPicPr/>
          <p:nvPr/>
        </p:nvPicPr>
        <p:blipFill>
          <a:blip r:embed="rId1"/>
          <a:stretch/>
        </p:blipFill>
        <p:spPr>
          <a:xfrm>
            <a:off x="2230560" y="2219400"/>
            <a:ext cx="3755880" cy="1365120"/>
          </a:xfrm>
          <a:prstGeom prst="rect">
            <a:avLst/>
          </a:prstGeom>
          <a:ln w="0">
            <a:noFill/>
          </a:ln>
        </p:spPr>
      </p:pic>
      <p:pic>
        <p:nvPicPr>
          <p:cNvPr id="292" name="Group 13" descr=""/>
          <p:cNvPicPr/>
          <p:nvPr/>
        </p:nvPicPr>
        <p:blipFill>
          <a:blip r:embed="rId2"/>
          <a:stretch/>
        </p:blipFill>
        <p:spPr>
          <a:xfrm>
            <a:off x="622440" y="1042920"/>
            <a:ext cx="3760560" cy="1359000"/>
          </a:xfrm>
          <a:prstGeom prst="rect">
            <a:avLst/>
          </a:prstGeom>
          <a:ln w="0">
            <a:noFill/>
          </a:ln>
        </p:spPr>
      </p:pic>
      <p:pic>
        <p:nvPicPr>
          <p:cNvPr id="293" name="Group 16" descr=""/>
          <p:cNvPicPr/>
          <p:nvPr/>
        </p:nvPicPr>
        <p:blipFill>
          <a:blip r:embed="rId3"/>
          <a:stretch/>
        </p:blipFill>
        <p:spPr>
          <a:xfrm>
            <a:off x="3822840" y="3365640"/>
            <a:ext cx="3760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ción del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ción person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istorial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ción del registro públ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5" descr="Experian credit report"/>
          <p:cNvPicPr/>
          <p:nvPr/>
        </p:nvPicPr>
        <p:blipFill>
          <a:blip r:embed="rId1"/>
          <a:stretch/>
        </p:blipFill>
        <p:spPr>
          <a:xfrm>
            <a:off x="6172200" y="1676520"/>
            <a:ext cx="2019240" cy="1726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ción del registro públ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información podría incluir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n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tenciones fiscales no pa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entas a cobr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ncarr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7" descr="Fingers on keyboard"/>
          <p:cNvPicPr/>
          <p:nvPr/>
        </p:nvPicPr>
        <p:blipFill>
          <a:blip r:embed="rId1"/>
          <a:srcRect l="10754" t="0" r="7524" b="0"/>
          <a:stretch/>
        </p:blipFill>
        <p:spPr>
          <a:xfrm>
            <a:off x="6472080" y="1523880"/>
            <a:ext cx="2367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ancarrota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pítu?lo 13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persona endeudada retiene todos sus bienes y propiedad y paga a plazos sus deu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pítulo 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persona endeudada debe ceder cierta propiedad al acr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impacto de la bancarro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¡Debería usarlo como último recurs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bancarrot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ermanece en su informe crediticio entre 7 y 10 añ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ce más difícil obtener un crédito en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5" descr="One hundred dollar bills in background and troubled man in forefront"/>
          <p:cNvPicPr/>
          <p:nvPr/>
        </p:nvPicPr>
        <p:blipFill>
          <a:blip r:embed="rId1"/>
          <a:stretch/>
        </p:blipFill>
        <p:spPr>
          <a:xfrm>
            <a:off x="3352680" y="4292640"/>
            <a:ext cx="2248200" cy="14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é información no aparece en los informes crediticio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2193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aldos de cuentas corrientes o de ahorr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ngres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storial méd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ompras realizadas con dinero o un che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nformación sobre cuentas empresaria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aza, sexo, religión o país ?de orig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storial de conduc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sos del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informes crediticios se utiliza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a obtener préstamos u otros 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ra conseguir ciertos tipos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ra una vivienda (solicitudes para un alquiler o una hipote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a conseguir un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7086600" y="533520"/>
            <a:ext cx="16002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otivos por los cuales se puede denegar una solicitud de préstam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987480"/>
            <a:ext cx="5181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tiene historial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ene problemas crediticios o un historial crediticio negati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7" descr="Woman working on paying her bills"/>
          <p:cNvPicPr/>
          <p:nvPr/>
        </p:nvPicPr>
        <p:blipFill>
          <a:blip r:embed="rId1"/>
          <a:stretch/>
        </p:blipFill>
        <p:spPr>
          <a:xfrm>
            <a:off x="5943600" y="2057400"/>
            <a:ext cx="228600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ntaj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 número que ayuda a los prestamistas a determinar su riesgo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s tipo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untaje FICO (Fair Isaac Corporation Sc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0" descr="Circle graphic containing a document icon"/>
          <p:cNvPicPr/>
          <p:nvPr/>
        </p:nvPicPr>
        <p:blipFill>
          <a:blip r:embed="rId1"/>
          <a:stretch/>
        </p:blipFill>
        <p:spPr>
          <a:xfrm>
            <a:off x="6705720" y="3124080"/>
            <a:ext cx="1904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62520" y="16765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rmas básic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senta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ntaje F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09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 método principal que se utiliza para establecer un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Puntaje de 300 a 8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320" indent="-309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puntaje está basado e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Historial de pagos del pasado: 3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Deudas pendientes: 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Cuánto tiempo ha tenido crédito: 1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Nuevas solicitudes de crédito: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Tipos de crédito: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antage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088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istema de puntaje crediticio más nue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untaje de 501 a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mbién agrupa puntajes por categorías de letr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= 901-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 = 801-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 = 701-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 = 601-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 = 501-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untaje crediticio bueno y ma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uanto más alto sea su puntaje crediticio, más probable será qu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ciba una tasa de interés mej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gue menos por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se su informe crediticio regularmente para garantizar que su información es correct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4" descr="Figure standing before a chart with the data arrow rising"/>
          <p:cNvPicPr/>
          <p:nvPr/>
        </p:nvPicPr>
        <p:blipFill>
          <a:blip r:embed="rId1"/>
          <a:stretch/>
        </p:blipFill>
        <p:spPr>
          <a:xfrm>
            <a:off x="7203960" y="1905120"/>
            <a:ext cx="1787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ul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volunta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involunta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excesiv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cuando está comparando tas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11" descr="Symbolism of technology with moving documents and the word &quot;download&quot;"/>
          <p:cNvPicPr/>
          <p:nvPr/>
        </p:nvPicPr>
        <p:blipFill>
          <a:blip r:embed="rId1"/>
          <a:stretch/>
        </p:blipFill>
        <p:spPr>
          <a:xfrm>
            <a:off x="5867280" y="1600200"/>
            <a:ext cx="250344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Otros factores que influencian a los prestamis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987480"/>
            <a:ext cx="83059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otros factores podrían influenciar la decisión de un prestamista para otorgar un préstamo además de su informe y su puntaje creditici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Ingre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Tiempo que ha estado en su resi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Empl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Earned income credit (EIC) table"/>
          <p:cNvPicPr/>
          <p:nvPr/>
        </p:nvPicPr>
        <p:blipFill>
          <a:blip r:embed="rId1"/>
          <a:stretch/>
        </p:blipFill>
        <p:spPr>
          <a:xfrm>
            <a:off x="1676520" y="3687840"/>
            <a:ext cx="2246040" cy="149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1: ¿Quién representa el riesgo crediticio más alt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1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termine si cada persona es un riesgo crediticio o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33160" y="156996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 su derech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lame a los números que puede encontrar en los avisos de privacidad de su tarjeta de créd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086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ar por no compartir información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Man talking on cell phone and looking down at a piece of paper in his hands"/>
          <p:cNvPicPr/>
          <p:nvPr/>
        </p:nvPicPr>
        <p:blipFill>
          <a:blip r:embed="rId1"/>
          <a:stretch/>
        </p:blipFill>
        <p:spPr>
          <a:xfrm>
            <a:off x="7086600" y="533520"/>
            <a:ext cx="1447920" cy="216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edir su puntaj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28600" y="1063800"/>
            <a:ext cx="8763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19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uede recibir una copia de su puntaje d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gencias de informes credit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ompañías que quieran venderle su puntaje crediticio como parte de un paquete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19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32f5a"/>
                </a:solidFill>
                <a:latin typeface="Helvetica Neue"/>
              </a:rPr>
              <a:t>Reciba un informe crediticio gratui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a vez cada 12 me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ando solicita un préstamo de consumidor garantizado por su viviend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isite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</a:rPr>
              <a:t>www.annualcreditreport.c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lame al 877-322-82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criba 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nual Credit Report Request Serv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. O. Box 10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tlanta, GA 30348-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e Crediticio Anual Gratu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2: Informe crediticio de Marí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lice la Actividad 2 en la Guía para los Participant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sponda a las preguntas plantead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2654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finir el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icar por qué el crédito es important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scribir el propósito de un informe crediticio y cómo se utiliz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ar una copia de su inform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er y analizar su informe creditici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ferenciar entre el buen crédito y el mal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jemplo de un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51920" y="11430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formación personal/del consumid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Declaración personal/del consumidor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Resumen de la cuenta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Consulta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formación del registro públic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Sample credit report"/>
          <p:cNvPicPr/>
          <p:nvPr/>
        </p:nvPicPr>
        <p:blipFill>
          <a:blip r:embed="rId1"/>
          <a:stretch/>
        </p:blipFill>
        <p:spPr>
          <a:xfrm>
            <a:off x="3581280" y="990720"/>
            <a:ext cx="5172120" cy="533376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7"/>
          <p:cNvSpPr/>
          <p:nvPr/>
        </p:nvSpPr>
        <p:spPr>
          <a:xfrm>
            <a:off x="3645000" y="1066680"/>
            <a:ext cx="5041800" cy="9907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3645000" y="2057400"/>
            <a:ext cx="5041800" cy="5335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3643200" y="2576520"/>
            <a:ext cx="5043600" cy="306216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3645000" y="5626080"/>
            <a:ext cx="5041800" cy="62244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3: John Q. Consumid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3 en la Guía para los Participant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tilice el ejemplo del informe credit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 plante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scar err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 su responsabilidad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onerse en contacto con la agencia de informes creditic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cribir una carta para disputar el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s agencias de informes crediticios deben realizar una investigación en el plazo de 30 días después de recibir su cart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6" descr="Circle graphic with an envelope in the center"/>
          <p:cNvPicPr/>
          <p:nvPr/>
        </p:nvPicPr>
        <p:blipFill>
          <a:blip r:embed="rId1"/>
          <a:stretch/>
        </p:blipFill>
        <p:spPr>
          <a:xfrm>
            <a:off x="7848720" y="533520"/>
            <a:ext cx="11430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1961c"/>
                </a:solidFill>
                <a:latin typeface="Helvetica Neue"/>
              </a:rPr>
              <a:t>Minimice su riesgo de robo de identidad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04920" y="10666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ja su información personal (SSN, número PIN, contraseña, tarjetas de crédito/débit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oteja la correspondencia que recibe y enví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nscríbase al depósito direc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Mantenga su basura financiera "limpia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Esté atento a sus resúmenes bancarios y a las facturas de sus tarjetas de crédi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7391520" y="3124080"/>
            <a:ext cx="13716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1961c"/>
                </a:solidFill>
                <a:latin typeface="Helvetica Neue"/>
              </a:rPr>
              <a:t>Minimice su riesgo de robo de identidad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295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mpida el robo de identidad en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vise su informe crediticio todos los años y denuncie cualquier actividad fraudulent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ursos de la Comisión Federal de Comercio (FTC)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www.ftc.gov/idthe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6858000" y="4343400"/>
            <a:ext cx="1371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2280" y="9140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e medidas inmediatament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polic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sus acree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ga un seguimiento por escr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Declaración de Robo de Identidad en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F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ida un comprobante de que las cuentas disputadas han sido cerradas y que las deudas fraudulentas se han liquid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5" descr="Police badge and ID"/>
          <p:cNvPicPr/>
          <p:nvPr/>
        </p:nvPicPr>
        <p:blipFill>
          <a:blip r:embed="rId2"/>
          <a:stretch/>
        </p:blipFill>
        <p:spPr>
          <a:xfrm>
            <a:off x="763596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683480" y="237960"/>
            <a:ext cx="1469880" cy="10573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ga una alerta contra fraudes en su archivo creditic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Alerta de fraude inicial - 90 dí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Alerta de fraude extendida - 7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onga un bloqueo de seguridad en su archivo creditic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Limita el acceso a su informe crediti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Puede retrasar, interferir con, o prohibir la aprobación a tiempo de cualquier solicitud o petición para un créd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truir su historial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e un préstamo bancario pequeñ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e un crédito en un establecimiento loc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re algo a plazos y pague una gran cantidad de entrada, y negocie los pagos a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da a un amigo o familiar que sea su aval para un préstam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truir su historial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ague sus facturas a tiemp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da a los prestamistas que revisen sus facturas de servicios públicos y otras para otorgarle un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Mantenga sus niveles de deuda baj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posite dinero regularmente en una cuenta de ahorr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reparar su propio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9144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Obtenga una copia de su informe creditic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óngase en contacto con la agencia de informes crediticios y los acreedores para documentar cualquier err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e optar por no recibir ofertas no solicitadas de crédito para evitar contraer más deu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10" descr="Man using a laptop"/>
          <p:cNvPicPr/>
          <p:nvPr/>
        </p:nvPicPr>
        <p:blipFill>
          <a:blip r:embed="rId1"/>
          <a:stretch/>
        </p:blipFill>
        <p:spPr>
          <a:xfrm>
            <a:off x="6858000" y="1676520"/>
            <a:ext cx="15699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scribir las implicaciones de tener un buen o un mal puntaj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dentificar maneras de crear y reparar su historial creditici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corregir errores en su inform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protegerse del robo de ident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gencias de asesoría creditic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able con varias compañías antes de firmar un contra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Asegúrese de que son compañías reconocid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aga preguntas sobre servicios, costos y un plan de amortiza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4" descr="Woman handing completed paperwork back to a counselor"/>
          <p:cNvPicPr/>
          <p:nvPr/>
        </p:nvPicPr>
        <p:blipFill>
          <a:blip r:embed="rId1"/>
          <a:stretch/>
        </p:blipFill>
        <p:spPr>
          <a:xfrm>
            <a:off x="2968560" y="4565520"/>
            <a:ext cx="26766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imos en la reparación de crédit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240" y="1063800"/>
            <a:ext cx="89154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Nadie puede eliminar información correcta de su informe creditici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uede llevar años reparar un mal crédit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Nadie puede crearle una identidad nuev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as compañías legítimas proporcionan un servicio antes de pedirle que pagu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uede pedir usted mismo su informe creditici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ómo evaluarían el curso de capacitació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n aprendido acerca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ómo leer un informe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ómo solicitar un informe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onstruir y reparar su crédit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otegerse del robo de identidad y de timos en la reparación de 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os informes crediticio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é es el crédito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335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respuesta le daría un profesional financiero para definir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 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Dinero que se le entrega que no tiene que d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inero que toma prestado para pagar cosas pero que también debe d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conocimiento por un trabajo bien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t?ítulos que aparecen al final de una pelí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finir el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El crédito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habilidad de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veces se llama présta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promesa que hace de devolver el dinero que toma prestado más inter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Credit card and dollar symbol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a importancia del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2280" y="12189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Por qué creen que es importante el crédit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 útil en situaciones de emerg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 conveniente cuando no tiene dinero en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 permite pagar compras grandes a lo largo de un periodo de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 puede ayudar a encontrar un trabajo, una casa o un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</a:rPr>
              <a:t>Caso crediticio: los escritorios de Marvi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rvin construye y vende mesas de escritorio. Quiere tomar $1,000 prestados para una sierra de banda nueva y una lijadora el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éct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ca. Ha pedido un préstamo al banco y ofrece en garantía sus nuevas herramienta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Marvin no devuelve o no puede devolver el préstamo, ¿qué hará el prestamista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Man sanding wood"/>
          <p:cNvPicPr/>
          <p:nvPr/>
        </p:nvPicPr>
        <p:blipFill>
          <a:blip r:embed="rId1"/>
          <a:stretch/>
        </p:blipFill>
        <p:spPr>
          <a:xfrm>
            <a:off x="457200" y="5029200"/>
            <a:ext cx="188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</cp:lastModifiedBy>
  <dcterms:modified xsi:type="dcterms:W3CDTF">2011-02-11T21:59:53Z</dcterms:modified>
  <cp:revision>519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F4F99E60CAF94ABC78279498A0B61D</vt:lpwstr>
  </property>
</Properties>
</file>