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8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9.jpeg" ContentType="image/jpeg"/>
  <Override PartName="/ppt/media/image27.wmf" ContentType="image/x-wmf"/>
  <Override PartName="/ppt/media/image23.png" ContentType="image/png"/>
  <Override PartName="/ppt/media/image21.jpeg" ContentType="image/jpeg"/>
  <Override PartName="/ppt/media/image28.jpeg" ContentType="image/jpeg"/>
  <Override PartName="/ppt/media/image7.jpeg" ContentType="image/jpeg"/>
  <Override PartName="/ppt/media/image31.jpeg" ContentType="image/jpeg"/>
  <Override PartName="/ppt/media/image10.wmf" ContentType="image/x-wmf"/>
  <Override PartName="/ppt/media/image25.png" ContentType="image/png"/>
  <Override PartName="/ppt/media/image4.jpeg" ContentType="image/jpeg"/>
  <Override PartName="/ppt/media/image8.wmf" ContentType="image/x-wmf"/>
  <Override PartName="/ppt/media/image13.png" ContentType="image/png"/>
  <Override PartName="/ppt/media/image11.png" ContentType="image/png"/>
  <Override PartName="/ppt/media/image12.png" ContentType="image/png"/>
  <Override PartName="/ppt/media/image30.wmf" ContentType="image/x-wmf"/>
  <Override PartName="/ppt/media/image32.png" ContentType="image/png"/>
  <Override PartName="/ppt/media/image1.jpeg" ContentType="image/jpeg"/>
  <Override PartName="/ppt/media/image33.png" ContentType="image/png"/>
  <Override PartName="/ppt/media/image14.jpeg" ContentType="image/jpeg"/>
  <Override PartName="/ppt/media/image6.png" ContentType="image/png"/>
  <Override PartName="/ppt/media/image5.jpeg" ContentType="image/jpeg"/>
  <Override PartName="/ppt/media/image20.wmf" ContentType="image/x-wmf"/>
  <Override PartName="/ppt/media/image26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2.jpeg" ContentType="image/jpeg"/>
  <Override PartName="/ppt/media/image9.png" ContentType="image/pn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dt" idx="18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ftr" idx="19"/>
          </p:nvPr>
        </p:nvSpPr>
        <p:spPr>
          <a:xfrm>
            <a:off x="-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 type="sldNum" idx="20"/>
          </p:nvPr>
        </p:nvSpPr>
        <p:spPr>
          <a:xfrm>
            <a:off x="397800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8B509-5077-4945-B196-857C1A101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D98C-76F5-49C7-807F-3112A548D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B8FC-07E2-4AF7-AB97-D3788E23C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EFBE-F559-4D57-A57B-89E92409F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D15D-A8A3-4B98-820F-FEB1BB95A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0F9CD-9FA3-4CE5-B766-B127F8104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33A80-5D2B-4434-BE4E-D26370570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B18B3-D2A5-40CA-A8CC-BED2065A1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55259-065D-4C18-A2A0-0A3033E44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E7590-88A3-4209-A211-BA8B942AD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D844E-E4B7-4501-9121-53A3B45CF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78F1F-AEFF-4EA9-B243-91788215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C729-A2B5-42D3-9786-E53CCC7C5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4F711-349F-43A6-8362-C245374C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B66DE-7966-4234-9B14-4DDA7431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F1840-9DDE-4A38-A86A-0D83C778E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0654B-F44A-499A-AFC4-6EECBBB13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5ED8E-C5CB-4D98-BE68-A161FD87A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D4F9C-34CC-41CA-BAD8-B700D93A8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E6BB7-D63F-408B-A127-370A92BB4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00D53-A2B7-4742-8583-696744460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FFF6C-6CE0-4708-BA7B-59AF24CBE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9880E-97D6-47CA-811E-3C84C6176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961D-7C1C-4E85-906C-BBDF3B1FA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DC9BA-D8FF-4178-A8B1-11CD5C894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C55B1-6E76-492D-A431-FAFE3F63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394A0-7E25-4C45-91F8-7C391D39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F5825-AB56-43EA-B67C-692B9ED5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EF9D3-9C14-4564-AF98-0945E3C8E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707A8-7BF5-4993-94B6-9EAAF25E0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B0CB3-E050-431C-BBA9-1A934009A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ED71-51E5-4E18-AC43-EFAD8BF1D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A61F0E-25A4-4F4E-8570-97807CC41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4CD0-1533-48F1-AB3B-0C692F85D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985468-C5AC-4035-B72C-785497BDD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1632EB-D35E-42D8-B810-F81EC9C3A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2CE187-489F-455C-81F5-E4A1D909B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1EF0E3-97BB-422D-8654-8298A0C44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09D400-7A86-4EB8-A9C2-AD160F529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40C711-2EFB-48AB-A248-7D9DC16E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97E8A4-4EC7-49CE-973E-B06556A6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62DA50-DD28-49EC-A094-C5757DBA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427590-7586-41DB-AE5B-FF07142F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6CCB85-F456-4C0A-8CFF-125CD3334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6A3C-9ACC-4D5C-BB20-E4094B564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2060E7-C9F9-47BC-B10B-2BCFC71C2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FBA8AE-AF10-44E7-8354-B596B0F99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810B9B-2997-44A0-8609-1B86A4951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D6B812-4085-4DDA-A29B-F8D3F36B2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99C048-1361-45BC-921E-E66B25C3E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1D0967-FCBD-4D05-A59B-CF56454F4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1C11B4-25EB-43C0-9847-305EB0AE9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FE492E-2D8B-4FC4-B248-FBA80A1E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AFE9EA-BEB8-4830-8AA4-F6D67859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BAED4B-AF85-450B-A630-490F50F3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173D-F46F-4312-812C-4F588B9D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C7EF84-603D-447D-BA29-CBDC979DB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17ED95-BD53-476E-89DC-534A66922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DF3988-663F-4987-9304-95536181D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8A11-6DB3-4D00-89CD-013562C2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BC0E-143D-44CC-9F45-591DDF01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5B75A-EBCC-430B-8BD2-6C37F40AE9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PPT_cover_v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600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206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Arial"/>
              </a:rPr>
              <a:t>Charge It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4C49D-37AB-4343-A70D-AD2612C1BA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D059E-813A-4D10-AACB-80DAB37407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TextBox 7"/>
          <p:cNvSpPr/>
          <p:nvPr/>
        </p:nvSpPr>
        <p:spPr>
          <a:xfrm>
            <a:off x="6781680" y="64008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Su Crédito y U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12638-D4D5-406F-BF76-DB431576C17D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10"/>
          <p:cNvSpPr/>
          <p:nvPr/>
        </p:nvSpPr>
        <p:spPr>
          <a:xfrm>
            <a:off x="6480000" y="5638680"/>
            <a:ext cx="251460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1f497d"/>
                </a:solidFill>
                <a:latin typeface="Arial Rounded MT Bold"/>
              </a:rPr>
              <a:t>Programa de Educación Financiera FD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E9CEE-BB95-4AC2-B208-5099484A67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8" descr="PPT_cover_v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7" descr="logo.jpg"/>
          <p:cNvPicPr/>
          <p:nvPr/>
        </p:nvPicPr>
        <p:blipFill>
          <a:blip r:embed="rId3"/>
          <a:stretch/>
        </p:blipFill>
        <p:spPr>
          <a:xfrm>
            <a:off x="6477120" y="6143760"/>
            <a:ext cx="2449440" cy="637920"/>
          </a:xfrm>
          <a:prstGeom prst="rect">
            <a:avLst/>
          </a:prstGeom>
          <a:ln w="0">
            <a:noFill/>
          </a:ln>
        </p:spPr>
      </p:pic>
      <p:sp>
        <p:nvSpPr>
          <p:cNvPr id="212" name="TextBox 9"/>
          <p:cNvSpPr/>
          <p:nvPr/>
        </p:nvSpPr>
        <p:spPr>
          <a:xfrm>
            <a:off x="6792840" y="6095880"/>
            <a:ext cx="22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Arial"/>
              </a:rPr>
              <a:t>Su Crédito y Us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0"/>
          <p:cNvSpPr/>
          <p:nvPr/>
        </p:nvSpPr>
        <p:spPr>
          <a:xfrm>
            <a:off x="8534520" y="60958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DC615-D732-4C21-B425-784C793E2AD6}" type="slidenum">
              <a:rPr b="0" lang="en-US" sz="1200" spc="-1" strike="noStrike">
                <a:solidFill>
                  <a:srgbClr val="00206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D6A93-686A-4741-AECD-8DC7F20D11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ftc.gov/idtheft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To Your Credit title slide with FDIC Money Smart logo and module logo including credit reports and loan application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3" name="TextBox 5"/>
          <p:cNvSpPr/>
          <p:nvPr/>
        </p:nvSpPr>
        <p:spPr>
          <a:xfrm>
            <a:off x="76320" y="838080"/>
            <a:ext cx="46479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600" spc="-1" strike="noStrike">
                <a:solidFill>
                  <a:srgbClr val="c1961c"/>
                </a:solidFill>
                <a:latin typeface="Helvetica Neue"/>
              </a:rPr>
              <a:t>Su Cr</a:t>
            </a:r>
            <a:r>
              <a:rPr b="1" lang="es-ES" sz="7600" spc="-1" strike="noStrike">
                <a:solidFill>
                  <a:srgbClr val="c1961c"/>
                </a:solidFill>
                <a:latin typeface="Helvetica Neue"/>
              </a:rPr>
              <a:t>édi</a:t>
            </a:r>
            <a:r>
              <a:rPr b="1" lang="en-US" sz="7600" spc="-1" strike="noStrike">
                <a:solidFill>
                  <a:srgbClr val="c1961c"/>
                </a:solidFill>
                <a:latin typeface="Helvetica Neue"/>
              </a:rPr>
              <a:t>to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6"/>
          <p:cNvSpPr/>
          <p:nvPr/>
        </p:nvSpPr>
        <p:spPr>
          <a:xfrm>
            <a:off x="457200" y="3124080"/>
            <a:ext cx="4267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600" spc="-1" strike="noStrike">
                <a:solidFill>
                  <a:srgbClr val="132f5a"/>
                </a:solidFill>
                <a:latin typeface="Helvetica Neue"/>
              </a:rPr>
              <a:t>y Usted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8"/>
          <p:cNvSpPr/>
          <p:nvPr/>
        </p:nvSpPr>
        <p:spPr>
          <a:xfrm>
            <a:off x="1143000" y="5016600"/>
            <a:ext cx="4191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1961c"/>
                </a:solidFill>
                <a:latin typeface="Arial Rounded MT Bold"/>
              </a:rPr>
              <a:t>Programa de Educación Financiera de la FD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1961c"/>
                </a:solidFill>
                <a:latin typeface="Helvetica Neue"/>
              </a:rPr>
              <a:t>¿Qué es un informe crediticio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e informa a los prestamistas de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1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Quién es u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1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uántas deudas ti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1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Si ha realizado sus pagos a ti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1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Si hay información negativa sobre usted en los registros públ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gencias de informes creditici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Group 4" descr=""/>
          <p:cNvPicPr/>
          <p:nvPr/>
        </p:nvPicPr>
        <p:blipFill>
          <a:blip r:embed="rId1"/>
          <a:stretch/>
        </p:blipFill>
        <p:spPr>
          <a:xfrm>
            <a:off x="2230560" y="2219400"/>
            <a:ext cx="3755880" cy="1365120"/>
          </a:xfrm>
          <a:prstGeom prst="rect">
            <a:avLst/>
          </a:prstGeom>
          <a:ln w="0">
            <a:noFill/>
          </a:ln>
        </p:spPr>
      </p:pic>
      <p:pic>
        <p:nvPicPr>
          <p:cNvPr id="292" name="Group 13" descr=""/>
          <p:cNvPicPr/>
          <p:nvPr/>
        </p:nvPicPr>
        <p:blipFill>
          <a:blip r:embed="rId2"/>
          <a:stretch/>
        </p:blipFill>
        <p:spPr>
          <a:xfrm>
            <a:off x="622440" y="1042920"/>
            <a:ext cx="3760560" cy="1359000"/>
          </a:xfrm>
          <a:prstGeom prst="rect">
            <a:avLst/>
          </a:prstGeom>
          <a:ln w="0">
            <a:noFill/>
          </a:ln>
        </p:spPr>
      </p:pic>
      <p:pic>
        <p:nvPicPr>
          <p:cNvPr id="293" name="Group 16" descr=""/>
          <p:cNvPicPr/>
          <p:nvPr/>
        </p:nvPicPr>
        <p:blipFill>
          <a:blip r:embed="rId3"/>
          <a:stretch/>
        </p:blipFill>
        <p:spPr>
          <a:xfrm>
            <a:off x="3822840" y="3365640"/>
            <a:ext cx="3760560" cy="13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nformación del Informe Creditici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formación persona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istorial creditici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ultas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formación del registro públic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Picture 5" descr="Experian credit report"/>
          <p:cNvPicPr/>
          <p:nvPr/>
        </p:nvPicPr>
        <p:blipFill>
          <a:blip r:embed="rId1"/>
          <a:stretch/>
        </p:blipFill>
        <p:spPr>
          <a:xfrm>
            <a:off x="6172200" y="1676520"/>
            <a:ext cx="2019240" cy="1726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nformación del registro públic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a información podría incluir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Sente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tenciones fiscales no pag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uentas a cobr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Bancarro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Picture 7" descr="Fingers on keyboard"/>
          <p:cNvPicPr/>
          <p:nvPr/>
        </p:nvPicPr>
        <p:blipFill>
          <a:blip r:embed="rId1"/>
          <a:srcRect l="10754" t="0" r="7524" b="0"/>
          <a:stretch/>
        </p:blipFill>
        <p:spPr>
          <a:xfrm>
            <a:off x="6472080" y="1523880"/>
            <a:ext cx="23670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Bancarrota persona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apítu?lo 13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La persona endeudada retiene todos sus bienes y propiedad y paga a plazos sus deu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apítulo 7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La persona endeudada debe ceder cierta propiedad al acree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El impacto de la bancarrot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¡Debería usarlo como último recurso!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a bancarrota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Permanece en su informe crediticio entre 7 y 10 añ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Hace más difícil obtener un crédito en el fut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Picture 5" descr="One hundred dollar bills in background and troubled man in forefront"/>
          <p:cNvPicPr/>
          <p:nvPr/>
        </p:nvPicPr>
        <p:blipFill>
          <a:blip r:embed="rId1"/>
          <a:stretch/>
        </p:blipFill>
        <p:spPr>
          <a:xfrm>
            <a:off x="3352680" y="4292640"/>
            <a:ext cx="2248200" cy="1498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¿Qué información no aparece en los informes crediticios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6840" y="121932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-27432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7600" indent="-3261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Saldos de cuentas corrientes o de ahorr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7600" indent="-3261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Ingreso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7600" indent="-3261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Historial médic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7600" indent="-3261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Compras realizadas con dinero o un chequ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7600" indent="-3261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Información sobre cuentas empresarial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7600" indent="-3261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Raza, sexo, religión o país ?de orige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7600" indent="-3261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Historial de conducció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7600" indent="-3261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7600" indent="-3261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Usos del informe creditici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os informes crediticios se utilizan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Para obtener préstamos u otros crédi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Para conseguir ciertos tipos de traba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Para una vivienda (solicitudes para un alquiler o una hipotec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Para conseguir un seg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Picture 5" descr="Lender reviewing paperwork with a couple"/>
          <p:cNvPicPr/>
          <p:nvPr/>
        </p:nvPicPr>
        <p:blipFill>
          <a:blip r:embed="rId1"/>
          <a:stretch/>
        </p:blipFill>
        <p:spPr>
          <a:xfrm>
            <a:off x="7086600" y="533520"/>
            <a:ext cx="1600200" cy="1600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Motivos por los cuales se puede denegar una solicitud de préstam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6840" y="987480"/>
            <a:ext cx="518148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No tiene historial creditici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iene problemas crediticios o un historial crediticio negativ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Picture 17" descr="Woman working on paying her bills"/>
          <p:cNvPicPr/>
          <p:nvPr/>
        </p:nvPicPr>
        <p:blipFill>
          <a:blip r:embed="rId1"/>
          <a:stretch/>
        </p:blipFill>
        <p:spPr>
          <a:xfrm>
            <a:off x="5943600" y="2057400"/>
            <a:ext cx="2286000" cy="23004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untaje creditici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Un número que ayuda a los prestamistas a determinar su riesgo crediti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os tipos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Puntaje FICO (Fair Isaac Corporation Sco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VantageS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" name="Picture 10" descr="Circle graphic containing a document icon"/>
          <p:cNvPicPr/>
          <p:nvPr/>
        </p:nvPicPr>
        <p:blipFill>
          <a:blip r:embed="rId1"/>
          <a:stretch/>
        </p:blipFill>
        <p:spPr>
          <a:xfrm>
            <a:off x="6705720" y="3124080"/>
            <a:ext cx="190476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Bienvenid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962520" y="1676520"/>
            <a:ext cx="4114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gend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Normas básica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resentacion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1" descr="Handshake"/>
          <p:cNvPicPr/>
          <p:nvPr/>
        </p:nvPicPr>
        <p:blipFill>
          <a:blip r:embed="rId1"/>
          <a:stretch/>
        </p:blipFill>
        <p:spPr>
          <a:xfrm>
            <a:off x="762120" y="19051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untaje FIC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960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0320" indent="-3092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l método principal que se utiliza para establecer un crédit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</a:rPr>
              <a:t>Puntaje de 300 a 85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0320" indent="-3092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El puntaje está basado en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</a:rPr>
              <a:t>Historial de pagos del pasado: 35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Deudas pendientes: 30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Cuánto tiempo ha tenido crédito: 15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Nuevas solicitudes de crédito: 10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Tipos de crédito: 10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VantageScor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80880" y="9903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Sistema de puntaje crediticio más nuev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Puntaje de 501 a 9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ambién agrupa puntajes por categorías de letras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 = 901-9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B = 801-9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 = 701-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D = 601-7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F = 501-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Puntaje crediticio bueno y mal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Cuanto más alto sea su puntaje crediticio, más probable será que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Reciba una tasa de interés mej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Pague menos por tomar dinero pres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vise su informe crediticio regularmente para garantizar que su información es correcta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Picture 4" descr="Figure standing before a chart with the data arrow rising"/>
          <p:cNvPicPr/>
          <p:nvPr/>
        </p:nvPicPr>
        <p:blipFill>
          <a:blip r:embed="rId1"/>
          <a:stretch/>
        </p:blipFill>
        <p:spPr>
          <a:xfrm>
            <a:off x="7203960" y="1905120"/>
            <a:ext cx="178776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nsulta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ultas voluntaria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ultas involuntaria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ultas excesiva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ultas cuando está comparando tasa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Picture 11" descr="Symbolism of technology with moving documents and the word &quot;download&quot;"/>
          <p:cNvPicPr/>
          <p:nvPr/>
        </p:nvPicPr>
        <p:blipFill>
          <a:blip r:embed="rId1"/>
          <a:stretch/>
        </p:blipFill>
        <p:spPr>
          <a:xfrm>
            <a:off x="5867280" y="1600200"/>
            <a:ext cx="2503440" cy="1676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Otros factores que influencian a los prestamista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7200" y="987480"/>
            <a:ext cx="830592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¿Qué otros factores podrían influenciar la decisión de un prestamista para otorgar un préstamo además de su informe y su puntaje crediticio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22928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Ingres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22928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</a:rPr>
              <a:t>Tiempo que ha estado en su resid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22928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Emple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4" descr="Earned income credit (EIC) table"/>
          <p:cNvPicPr/>
          <p:nvPr/>
        </p:nvPicPr>
        <p:blipFill>
          <a:blip r:embed="rId1"/>
          <a:stretch/>
        </p:blipFill>
        <p:spPr>
          <a:xfrm>
            <a:off x="1676520" y="3687840"/>
            <a:ext cx="2246040" cy="14936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ctividad 1: ¿Quién representa el riesgo crediticio más alto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7200" y="99072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7080" indent="-3056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	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7080" indent="-3056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Realice la Actividad 1 en la Guía para los Participantes.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7080" indent="-3056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45920" indent="-462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Lea cada situación plante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45920" indent="-462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Determine si cada persona es un riesgo crediticio o 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45920" indent="-462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sté preparado para explicar sus respues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7080" indent="-305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1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533160" y="1569960"/>
            <a:ext cx="8305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s su derecho!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lame al 1-888-5-OPTOUT (567-8688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Visite </a:t>
            </a:r>
            <a:r>
              <a:rPr b="0" lang="en-US" sz="2800" spc="-1" strike="noStrike" u="sng">
                <a:solidFill>
                  <a:srgbClr val="132f5a"/>
                </a:solidFill>
                <a:uFillTx/>
                <a:latin typeface="Helvetica Neue"/>
              </a:rPr>
              <a:t>www.optoutprescreen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lame a los números que puede encontrar en los avisos de privacidad de su tarjeta de créd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086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ptar por no compartir información persona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Picture 5" descr="Man talking on cell phone and looking down at a piece of paper in his hands"/>
          <p:cNvPicPr/>
          <p:nvPr/>
        </p:nvPicPr>
        <p:blipFill>
          <a:blip r:embed="rId1"/>
          <a:stretch/>
        </p:blipFill>
        <p:spPr>
          <a:xfrm>
            <a:off x="7086600" y="533520"/>
            <a:ext cx="1447920" cy="2168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Pedir su puntaje creditici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228600" y="1063800"/>
            <a:ext cx="876312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193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Puede recibir una copia de su puntaje de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gencias de informes crediti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Compañías que quieran venderle su puntaje crediticio como parte de un paquete de produc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193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132f5a"/>
                </a:solidFill>
                <a:latin typeface="Helvetica Neue"/>
              </a:rPr>
              <a:t>Reciba un informe crediticio gratuito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Una vez cada 12 me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uando solicita un préstamo de consumidor garantizado por su vivienda pers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 algn="ctr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Visite </a:t>
            </a:r>
            <a:r>
              <a:rPr b="1" lang="en-US" sz="3000" spc="-1" strike="noStrike" u="sng">
                <a:solidFill>
                  <a:srgbClr val="132f5a"/>
                </a:solidFill>
                <a:uFillTx/>
                <a:latin typeface="Helvetica Neue"/>
              </a:rPr>
              <a:t>www.annualcreditreport.com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lame al 877-322-8228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scriba a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nnual Credit Report Request Servi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. O. Box 105281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tlanta, GA 30348-5281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nforme Crediticio Anual Gratuit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ctividad 2: Informe crediticio de Marí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alice la Actividad 2 en la Guía para los Participantes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ea la situación plante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Responda a las preguntas planteadas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Esté preparado para explicar sus respuestas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bjetiv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2654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efinir el crédit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xplicar por qué el crédito es important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Describir el propósito de un informe crediticio y cómo se utiliz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olicitar una copia de su informe creditici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eer y analizar su informe crediticio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iferenciar entre el buen crédito y el mal crédit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4" descr="Arrow in target bulls eye"/>
          <p:cNvPicPr/>
          <p:nvPr/>
        </p:nvPicPr>
        <p:blipFill>
          <a:blip r:embed="rId1"/>
          <a:stretch/>
        </p:blipFill>
        <p:spPr>
          <a:xfrm>
            <a:off x="7924680" y="247680"/>
            <a:ext cx="121932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Ejemplo de un informe creditici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51920" y="1143000"/>
            <a:ext cx="312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78080" indent="-478080">
              <a:lnSpc>
                <a:spcPct val="100000"/>
              </a:lnSpc>
              <a:buClr>
                <a:srgbClr val="132f5a"/>
              </a:buClr>
              <a:buFont typeface="Helvetica Neue"/>
              <a:buAutoNum type="arabicPeriod"/>
              <a:tabLst>
                <a:tab algn="l" pos="10312416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Times New Roman"/>
              </a:rPr>
              <a:t>Información personal/del consumido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78080" indent="-478080">
              <a:lnSpc>
                <a:spcPct val="100000"/>
              </a:lnSpc>
              <a:buClr>
                <a:srgbClr val="132f5a"/>
              </a:buClr>
              <a:buFont typeface="Helvetica Neue"/>
              <a:buAutoNum type="arabicPeriod"/>
              <a:tabLst>
                <a:tab algn="l" pos="10312416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Times New Roman"/>
              </a:rPr>
              <a:t>Declaración personal/del consumidor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78080" indent="-478080">
              <a:lnSpc>
                <a:spcPct val="100000"/>
              </a:lnSpc>
              <a:buClr>
                <a:srgbClr val="132f5a"/>
              </a:buClr>
              <a:buFont typeface="Helvetica Neue"/>
              <a:buAutoNum type="arabicPeriod"/>
              <a:tabLst>
                <a:tab algn="l" pos="10312416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Times New Roman"/>
              </a:rPr>
              <a:t>Resumen de la cuenta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78080" indent="-478080">
              <a:lnSpc>
                <a:spcPct val="100000"/>
              </a:lnSpc>
              <a:buClr>
                <a:srgbClr val="132f5a"/>
              </a:buClr>
              <a:buFont typeface="Helvetica Neue"/>
              <a:buAutoNum type="arabicPeriod"/>
              <a:tabLst>
                <a:tab algn="l" pos="10312416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Times New Roman"/>
              </a:rPr>
              <a:t>Consultas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78080" indent="-478080">
              <a:lnSpc>
                <a:spcPct val="100000"/>
              </a:lnSpc>
              <a:buClr>
                <a:srgbClr val="132f5a"/>
              </a:buClr>
              <a:buFont typeface="Helvetica Neue"/>
              <a:buAutoNum type="arabicPeriod"/>
              <a:tabLst>
                <a:tab algn="l" pos="10312416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Times New Roman"/>
              </a:rPr>
              <a:t>Información del registro público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4" name="Picture 4" descr="Sample credit report"/>
          <p:cNvPicPr/>
          <p:nvPr/>
        </p:nvPicPr>
        <p:blipFill>
          <a:blip r:embed="rId1"/>
          <a:stretch/>
        </p:blipFill>
        <p:spPr>
          <a:xfrm>
            <a:off x="3581280" y="990720"/>
            <a:ext cx="5172120" cy="533376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7"/>
          <p:cNvSpPr/>
          <p:nvPr/>
        </p:nvSpPr>
        <p:spPr>
          <a:xfrm>
            <a:off x="3645000" y="1066680"/>
            <a:ext cx="5041800" cy="990720"/>
          </a:xfrm>
          <a:prstGeom prst="rect">
            <a:avLst/>
          </a:prstGeom>
          <a:solidFill>
            <a:srgbClr val="4f81bd">
              <a:alpha val="28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8"/>
          <p:cNvSpPr/>
          <p:nvPr/>
        </p:nvSpPr>
        <p:spPr>
          <a:xfrm>
            <a:off x="3645000" y="2057400"/>
            <a:ext cx="5041800" cy="533520"/>
          </a:xfrm>
          <a:prstGeom prst="rect">
            <a:avLst/>
          </a:prstGeom>
          <a:solidFill>
            <a:srgbClr val="4f81bd">
              <a:alpha val="28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9"/>
          <p:cNvSpPr/>
          <p:nvPr/>
        </p:nvSpPr>
        <p:spPr>
          <a:xfrm>
            <a:off x="3643200" y="2576520"/>
            <a:ext cx="5043600" cy="3062160"/>
          </a:xfrm>
          <a:prstGeom prst="rect">
            <a:avLst/>
          </a:prstGeom>
          <a:solidFill>
            <a:srgbClr val="4f81bd">
              <a:alpha val="28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0"/>
          <p:cNvSpPr/>
          <p:nvPr/>
        </p:nvSpPr>
        <p:spPr>
          <a:xfrm>
            <a:off x="3645000" y="5626080"/>
            <a:ext cx="5041800" cy="622440"/>
          </a:xfrm>
          <a:prstGeom prst="rect">
            <a:avLst/>
          </a:prstGeom>
          <a:solidFill>
            <a:srgbClr val="4f81bd">
              <a:alpha val="28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ctividad 3: John Q. Consumido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Realice la Actividad 3 en la Guía para los Participantes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Utilice el ejemplo del informe creditic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sponda a las preguntas plante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Buscar error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s su responsabilidad: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Ponerse en contacto con la agencia de informes creditici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Escribir una carta para disputar el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as agencias de informes crediticios deben realizar una investigación en el plazo de 30 días después de recibir su carta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4" name="Picture 6" descr="Circle graphic with an envelope in the center"/>
          <p:cNvPicPr/>
          <p:nvPr/>
        </p:nvPicPr>
        <p:blipFill>
          <a:blip r:embed="rId1"/>
          <a:stretch/>
        </p:blipFill>
        <p:spPr>
          <a:xfrm>
            <a:off x="7848720" y="533520"/>
            <a:ext cx="1143000" cy="114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83908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c1961c"/>
                </a:solidFill>
                <a:latin typeface="Helvetica Neue"/>
              </a:rPr>
              <a:t>Minimice su riesgo de robo de identidad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04920" y="106668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roteja su información personal (SSN, número PIN, contraseña, tarjetas de crédito/débito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Proteja la correspondencia que recibe y enví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Inscríbase al depósito direct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Mantenga su basura financiera "limpia"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Esté atento a sus resúmenes bancarios y a las facturas de sus tarjetas de crédit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7" name="Picture 4" descr="Down arrow next to a smiling figure pointing down"/>
          <p:cNvPicPr/>
          <p:nvPr/>
        </p:nvPicPr>
        <p:blipFill>
          <a:blip r:embed="rId1"/>
          <a:stretch/>
        </p:blipFill>
        <p:spPr>
          <a:xfrm>
            <a:off x="7391520" y="3124080"/>
            <a:ext cx="137160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c1961c"/>
                </a:solidFill>
                <a:latin typeface="Helvetica Neue"/>
              </a:rPr>
              <a:t>Minimice su riesgo de robo de identidad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12952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Impida el robo de identidad en Interne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Revise su informe crediticio todos los años y denuncie cualquier actividad fraudulent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Recursos de la Comisión Federal de Comercio (FTC):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132f5a"/>
                </a:solidFill>
                <a:uFillTx/>
                <a:latin typeface="Helvetica Neue"/>
              </a:rPr>
              <a:t>www.ftc.gov/idthef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1-877-IDTHEFT (438-433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4" descr="Down arrow next to a smiling figure pointing down"/>
          <p:cNvPicPr/>
          <p:nvPr/>
        </p:nvPicPr>
        <p:blipFill>
          <a:blip r:embed="rId1"/>
          <a:stretch/>
        </p:blipFill>
        <p:spPr>
          <a:xfrm>
            <a:off x="6858000" y="4343400"/>
            <a:ext cx="1371600" cy="10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Víctimas del robo de identida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52280" y="9140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ome medidas inmediatamente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Presente una denuncia ante la policí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Póngase en contacto con sus acreedo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Haga un seguimiento por escri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Utilice la Declaración de Robo de Identidad en </a:t>
            </a:r>
            <a:r>
              <a:rPr b="0" lang="en-US" sz="2600" spc="-1" strike="noStrike" u="sng">
                <a:solidFill>
                  <a:srgbClr val="0000ff"/>
                </a:solidFill>
                <a:uFillTx/>
                <a:latin typeface="Helvetica Neue"/>
                <a:ea typeface="Arial"/>
                <a:hlinkClick r:id="rId1"/>
              </a:rPr>
              <a:t>www.ftc.gov/idthef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Presente una denuncia ante la FT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Pida un comprobante de que las cuentas disputadas han sido cerradas y que las deudas fraudulentas se han liquid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3" name="Picture 5" descr="Police badge and ID"/>
          <p:cNvPicPr/>
          <p:nvPr/>
        </p:nvPicPr>
        <p:blipFill>
          <a:blip r:embed="rId2"/>
          <a:stretch/>
        </p:blipFill>
        <p:spPr>
          <a:xfrm>
            <a:off x="7635960" y="1219320"/>
            <a:ext cx="1279440" cy="1600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4" descr="Cell phone with grid and circles representing communication and alerts"/>
          <p:cNvPicPr/>
          <p:nvPr/>
        </p:nvPicPr>
        <p:blipFill>
          <a:blip r:embed="rId1"/>
          <a:stretch/>
        </p:blipFill>
        <p:spPr>
          <a:xfrm>
            <a:off x="7683480" y="237960"/>
            <a:ext cx="1469880" cy="105732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Víctimas del robo de identida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7080" indent="-305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onga una alerta contra fraudes en su archivo crediticio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Alerta de fraude inicial - 90 dí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Alerta de fraude extendida - 7 añ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7080" indent="-305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Ponga un bloqueo de seguridad en su archivo crediticio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Limita el acceso a su informe creditic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Puede retrasar, interferir con, o prohibir la aprobación a tiempo de cualquier solicitud o petición para un crédi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nstruir su historial creditici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olicite un préstamo bancario pequeñ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olicite un crédito en un establecimiento loca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mpre algo a plazos y pague una gran cantidad de entrada, y negocie los pagos a crédit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ida a un amigo o familiar que sea su aval para un préstam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9" name="Picture 4" descr="Figure running up stairs"/>
          <p:cNvPicPr/>
          <p:nvPr/>
        </p:nvPicPr>
        <p:blipFill>
          <a:blip r:embed="rId1"/>
          <a:stretch/>
        </p:blipFill>
        <p:spPr>
          <a:xfrm>
            <a:off x="8001000" y="609480"/>
            <a:ext cx="838080" cy="9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nstruir su historial creditici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Pague sus facturas a tiemp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ida a los prestamistas que revisen sus facturas de servicios públicos y otras para otorgarle un crédit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Mantenga sus niveles de deuda bajo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Deposite dinero regularmente en una cuenta de ahorr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Picture 4" descr="Figure running up stairs"/>
          <p:cNvPicPr/>
          <p:nvPr/>
        </p:nvPicPr>
        <p:blipFill>
          <a:blip r:embed="rId1"/>
          <a:stretch/>
        </p:blipFill>
        <p:spPr>
          <a:xfrm>
            <a:off x="8001000" y="609480"/>
            <a:ext cx="838080" cy="9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ómo reparar su propio crédit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914400"/>
            <a:ext cx="6248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Obtenga una copia de su informe creditici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Póngase en contacto con la agencia de informes crediticios y los acreedores para documentar cualquier err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onsidere optar por no recibir ofertas no solicitadas de crédito para evitar contraer más deud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5" name="Picture 10" descr="Man using a laptop"/>
          <p:cNvPicPr/>
          <p:nvPr/>
        </p:nvPicPr>
        <p:blipFill>
          <a:blip r:embed="rId1"/>
          <a:stretch/>
        </p:blipFill>
        <p:spPr>
          <a:xfrm>
            <a:off x="6858000" y="1676520"/>
            <a:ext cx="1569960" cy="2361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bjetiv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Describir las implicaciones de tener un buen o un mal puntaje creditici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Identificar maneras de crear y reparar su historial crediticio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Reconocer cómo corregir errores en su informe creditici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Reconocer cómo protegerse del robo de identida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Picture 4" descr="Arrow in target bulls eye"/>
          <p:cNvPicPr/>
          <p:nvPr/>
        </p:nvPicPr>
        <p:blipFill>
          <a:blip r:embed="rId1"/>
          <a:stretch/>
        </p:blipFill>
        <p:spPr>
          <a:xfrm>
            <a:off x="7924680" y="247680"/>
            <a:ext cx="121932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Agencias de asesoría creditici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Hable con varias compañías antes de firmar un contrat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Asegúrese de que son compañías reconocida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Haga preguntas sobre servicios, costos y un plan de amortizació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8" name="Picture 4" descr="Woman handing completed paperwork back to a counselor"/>
          <p:cNvPicPr/>
          <p:nvPr/>
        </p:nvPicPr>
        <p:blipFill>
          <a:blip r:embed="rId1"/>
          <a:stretch/>
        </p:blipFill>
        <p:spPr>
          <a:xfrm>
            <a:off x="2968560" y="4565520"/>
            <a:ext cx="2676600" cy="16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Timos en la reparación de crédit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228240" y="1063800"/>
            <a:ext cx="89154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Nadie puede eliminar información correcta de su informe crediticio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uede llevar años reparar un mal crédito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Nadie puede crearle una identidad nueva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Las compañías legítimas proporcionan un servicio antes de pedirle que pague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Puede pedir usted mismo su informe crediticio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sume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6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¿Qué preguntas adicionales tienen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¿Qué han aprendido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¿Cómo evaluarían el curso de capacitación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3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nclusió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113976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an aprendido acerca de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ómo leer un informe crediti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ómo solicitar un informe crediti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Construir y reparar su crédito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Protegerse del robo de identidad y de timos en la reparación de crédi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é sabe usted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Qué saben o quieren aprender sobre los informes crediticios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¿Qué es el crédito?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533520" y="114300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¿Qué respuesta le daría un profesional financiero para definir </a:t>
            </a: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crédito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? 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86680" indent="-443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Dinero que se le entrega que no tiene que devol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Dinero que toma prestado para pagar cosas pero que también debe devol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Reconocimiento por un trabajo bien he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Los t?ítulos que aparecen al final de una pelíc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Definir el crédit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El crédito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s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La habilidad de tomar dinero pres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lgunas veces se llama présta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na promesa que hace de devolver el dinero que toma prestado más inter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Picture 5" descr="Credit card and dollar symbol"/>
          <p:cNvPicPr/>
          <p:nvPr/>
        </p:nvPicPr>
        <p:blipFill>
          <a:blip r:embed="rId1"/>
          <a:stretch/>
        </p:blipFill>
        <p:spPr>
          <a:xfrm>
            <a:off x="6934320" y="22860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La importancia del crédit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152280" y="121896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¿Por qué creen que es importante el crédito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s útil en situaciones de emerg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Es conveniente cuando no tiene dinero en efec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Le permite pagar compras grandes a lo largo de un periodo de ti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Le puede ayudar a encontrar un trabajo, una casa o un seg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1961c"/>
                </a:solidFill>
                <a:latin typeface="Helvetica Neue"/>
              </a:rPr>
              <a:t>Caso crediticio: los escritorios de Marvin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6840" y="121932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2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rvin construye y vende mesas de escritorio. Quiere tomar $1,000 prestados para una sierra de banda nueva y una lijadora el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éctr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ca. Ha pedido un préstamo al banco y ofrece en garantía sus nuevas herramientas.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2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i Marvin no devuelve o no puede devolver el préstamo, ¿qué hará el prestamista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icture 11" descr="Man sanding wood"/>
          <p:cNvPicPr/>
          <p:nvPr/>
        </p:nvPicPr>
        <p:blipFill>
          <a:blip r:embed="rId1"/>
          <a:stretch/>
        </p:blipFill>
        <p:spPr>
          <a:xfrm>
            <a:off x="457200" y="5029200"/>
            <a:ext cx="18860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0T18:57:27Z</dcterms:created>
  <dc:creator/>
  <dc:description/>
  <dc:language>en-US</dc:language>
  <cp:lastModifiedBy> </cp:lastModifiedBy>
  <dcterms:modified xsi:type="dcterms:W3CDTF">2011-02-11T21:59:53Z</dcterms:modified>
  <cp:revision>519</cp:revision>
  <dc:subject/>
  <dc:title>MoneySmart Adult Financial Education Curriculu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5F4F99E60CAF94ABC78279498A0B61D</vt:lpwstr>
  </property>
</Properties>
</file>