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7232-AD31-4603-B2DA-6A7908F3D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F71-CD5F-4295-869F-412605FB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590-01B5-441C-B205-38F6D0B6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628-2FDA-47FE-B428-F82FC37C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9B8-3099-4566-A964-552A5E5C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6B50-6AC3-4485-95D4-2270A4B5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7961-97EF-48B3-A324-91123ACF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7C3C-53B9-4665-A3B6-BF3D271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908-B45E-4016-A938-7DB490A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E621-F9B1-4532-9D2B-1876240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0E69-E849-47F4-915C-8396A658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0D83-4806-4AF0-AA73-835746DD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7B4-6F37-4729-BF45-C367D3DC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FD4B-592F-449D-9EFC-0B7B6108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61E-BF5F-4367-B083-E463345E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D0A-5E7B-4B44-9E1C-819E0DA8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1AC3-0468-41C3-8E93-C776524D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C2B7-BC17-4D49-A21B-3F0D2BFA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DDD4-1F10-41F5-8E61-E653AE08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9C3F-B6BD-49C5-9033-D922C6A9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34F4-E093-4C4E-A3B8-3A168AD9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2446C-8F60-4598-973E-042362B1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83B6-0287-47E4-998A-2719D435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873-31AE-4260-B222-298A7F33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7DBE-CA45-47C2-8421-F47EFE14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0D86-EB33-47A8-AF5B-1F41CF3A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C3A3-3B30-4412-9D43-6716A748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DEA9-E1CB-45F7-96EF-1C8ED9F3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6420-E606-437F-B282-31B48A17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A838-BE62-4350-9313-00758D5F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C9B7-F23A-4ABE-9FFD-ECD29CE8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126-B3E8-4BCF-B694-F70EBAE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345DF-C0D6-4998-B9C6-54EE8F33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78A-CB6B-43EE-9E59-3621596D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BFA9B-CCF0-4C2E-92C7-45FE6D9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19413-FA45-48FE-B76D-59162E15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01892-6E67-4AED-AD99-BDE56320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DEED2-251C-40F5-AA04-6895B5B4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1922F-C0EF-4A84-AF03-F31E287F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AE5B7-E00D-4291-821B-7EDE8CF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6ECEC-22E2-48DB-A6D6-559309B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09557-D1FB-4DCD-9CA0-28AD866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146BD-B4EC-4FCA-9830-AD7416C2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9434F-8DC1-4527-9720-A3514C30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375-21E3-42ED-936A-25500958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7B5DA-E92C-4BDC-A250-226FD27C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4142B-A7D0-4C69-9FC6-B979577D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74410-A113-48AE-9A9E-25A446F1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46BD2-4BCE-40E5-8727-FDDD1CD5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8FD1D-3818-4663-8C15-B06E132B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43FBB-C3D3-4B73-942A-14F69C33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D20EC-699D-4BB4-BCFD-EEC669DD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A1110-2D23-4C9C-A6BE-F5FF77F8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6121A-EDB2-4F8F-BAA0-896CAA09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FAAD8-A001-41E7-A468-F209E569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537-BEFB-4216-85D7-6BB733E9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12B9F-3AF6-4CC7-A9B9-B43FA83B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EC02C-9712-4EED-B130-23E020CD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E6357-0208-4B13-90CE-04582ABF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E80-0A65-4C44-8227-6E50C369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724-C6CE-4E8B-8CAF-F8E212C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E0D5-026B-4D3A-B7BF-7B2F2F567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052E-FD55-4C1C-B625-3618E0D47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6417-9C18-4E4A-B283-32425A69D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rédito y U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E2A6-1519-4F55-8C98-30A596C360D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A9B2-3DD8-49F7-8548-7F4DFD919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Su Crédito y 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B0D1-0D4A-45B7-AAFD-7EF9B34F7255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8BA-1E9B-4F26-BCD5-64897CADF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76320" y="838080"/>
            <a:ext cx="4647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Su Cr</a:t>
            </a:r>
            <a:r>
              <a:rPr b="1" lang="es-ES" sz="7600" spc="-1" strike="noStrike">
                <a:solidFill>
                  <a:srgbClr val="c1961c"/>
                </a:solidFill>
                <a:latin typeface="Helvetica Neue"/>
              </a:rPr>
              <a:t>édi</a:t>
            </a: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to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57200" y="31240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32f5a"/>
                </a:solidFill>
                <a:latin typeface="Helvetica Neue"/>
              </a:rPr>
              <a:t>y Usted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1961c"/>
                </a:solidFill>
                <a:latin typeface="Helvetica Neue"/>
              </a:rPr>
              <a:t>¿Qué es un informe creditic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informa a los prestamistas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Quién es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ántas deudas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y información negativa sobre usted en los registr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gencias de informes creditic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2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person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del registro públ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1676520"/>
            <a:ext cx="201924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registro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información podría inclui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n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tenciones fiscales no pa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a cob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car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6472080" y="15238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ancarrota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?lo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retiene todos sus bienes y propiedad y paga a plazos sus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lo 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debe ceder cierta propiedad al acr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impacto de la bancarro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¡Debería usarlo como último recurs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bancarrot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ermanece en su informe crediticio entre 7 y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ce más difícil obtener un crédito en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29264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información no aparece en los informes creditici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aldos de cuentas corrientes o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ompras realizadas con dinero o un che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formación sobre cuentas empresari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aza, sexo, religión o país ?de ori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de conduc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os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informes crediticios se utiliza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obtener préstamos u otros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conseguir ciertos tipo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una vivienda (solicitudes para un alquiler o una hipot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conseguir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otivos por los cuales se puede denegar una solicitud de présta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tiene 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ene problemas crediticios o un historial crediticio nega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s tip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untaje FICO (Fair Isaac Corporation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F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método principal que se utiliza para establecer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Puntaje de 300 a 8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puntaje está basado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Historial de pagos del pasado: 3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Deudas pendientes: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Cuánto tiempo ha tenido crédito: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Nuevas solicitude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Tipo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8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stema de puntaje crediticio más nue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untaje de 501 a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mbién agrupa puntajes por categorías de letr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untaje crediticio bueno y m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to más alto sea su puntaje crediticio, más probable será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iba una tasa de interés mej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gue menos por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se su informe crediticio regularmente para garantizar que su información es correc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203960" y="1905120"/>
            <a:ext cx="1787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l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in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excesiv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cuando está comparando tas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tros factores que influencian a los prestamis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87480"/>
            <a:ext cx="83059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otros factores podrían influenciar la decisión de un prestamista para otorgar un préstamo además de su informe y su puntaje creditici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mpo que ha estado en su res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Empl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687840"/>
            <a:ext cx="2246040" cy="149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1: ¿Quién representa el riesgo crediticio más alt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si cada persona es un riesgo creditici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33160" y="156996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derech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 los números que puede encontrar en los avisos de privacidad de su tarjeta de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Man talking on cell phone and looking down at a piece of paper in his hands"/>
          <p:cNvPicPr/>
          <p:nvPr/>
        </p:nvPicPr>
        <p:blipFill>
          <a:blip r:embed="rId1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edir su 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063800"/>
            <a:ext cx="8763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recibir una copia de su puntaje 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gencias de informes credit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mpañías que quieran venderle su puntaje crediticio como parte de un paquete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32f5a"/>
                </a:solidFill>
                <a:latin typeface="Helvetica Neue"/>
              </a:rPr>
              <a:t>Reciba un informe crediticio gratui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a vez cada 12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ando solicita un préstamo de consumidor garantizado por su viviend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lame al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e Crediticio Anual Gratu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2: Informe crediticio de Marí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sponda a las preguntas plantead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65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ir e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icar por qué el crédito es importan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el propósito de un informe crediticio y cómo se utiliz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ar una copia de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er y analizar su informe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erenciar entre el buen crédito y el ma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jemplo de un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personal/del consumid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Declaración personal/del consumid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Resumen de la cuent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Consult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del registro públ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John Q. Consumi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tilice el ejemplo del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 plant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car err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responsabilida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onerse en contacto con la agencia de informes credit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cribir una carta para disputar 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agencias de informes crediticios deben realizar una investigación en el plazo de 30 días después de recibir su car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ja su información personal (SSN, número PIN, contraseña, tarjetas de crédito/débit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ja la correspondencia que recibe y enví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nscríbase al depósito direc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Mantenga su basura financiera "limpia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sté atento a sus resúmenes bancarios y a las facturas de sus tarjetas de crédi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mpida el robo de identidad en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vise su informe crediticio todos los años y denuncie cualquier actividad fraudul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ursos de la Comisión Federal de Comercio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ment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F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Police badge and ID"/>
          <p:cNvPicPr/>
          <p:nvPr/>
        </p:nvPicPr>
        <p:blipFill>
          <a:blip r:embed="rId2"/>
          <a:stretch/>
        </p:blipFill>
        <p:spPr>
          <a:xfrm>
            <a:off x="763596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ga una alerta contra fraudes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inicial - 90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extendida - 7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onga un bloqueo de seguridad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imita el acceso a su informe credit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Puede retrasar, interferir con, o prohibir la aprobación a tiempo de cualquier solicitud o petición para un créd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préstamo bancario peque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crédito en un establecimiento lo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e algo a plazos y pague una gran cantidad de entrada, y negocie los pagos a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un amigo o familiar que sea su aval para un présta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ague sus facturas a tiemp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los prestamistas que revisen sus facturas de servicios públicos y otras para otorgarle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antenga sus niveles de deuda baj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posite dinero regularmente en una cuenta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reparar su propio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Obtenga una copia de su informe crediti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óngase en contacto con la agencia de informes crediticios y los acreedores para documentar cualquie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e optar por no recibir ofertas no solicitadas de crédito para evitar contraer más deu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0" descr="Man using a laptop"/>
          <p:cNvPicPr/>
          <p:nvPr/>
        </p:nvPicPr>
        <p:blipFill>
          <a:blip r:embed="rId1"/>
          <a:stretch/>
        </p:blipFill>
        <p:spPr>
          <a:xfrm>
            <a:off x="685800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las implicaciones de tener un buen o un mal puntaj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dentificar maneras de crear y reparar su historial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corregir errores en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gencias de asesoría creditic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ble con varias compañías antes de firmar un contra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Asegúrese de que son compañías reconoci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ga preguntas sobre servicios, costos y un plan de amortiz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565520"/>
            <a:ext cx="2676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mos en la reparación de crédi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063800"/>
            <a:ext cx="8915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eliminar información correcta de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 llevar años reparar un mal crédi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crearle una identidad nue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as compañías legítimas proporcionan un servicio antes de pedirle que pagu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pedir usted mismo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lee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solicita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nstruir y reparar su crédi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otegerse del robo de identidad y de timos en la reparación de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informes crediticio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es el crédit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respuesta le daría un profesional financiero para definir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finir 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El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habilidad d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veces se llama prést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mesa que hace de devolver el dinero que toma prestado más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a importancia d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Por qué creen que es importante el crédit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 útil en situaciones de emer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 conveniente cuando no tiene dinero en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ermite pagar compras grandes a lo largo de un periodo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uede ayudar a encontrar un trabajo, una casa o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Caso crediticio: los escritorios de Marvi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construye y vende mesas de escritorio. Quiere tomar $1,000 prestados para una sierra de banda nueva y una lijadora el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éct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ca. Ha pedido un préstamo al banco y ofrece en garantía sus nuevas herramienta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Marvin no devuelve o no puede devolver el préstamo, ¿qué hará el prestamist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</cp:lastModifiedBy>
  <dcterms:modified xsi:type="dcterms:W3CDTF">2011-02-11T21:59:53Z</dcterms:modified>
  <cp:revision>519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