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notesSlides/_rels/notesSlide28.xml.rels" ContentType="application/vnd.openxmlformats-package.relationships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28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media/image29.jpeg" ContentType="image/jpeg"/>
  <Override PartName="/ppt/media/image27.wmf" ContentType="image/x-wmf"/>
  <Override PartName="/ppt/media/image23.png" ContentType="image/png"/>
  <Override PartName="/ppt/media/image21.jpeg" ContentType="image/jpeg"/>
  <Override PartName="/ppt/media/image28.jpeg" ContentType="image/jpeg"/>
  <Override PartName="/ppt/media/image7.jpeg" ContentType="image/jpeg"/>
  <Override PartName="/ppt/media/image31.jpeg" ContentType="image/jpeg"/>
  <Override PartName="/ppt/media/image10.wmf" ContentType="image/x-wmf"/>
  <Override PartName="/ppt/media/image25.png" ContentType="image/png"/>
  <Override PartName="/ppt/media/image4.jpeg" ContentType="image/jpeg"/>
  <Override PartName="/ppt/media/image8.wmf" ContentType="image/x-wmf"/>
  <Override PartName="/ppt/media/image13.png" ContentType="image/png"/>
  <Override PartName="/ppt/media/image11.png" ContentType="image/png"/>
  <Override PartName="/ppt/media/image12.png" ContentType="image/png"/>
  <Override PartName="/ppt/media/image30.wmf" ContentType="image/x-wmf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6.png" ContentType="image/png"/>
  <Override PartName="/ppt/media/image5.jpeg" ContentType="image/jpeg"/>
  <Override PartName="/ppt/media/image20.wmf" ContentType="image/x-wmf"/>
  <Override PartName="/ppt/media/image26.jpeg" ContentType="image/jpeg"/>
  <Override PartName="/ppt/media/image3.jpeg" ContentType="image/jpeg"/>
  <Override PartName="/ppt/media/image24.jpeg" ContentType="image/jpeg"/>
  <Override PartName="/ppt/media/image2.jpeg" ContentType="image/jpeg"/>
  <Override PartName="/ppt/media/image22.jpeg" ContentType="image/jpeg"/>
  <Override PartName="/ppt/media/image9.png" ContentType="image/png"/>
  <Override PartName="/ppt/media/image16.jpeg" ContentType="image/jpeg"/>
  <Override PartName="/ppt/media/image17.jpeg" ContentType="image/jpeg"/>
  <Override PartName="/ppt/media/image15.png" ContentType="image/png"/>
  <Override PartName="/ppt/media/image18.jpeg" ContentType="image/jpeg"/>
  <Override PartName="/ppt/media/image1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notesMasterIdLst>
    <p:notesMasterId r:id="rId8"/>
  </p:notes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  <p:sldId id="265" r:id="rId18"/>
    <p:sldId id="266" r:id="rId19"/>
    <p:sldId id="267" r:id="rId20"/>
    <p:sldId id="268" r:id="rId21"/>
    <p:sldId id="269" r:id="rId22"/>
    <p:sldId id="270" r:id="rId23"/>
    <p:sldId id="271" r:id="rId24"/>
    <p:sldId id="272" r:id="rId25"/>
    <p:sldId id="273" r:id="rId26"/>
    <p:sldId id="274" r:id="rId27"/>
    <p:sldId id="275" r:id="rId28"/>
    <p:sldId id="276" r:id="rId29"/>
    <p:sldId id="277" r:id="rId30"/>
    <p:sldId id="278" r:id="rId31"/>
    <p:sldId id="279" r:id="rId32"/>
    <p:sldId id="280" r:id="rId33"/>
    <p:sldId id="281" r:id="rId34"/>
    <p:sldId id="282" r:id="rId35"/>
    <p:sldId id="283" r:id="rId36"/>
    <p:sldId id="284" r:id="rId37"/>
    <p:sldId id="285" r:id="rId38"/>
    <p:sldId id="286" r:id="rId39"/>
    <p:sldId id="287" r:id="rId40"/>
    <p:sldId id="288" r:id="rId41"/>
    <p:sldId id="289" r:id="rId42"/>
    <p:sldId id="290" r:id="rId43"/>
    <p:sldId id="291" r:id="rId44"/>
    <p:sldId id="292" r:id="rId45"/>
    <p:sldId id="293" r:id="rId46"/>
    <p:sldId id="294" r:id="rId47"/>
    <p:sldId id="295" r:id="rId48"/>
    <p:sldId id="296" r:id="rId49"/>
    <p:sldId id="297" r:id="rId50"/>
    <p:sldId id="298" r:id="rId51"/>
  </p:sldIdLst>
  <p:sldSz cx="9144000" cy="6858000"/>
  <p:notesSz cx="7023100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notesMaster" Target="notesMasters/notesMaster1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slide" Target="slides/slide10.xml"/><Relationship Id="rId19" Type="http://schemas.openxmlformats.org/officeDocument/2006/relationships/slide" Target="slides/slide11.xml"/><Relationship Id="rId20" Type="http://schemas.openxmlformats.org/officeDocument/2006/relationships/slide" Target="slides/slide12.xml"/><Relationship Id="rId21" Type="http://schemas.openxmlformats.org/officeDocument/2006/relationships/slide" Target="slides/slide13.xml"/><Relationship Id="rId22" Type="http://schemas.openxmlformats.org/officeDocument/2006/relationships/slide" Target="slides/slide14.xml"/><Relationship Id="rId23" Type="http://schemas.openxmlformats.org/officeDocument/2006/relationships/slide" Target="slides/slide15.xml"/><Relationship Id="rId24" Type="http://schemas.openxmlformats.org/officeDocument/2006/relationships/slide" Target="slides/slide16.xml"/><Relationship Id="rId25" Type="http://schemas.openxmlformats.org/officeDocument/2006/relationships/slide" Target="slides/slide17.xml"/><Relationship Id="rId26" Type="http://schemas.openxmlformats.org/officeDocument/2006/relationships/slide" Target="slides/slide18.xml"/><Relationship Id="rId27" Type="http://schemas.openxmlformats.org/officeDocument/2006/relationships/slide" Target="slides/slide19.xml"/><Relationship Id="rId28" Type="http://schemas.openxmlformats.org/officeDocument/2006/relationships/slide" Target="slides/slide20.xml"/><Relationship Id="rId29" Type="http://schemas.openxmlformats.org/officeDocument/2006/relationships/slide" Target="slides/slide21.xml"/><Relationship Id="rId30" Type="http://schemas.openxmlformats.org/officeDocument/2006/relationships/slide" Target="slides/slide22.xml"/><Relationship Id="rId31" Type="http://schemas.openxmlformats.org/officeDocument/2006/relationships/slide" Target="slides/slide23.xml"/><Relationship Id="rId32" Type="http://schemas.openxmlformats.org/officeDocument/2006/relationships/slide" Target="slides/slide24.xml"/><Relationship Id="rId33" Type="http://schemas.openxmlformats.org/officeDocument/2006/relationships/slide" Target="slides/slide25.xml"/><Relationship Id="rId34" Type="http://schemas.openxmlformats.org/officeDocument/2006/relationships/slide" Target="slides/slide26.xml"/><Relationship Id="rId35" Type="http://schemas.openxmlformats.org/officeDocument/2006/relationships/slide" Target="slides/slide27.xml"/><Relationship Id="rId36" Type="http://schemas.openxmlformats.org/officeDocument/2006/relationships/slide" Target="slides/slide28.xml"/><Relationship Id="rId37" Type="http://schemas.openxmlformats.org/officeDocument/2006/relationships/slide" Target="slides/slide29.xml"/><Relationship Id="rId38" Type="http://schemas.openxmlformats.org/officeDocument/2006/relationships/slide" Target="slides/slide30.xml"/><Relationship Id="rId39" Type="http://schemas.openxmlformats.org/officeDocument/2006/relationships/slide" Target="slides/slide31.xml"/><Relationship Id="rId40" Type="http://schemas.openxmlformats.org/officeDocument/2006/relationships/slide" Target="slides/slide32.xml"/><Relationship Id="rId41" Type="http://schemas.openxmlformats.org/officeDocument/2006/relationships/slide" Target="slides/slide33.xml"/><Relationship Id="rId42" Type="http://schemas.openxmlformats.org/officeDocument/2006/relationships/slide" Target="slides/slide34.xml"/><Relationship Id="rId43" Type="http://schemas.openxmlformats.org/officeDocument/2006/relationships/slide" Target="slides/slide35.xml"/><Relationship Id="rId44" Type="http://schemas.openxmlformats.org/officeDocument/2006/relationships/slide" Target="slides/slide36.xml"/><Relationship Id="rId45" Type="http://schemas.openxmlformats.org/officeDocument/2006/relationships/slide" Target="slides/slide37.xml"/><Relationship Id="rId46" Type="http://schemas.openxmlformats.org/officeDocument/2006/relationships/slide" Target="slides/slide38.xml"/><Relationship Id="rId47" Type="http://schemas.openxmlformats.org/officeDocument/2006/relationships/slide" Target="slides/slide39.xml"/><Relationship Id="rId48" Type="http://schemas.openxmlformats.org/officeDocument/2006/relationships/slide" Target="slides/slide40.xml"/><Relationship Id="rId49" Type="http://schemas.openxmlformats.org/officeDocument/2006/relationships/slide" Target="slides/slide41.xml"/><Relationship Id="rId50" Type="http://schemas.openxmlformats.org/officeDocument/2006/relationships/slide" Target="slides/slide42.xml"/><Relationship Id="rId51" Type="http://schemas.openxmlformats.org/officeDocument/2006/relationships/slide" Target="slides/slide43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0" y="0"/>
            <a:ext cx="7023600" cy="930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dt" idx="18"/>
          </p:nvPr>
        </p:nvSpPr>
        <p:spPr>
          <a:xfrm>
            <a:off x="3978000" y="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 type="sldImg"/>
          </p:nvPr>
        </p:nvSpPr>
        <p:spPr>
          <a:xfrm>
            <a:off x="1184040" y="698040"/>
            <a:ext cx="4654440" cy="3490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3240" rIns="9324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 type="ftr" idx="19"/>
          </p:nvPr>
        </p:nvSpPr>
        <p:spPr>
          <a:xfrm>
            <a:off x="-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 type="sldNum" idx="20"/>
          </p:nvPr>
        </p:nvSpPr>
        <p:spPr>
          <a:xfrm>
            <a:off x="397800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F249AF-5E57-4B0D-AFDE-4D43C4CE9A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1184400" y="698400"/>
            <a:ext cx="4654440" cy="349092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701280" y="4420800"/>
            <a:ext cx="5619960" cy="4189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978360" y="8842320"/>
            <a:ext cx="304308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9CC7B-3EEC-4288-9AD6-1A915A677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134FB-15C5-4DB5-BF72-E2DBEEF0F1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F8BB-DBB0-469C-8393-C7F7E543D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34C68-DD8F-4E9A-AD71-B94F82F02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7588-42FD-44ED-AC8D-0CC033E4C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CAF78-5A22-406C-94BD-0CE029C4D7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C80E3E-B268-4751-A315-92A52CFD3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B22A33-542C-4764-A294-4E975A41C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0528-93AC-48F5-A9DE-57047F40C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CC894-DA0D-4796-AE1A-B2A5DE3D8B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F3F894-4394-481F-B1A5-A8ED4370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D1307-71D8-4277-8592-17F59A68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BC28A5-7917-470A-9B1B-EA0F05CA8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1B1B7-8268-4D89-A734-E0D89059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9B8D5-EF87-4997-8899-EAF0EFFE8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8E351-08F2-4DCE-B3DA-A2AD065EA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E6B5E-51DF-426A-89B4-82B60D817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7D27B8-7A43-48BC-9789-A414BB3A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13FEEA-CB6E-4722-8D21-62E7D9672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82947C-5D40-44AE-B192-21D1BF064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AA4FB3-4247-4F3B-991E-84D99731B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343C37-FD9F-498E-9FC8-51E7CB75C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E5DD-657C-4381-A8E9-B7FF7F942F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21A90-37DC-4854-B1B2-DE0C7BB02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C90A15-1FF8-44E2-82E0-274CBECAA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2E8DA2-D793-4BDD-B4C6-0BE15CD34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E35303-6CFC-41C6-A7F4-03C70D3263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779D1D-1A2C-4698-9914-9DFCF02C3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BD73F1-EACF-4AB0-963A-ED2808593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72C262-5813-4906-B939-3269537E1E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CFAC8-BC47-4CE7-B8E2-D095940F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A12CD76-E8D2-44FC-8E70-60AFF89C4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AF17F-AFEA-4BD4-9679-15B00E6C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4BA9741-A013-488F-A015-3C257EF1D1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C593426-AB16-44B5-B8B3-25F5889F6D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9CBD80-91DE-4E24-866C-CEC44BE7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0A214E6-27D7-4D2E-960F-4C0D3959E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112C16E-0F8B-476C-BBB3-F0FF69BF5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944C1D-1891-4EC3-A073-C90FE20D8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3F433F3-CF26-449E-BD32-D10CD7E003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F7ED27-ABA6-43A7-B121-45656BF48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7A0D5EC-258C-4341-8A52-0365F1F2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ABCAFF-C7FE-46F1-9EFB-15853D377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F95A7-0185-44D7-84B5-A2E1DCB9CA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DEE14D4-8279-40E9-8744-3AD8224D2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FD5A6A1-4971-4896-96D8-AD782EA666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26265F4-1B80-4B51-9117-6BFCF459F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CE09E41-ED84-4DFC-A887-F26344F4DA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5730A78-17ED-49E3-A4C0-C8240B378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1E39611-B172-439E-B1AE-CCA3F10D7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6E5852-3638-43EF-AC77-B92868ED0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278741-EDAA-4D89-ADA5-75E3320EE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E0B8F1D-759F-4F38-BF50-483C7ECF8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6BB2F2A-6B90-44B4-BEAF-7E4BDF7E3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4B530-42E2-4FF1-87D9-D494ACC74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3201B83-4902-4DFA-B661-E15E6B4C9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1BA8655-1F4C-4850-9658-27E335447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F786ECF-1577-40F6-B009-4E380633CD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6C2F0-CFEC-45E6-85AC-84CBC60B4D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30D3-5C88-468A-BC26-F43883040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59D20-C8CC-4EC6-83A2-B92E4DD0AE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600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00206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Charge It 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E177E-9E1D-49FA-84EE-E2C639B1DCE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869CC-59F9-4C68-A5ED-B9821A9419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Su Crédito y U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FB753-FE3F-48E2-98D6-1F56149EE32C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10"/>
          <p:cNvSpPr/>
          <p:nvPr/>
        </p:nvSpPr>
        <p:spPr>
          <a:xfrm>
            <a:off x="6480000" y="5638680"/>
            <a:ext cx="2514600" cy="23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1f497d"/>
                </a:solidFill>
                <a:latin typeface="Arial Rounded MT Bold"/>
              </a:rPr>
              <a:t>Programa de Educación Financiera FDIC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BFF22C-A715-4073-80D4-DF281C631F4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7" descr="logo.jpg"/>
          <p:cNvPicPr/>
          <p:nvPr/>
        </p:nvPicPr>
        <p:blipFill>
          <a:blip r:embed="rId3"/>
          <a:stretch/>
        </p:blipFill>
        <p:spPr>
          <a:xfrm>
            <a:off x="6477120" y="614376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212" name="TextBox 9"/>
          <p:cNvSpPr/>
          <p:nvPr/>
        </p:nvSpPr>
        <p:spPr>
          <a:xfrm>
            <a:off x="6792840" y="6095880"/>
            <a:ext cx="221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Su Crédito y Ust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10"/>
          <p:cNvSpPr/>
          <p:nvPr/>
        </p:nvSpPr>
        <p:spPr>
          <a:xfrm>
            <a:off x="8534520" y="609588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8AD9-D08A-49A3-81F1-689C69FDCF55}" type="slidenum">
              <a:rPr b="0" lang="en-US" sz="1200" spc="-1" strike="noStrike">
                <a:solidFill>
                  <a:srgbClr val="00206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88188-2AEB-4325-8EED-5548FC03AB7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37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37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7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7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37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7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7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slideLayout" Target="../slideLayouts/slideLayout37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hyperlink" Target="http://www.ftc.gov/idtheft" TargetMode="External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37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7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7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37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7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Picture 2" descr="To Your Credit title slide with FDIC Money Smart logo and module logo including credit reports and loan applications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63" name="TextBox 5"/>
          <p:cNvSpPr/>
          <p:nvPr/>
        </p:nvSpPr>
        <p:spPr>
          <a:xfrm>
            <a:off x="76320" y="838080"/>
            <a:ext cx="4647960" cy="24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c1961c"/>
                </a:solidFill>
                <a:latin typeface="Helvetica Neue"/>
              </a:rPr>
              <a:t>Su Cr</a:t>
            </a:r>
            <a:r>
              <a:rPr b="1" lang="es-ES" sz="7600" spc="-1" strike="noStrike">
                <a:solidFill>
                  <a:srgbClr val="c1961c"/>
                </a:solidFill>
                <a:latin typeface="Helvetica Neue"/>
              </a:rPr>
              <a:t>édi</a:t>
            </a:r>
            <a:r>
              <a:rPr b="1" lang="en-US" sz="7600" spc="-1" strike="noStrike">
                <a:solidFill>
                  <a:srgbClr val="c1961c"/>
                </a:solidFill>
                <a:latin typeface="Helvetica Neue"/>
              </a:rPr>
              <a:t>to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6"/>
          <p:cNvSpPr/>
          <p:nvPr/>
        </p:nvSpPr>
        <p:spPr>
          <a:xfrm>
            <a:off x="457200" y="3124080"/>
            <a:ext cx="4267080" cy="12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600" spc="-1" strike="noStrike">
                <a:solidFill>
                  <a:srgbClr val="132f5a"/>
                </a:solidFill>
                <a:latin typeface="Helvetica Neue"/>
              </a:rPr>
              <a:t>y Usted</a:t>
            </a:r>
            <a:endParaRPr b="0" lang="en-US" sz="7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8"/>
          <p:cNvSpPr/>
          <p:nvPr/>
        </p:nvSpPr>
        <p:spPr>
          <a:xfrm>
            <a:off x="1143000" y="5016600"/>
            <a:ext cx="419112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c1961c"/>
                </a:solidFill>
                <a:latin typeface="Arial Rounded MT Bold"/>
              </a:rPr>
              <a:t>Programa de Educación Financiera de la FD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c1961c"/>
                </a:solidFill>
                <a:latin typeface="Helvetica Neue"/>
              </a:rPr>
              <a:t>¿Qué es un informe creditici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 informa a los prestamistas d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Quién es us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uántas deudas tie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Si ha realizado sus pagos a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1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Si hay información negativa sobre usted en los registros públ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gencias de informes creditici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Group 4" descr=""/>
          <p:cNvPicPr/>
          <p:nvPr/>
        </p:nvPicPr>
        <p:blipFill>
          <a:blip r:embed="rId1"/>
          <a:stretch/>
        </p:blipFill>
        <p:spPr>
          <a:xfrm>
            <a:off x="2230560" y="2219400"/>
            <a:ext cx="3755880" cy="1365120"/>
          </a:xfrm>
          <a:prstGeom prst="rect">
            <a:avLst/>
          </a:prstGeom>
          <a:ln w="0">
            <a:noFill/>
          </a:ln>
        </p:spPr>
      </p:pic>
      <p:pic>
        <p:nvPicPr>
          <p:cNvPr id="292" name="Group 13" descr=""/>
          <p:cNvPicPr/>
          <p:nvPr/>
        </p:nvPicPr>
        <p:blipFill>
          <a:blip r:embed="rId2"/>
          <a:stretch/>
        </p:blipFill>
        <p:spPr>
          <a:xfrm>
            <a:off x="622440" y="1042920"/>
            <a:ext cx="3760560" cy="1359000"/>
          </a:xfrm>
          <a:prstGeom prst="rect">
            <a:avLst/>
          </a:prstGeom>
          <a:ln w="0">
            <a:noFill/>
          </a:ln>
        </p:spPr>
      </p:pic>
      <p:pic>
        <p:nvPicPr>
          <p:cNvPr id="293" name="Group 16" descr=""/>
          <p:cNvPicPr/>
          <p:nvPr/>
        </p:nvPicPr>
        <p:blipFill>
          <a:blip r:embed="rId3"/>
          <a:stretch/>
        </p:blipFill>
        <p:spPr>
          <a:xfrm>
            <a:off x="3822840" y="3365640"/>
            <a:ext cx="3760560" cy="135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formación del Inform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formación person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istorial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nformación del registro públic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6" name="Picture 5" descr="Experian credit report"/>
          <p:cNvPicPr/>
          <p:nvPr/>
        </p:nvPicPr>
        <p:blipFill>
          <a:blip r:embed="rId1"/>
          <a:stretch/>
        </p:blipFill>
        <p:spPr>
          <a:xfrm>
            <a:off x="6172200" y="1676520"/>
            <a:ext cx="2019240" cy="1726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formación del registro públic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a información podría incluir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Sentenci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tenciones fiscales no paga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uentas a cobra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ancarrot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9" name="Picture 7" descr="Fingers on keyboard"/>
          <p:cNvPicPr/>
          <p:nvPr/>
        </p:nvPicPr>
        <p:blipFill>
          <a:blip r:embed="rId1"/>
          <a:srcRect l="10754" t="0" r="7524" b="0"/>
          <a:stretch/>
        </p:blipFill>
        <p:spPr>
          <a:xfrm>
            <a:off x="6472080" y="1523880"/>
            <a:ext cx="2367000" cy="289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ancarrota pers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pítu?lo 13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a persona endeudada retiene todos sus bienes y propiedad y paga a plazos sus deud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apítulo 7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a persona endeudada debe ceder cierta propiedad al acree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El impacto de la bancarrot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¡Debería usarlo como último recurso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a bancarrota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ermanece en su informe crediticio entre 7 y 10 añ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Hace más difícil obtener un crédito en el fut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4" name="Picture 5" descr="One hundred dollar bills in background and troubled man in forefront"/>
          <p:cNvPicPr/>
          <p:nvPr/>
        </p:nvPicPr>
        <p:blipFill>
          <a:blip r:embed="rId1"/>
          <a:stretch/>
        </p:blipFill>
        <p:spPr>
          <a:xfrm>
            <a:off x="3352680" y="4292640"/>
            <a:ext cx="2248200" cy="14986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¿Qué información no aparece en los informes crediticios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456840" y="121932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lvl="1" marL="713160" indent="-27432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aldos de cuentas corrientes o de ahorr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Ingres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istorial médic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Compras realizadas con dinero o un chequ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Información sobre cuentas empresarial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aza, sexo, religión o país ?de orige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istorial de conducció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7600" indent="-3261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3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3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3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3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3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30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Usos del inform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os informes crediticios se utiliza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ra obtener préstamos u otros créd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ara conseguir ciertos tipos de trabaj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ara una vivienda (solicitudes para un alquiler o una hipotec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ra conseguir un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09" name="Picture 5" descr="Lender reviewing paperwork with a couple"/>
          <p:cNvPicPr/>
          <p:nvPr/>
        </p:nvPicPr>
        <p:blipFill>
          <a:blip r:embed="rId1"/>
          <a:stretch/>
        </p:blipFill>
        <p:spPr>
          <a:xfrm>
            <a:off x="7086600" y="533520"/>
            <a:ext cx="160020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Motivos por los cuales se puede denegar una solicitud de préstam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456840" y="987480"/>
            <a:ext cx="51814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 tiene historial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iene problemas crediticios o un historial crediticio negativ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2" name="Picture 17" descr="Woman working on paying her bills"/>
          <p:cNvPicPr/>
          <p:nvPr/>
        </p:nvPicPr>
        <p:blipFill>
          <a:blip r:embed="rId1"/>
          <a:stretch/>
        </p:blipFill>
        <p:spPr>
          <a:xfrm>
            <a:off x="5943600" y="2057400"/>
            <a:ext cx="2286000" cy="23004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untaj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53352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Un número que ayuda a los prestamistas a determinar su riesgo credit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os tipo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untaje FICO (Fair Isaac Corporation Sco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antageSc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15" name="Picture 10" descr="Circle graphic containing a document icon"/>
          <p:cNvPicPr/>
          <p:nvPr/>
        </p:nvPicPr>
        <p:blipFill>
          <a:blip r:embed="rId1"/>
          <a:stretch/>
        </p:blipFill>
        <p:spPr>
          <a:xfrm>
            <a:off x="6705720" y="3124080"/>
            <a:ext cx="1904760" cy="185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ienvenid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962520" y="1676520"/>
            <a:ext cx="41148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gend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Normas básic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14440" indent="-51444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resentacione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8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Puntaje FIC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457200" y="960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0320" indent="-309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l método principal que se utiliza para establecer un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Puntaje de 300 a 85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10320" indent="-3092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El puntaje está basado en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Historial de pagos del pasado: 3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Deudas pendientes: 3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Cuánto tiempo ha tenido crédito: 15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Nuevas solicitudes de crédito: 1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76080" indent="-25992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Tipos de crédito: 10%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VantageScore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80880" y="9903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Sistema de puntaje crediticio más nuev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untaje de 501 a 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También agrupa puntajes por categorías de letras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 = 901-99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B = 801-9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 = 701-8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 = 601-7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F = 501-6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untaje crediticio bueno y mal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Cuanto más alto sea su puntaje crediticio, más probable será qu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Reciba una tasa de interés mejo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Pague menos por tomar dinero pr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vise su informe crediticio regularmente para garantizar que su información es correcta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2" name="Picture 4" descr="Figure standing before a chart with the data arrow rising"/>
          <p:cNvPicPr/>
          <p:nvPr/>
        </p:nvPicPr>
        <p:blipFill>
          <a:blip r:embed="rId1"/>
          <a:stretch/>
        </p:blipFill>
        <p:spPr>
          <a:xfrm>
            <a:off x="7203960" y="1905120"/>
            <a:ext cx="1787760" cy="144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sult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voluntari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involuntari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excesiv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nsultas cuando está comparando tas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5" name="Picture 11" descr="Symbolism of technology with moving documents and the word &quot;download&quot;"/>
          <p:cNvPicPr/>
          <p:nvPr/>
        </p:nvPicPr>
        <p:blipFill>
          <a:blip r:embed="rId1"/>
          <a:stretch/>
        </p:blipFill>
        <p:spPr>
          <a:xfrm>
            <a:off x="5867280" y="1600200"/>
            <a:ext cx="2503440" cy="1676520"/>
          </a:xfrm>
          <a:prstGeom prst="rect">
            <a:avLst/>
          </a:prstGeom>
          <a:ln cap="sq" w="381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3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Otros factores que influencian a los prestamista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457200" y="987480"/>
            <a:ext cx="830592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otros factores podrían influenciar la decisión de un prestamista para otorgar un préstamo además de su informe y su puntaje creditici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Ingres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</a:rPr>
              <a:t>Tiempo que ha estado en su residenci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422928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Emple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8" name="Picture 4" descr="Earned income credit (EIC) table"/>
          <p:cNvPicPr/>
          <p:nvPr/>
        </p:nvPicPr>
        <p:blipFill>
          <a:blip r:embed="rId1"/>
          <a:stretch/>
        </p:blipFill>
        <p:spPr>
          <a:xfrm>
            <a:off x="1676520" y="3687840"/>
            <a:ext cx="2246040" cy="14936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3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3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3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3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dad 1: ¿Quién representa el riesgo crediticio más alto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457200" y="99072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56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	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7080" indent="-3056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1 en la Guía para los Participantes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07080" indent="-3056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a cada situación plante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etermine si cada persona es un riesgo crediticio o n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45920" indent="-462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7080" indent="-305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 txBox="1"/>
          <p:nvPr/>
        </p:nvSpPr>
        <p:spPr>
          <a:xfrm>
            <a:off x="533160" y="1569960"/>
            <a:ext cx="8305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 su derecho!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lame al 1-888-5-OPTOUT (567-8688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Visite </a:t>
            </a: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</a:rPr>
              <a:t>www.optoutprescreen.co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lame a los números que puede encontrar en los avisos de privacidad de su tarjeta de crédi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6840" y="380880"/>
            <a:ext cx="7086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ptar por no compartir información personal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4" name="Picture 5" descr="Man talking on cell phone and looking down at a piece of paper in his hands"/>
          <p:cNvPicPr/>
          <p:nvPr/>
        </p:nvPicPr>
        <p:blipFill>
          <a:blip r:embed="rId1"/>
          <a:stretch/>
        </p:blipFill>
        <p:spPr>
          <a:xfrm>
            <a:off x="7086600" y="533520"/>
            <a:ext cx="1447920" cy="2168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Pedir su puntaj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228600" y="1063800"/>
            <a:ext cx="876312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0760" indent="-319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uede recibir una copia de su puntaje d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Agencias de informes creditic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Compañías que quieran venderle su puntaje crediticio como parte de un paquete de produc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0760" indent="-31932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132f5a"/>
                </a:solidFill>
                <a:latin typeface="Helvetica Neue"/>
              </a:rPr>
              <a:t>Reciba un informe crediticio gratuit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Una vez cada 12 me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uando solicita un préstamo de consumidor garantizado por su vivienda pers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 algn="ctr">
              <a:lnSpc>
                <a:spcPct val="100000"/>
              </a:lnSpc>
              <a:spcBef>
                <a:spcPts val="275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1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Visite 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</a:rPr>
              <a:t>www.annualcreditreport.com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Llame al 877-322-8228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criba a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nnual Credit Report Request Servi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. O. Box 10528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Atlanta, GA 30348-5281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 algn="ctr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Informe Crediticio Anual Gratu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dad 2: Informe crediticio de Marí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Realice la Actividad 2 en la Guía para los Participante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Lea la situación plantead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Responda a las preguntas planteada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té preparado para explicar sus respuestas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tiv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456840" y="12654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efinir el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xplicar por qué el crédito es important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Describir el propósito de un informe crediticio y cómo se utiliz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licitar una copia de su informe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eer y analizar su informe crediticio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Diferenciar entre el buen crédito y el mal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1" name="Picture 4" descr="Arrow in target bulls eye"/>
          <p:cNvPicPr/>
          <p:nvPr/>
        </p:nvPicPr>
        <p:blipFill>
          <a:blip r:embed="rId1"/>
          <a:stretch/>
        </p:blipFill>
        <p:spPr>
          <a:xfrm>
            <a:off x="7924680" y="247680"/>
            <a:ext cx="1219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Ejemplo de un informe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151920" y="1143000"/>
            <a:ext cx="312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Información personal/del consumidor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Declaración personal/del consumidor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Resumen de la cuenta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Consultas 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478080" indent="-478080">
              <a:lnSpc>
                <a:spcPct val="100000"/>
              </a:lnSpc>
              <a:buClr>
                <a:srgbClr val="132f5a"/>
              </a:buClr>
              <a:buFont typeface="Helvetica Neue"/>
              <a:buAutoNum type="arabicPeriod"/>
              <a:tabLst>
                <a:tab algn="l" pos="103124160"/>
              </a:tabLst>
            </a:pPr>
            <a:r>
              <a:rPr b="1" lang="en-US" sz="2600" spc="-1" strike="noStrike">
                <a:solidFill>
                  <a:srgbClr val="132f5a"/>
                </a:solidFill>
                <a:latin typeface="Helvetica Neue"/>
                <a:ea typeface="Times New Roman"/>
              </a:rPr>
              <a:t>Información del registro público</a:t>
            </a: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44" name="Picture 4" descr="Sample credit report"/>
          <p:cNvPicPr/>
          <p:nvPr/>
        </p:nvPicPr>
        <p:blipFill>
          <a:blip r:embed="rId1"/>
          <a:stretch/>
        </p:blipFill>
        <p:spPr>
          <a:xfrm>
            <a:off x="3581280" y="990720"/>
            <a:ext cx="5172120" cy="5333760"/>
          </a:xfrm>
          <a:prstGeom prst="rect">
            <a:avLst/>
          </a:prstGeom>
          <a:ln w="0">
            <a:noFill/>
          </a:ln>
        </p:spPr>
      </p:pic>
      <p:sp>
        <p:nvSpPr>
          <p:cNvPr id="345" name="Rectangle 7"/>
          <p:cNvSpPr/>
          <p:nvPr/>
        </p:nvSpPr>
        <p:spPr>
          <a:xfrm>
            <a:off x="3645000" y="1066680"/>
            <a:ext cx="5041800" cy="99072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le 8"/>
          <p:cNvSpPr/>
          <p:nvPr/>
        </p:nvSpPr>
        <p:spPr>
          <a:xfrm>
            <a:off x="3645000" y="2057400"/>
            <a:ext cx="5041800" cy="53352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Rectangle 9"/>
          <p:cNvSpPr/>
          <p:nvPr/>
        </p:nvSpPr>
        <p:spPr>
          <a:xfrm>
            <a:off x="3643200" y="2576520"/>
            <a:ext cx="5043600" cy="306216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10"/>
          <p:cNvSpPr/>
          <p:nvPr/>
        </p:nvSpPr>
        <p:spPr>
          <a:xfrm>
            <a:off x="3645000" y="5626080"/>
            <a:ext cx="5041800" cy="622440"/>
          </a:xfrm>
          <a:prstGeom prst="rect">
            <a:avLst/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0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82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3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2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3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Actividad 3: John Q. Consumidor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alice la Actividad 3 en la Guía para los Participantes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Utilice el ejemplo del informe creditici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Responda a las preguntas plantead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1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Buscar errore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 su responsabilidad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onerse en contacto con la agencia de informes creditici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cribir una carta para disputar el err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Las agencias de informes crediticios deben realizar una investigación en el plazo de 30 días después de recibir su carta.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4" name="Picture 6" descr="Circle graphic with an envelope in the center"/>
          <p:cNvPicPr/>
          <p:nvPr/>
        </p:nvPicPr>
        <p:blipFill>
          <a:blip r:embed="rId1"/>
          <a:stretch/>
        </p:blipFill>
        <p:spPr>
          <a:xfrm>
            <a:off x="7848720" y="533520"/>
            <a:ext cx="1143000" cy="114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8390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c1961c"/>
                </a:solidFill>
                <a:latin typeface="Helvetica Neue"/>
              </a:rPr>
              <a:t>Minimice su riesgo de robo de identidad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304920" y="106668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roteja su información personal (SSN, número PIN, contraseña, tarjetas de crédito/débito)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roteja la correspondencia que recibe y envía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Inscríbase al depósito direc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Mantenga su basura financiera "limpia"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Esté atento a sus resúmenes bancarios y a las facturas de sus tarjetas de crédit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57" name="Picture 4" descr="Down arrow next to a smiling figure pointing down"/>
          <p:cNvPicPr/>
          <p:nvPr/>
        </p:nvPicPr>
        <p:blipFill>
          <a:blip r:embed="rId1"/>
          <a:stretch/>
        </p:blipFill>
        <p:spPr>
          <a:xfrm>
            <a:off x="7391520" y="3124080"/>
            <a:ext cx="1371600" cy="101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304920" y="38088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500" spc="-1" strike="noStrike">
                <a:solidFill>
                  <a:srgbClr val="c1961c"/>
                </a:solidFill>
                <a:latin typeface="Helvetica Neue"/>
              </a:rPr>
              <a:t>Minimice su riesgo de robo de identidad</a:t>
            </a:r>
            <a:endParaRPr b="1" lang="en-US" sz="3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 txBox="1"/>
          <p:nvPr/>
        </p:nvSpPr>
        <p:spPr>
          <a:xfrm>
            <a:off x="456840" y="129528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Impida el robo de identidad en Interne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vise su informe crediticio todos los años y denuncie cualquier actividad fraudulenta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ursos de la Comisión Federal de Comercio (FTC):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132f5a"/>
                </a:solidFill>
                <a:uFillTx/>
                <a:latin typeface="Helvetica Neue"/>
              </a:rPr>
              <a:t>www.ftc.gov/idtheft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1-877-IDTHEFT (438-433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0" name="Picture 4" descr="Down arrow next to a smiling figure pointing down"/>
          <p:cNvPicPr/>
          <p:nvPr/>
        </p:nvPicPr>
        <p:blipFill>
          <a:blip r:embed="rId1"/>
          <a:stretch/>
        </p:blipFill>
        <p:spPr>
          <a:xfrm>
            <a:off x="6858000" y="4343400"/>
            <a:ext cx="1371600" cy="101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Víctimas del robo de ident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152280" y="914040"/>
            <a:ext cx="88394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ome medidas inmediatamente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e una denuncia ante la policía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óngase en contacto con sus acreedo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Haga un seguimiento por escri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Utilice la Declaración de Robo de Identidad en </a:t>
            </a:r>
            <a:r>
              <a:rPr b="0" lang="en-US" sz="26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ftc.gov/idthef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resente una denuncia ante la FTC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132f5a"/>
                </a:solidFill>
                <a:latin typeface="Helvetica Neue"/>
                <a:ea typeface="Arial"/>
              </a:rPr>
              <a:t>Pida un comprobante de que las cuentas disputadas han sido cerradas y que las deudas fraudulentas se han liquidad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3" name="Picture 5" descr="Police badge and ID"/>
          <p:cNvPicPr/>
          <p:nvPr/>
        </p:nvPicPr>
        <p:blipFill>
          <a:blip r:embed="rId2"/>
          <a:stretch/>
        </p:blipFill>
        <p:spPr>
          <a:xfrm>
            <a:off x="7635960" y="1219320"/>
            <a:ext cx="1279440" cy="16002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4" name="Picture 4" descr="Cell phone with grid and circles representing communication and alerts"/>
          <p:cNvPicPr/>
          <p:nvPr/>
        </p:nvPicPr>
        <p:blipFill>
          <a:blip r:embed="rId1"/>
          <a:stretch/>
        </p:blipFill>
        <p:spPr>
          <a:xfrm>
            <a:off x="7683480" y="237960"/>
            <a:ext cx="1469880" cy="1057320"/>
          </a:xfrm>
          <a:prstGeom prst="rect">
            <a:avLst/>
          </a:prstGeom>
          <a:ln w="0">
            <a:noFill/>
          </a:ln>
        </p:spPr>
      </p:pic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Víctimas del robo de identidad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457200" y="990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7080" indent="-305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onga una alerta contra fraudes en su archivo creditici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Alerta de fraude inicial - 90 día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Alerta de fraude extendida - 7 año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07080" indent="-3056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onga un bloqueo de seguridad en su archivo crediticio: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Limita el acceso a su informe creditici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132f5a"/>
                </a:solidFill>
                <a:latin typeface="Helvetica Neue"/>
              </a:rPr>
              <a:t>Puede retrasar, interferir con, o prohibir la aprobación a tiempo de cualquier solicitud o petición para un crédi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68520" indent="-257040">
              <a:lnSpc>
                <a:spcPct val="100000"/>
              </a:lnSpc>
              <a:spcBef>
                <a:spcPts val="64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struir su historial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licite un préstamo bancario pequeñ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olicite un crédito en un establecimiento local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Compre algo a plazos y pague una gran cantidad de entrada, y negocie los pagos a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ida a un amigo o familiar que sea su aval para un préstam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24000" indent="-32256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9" name="Picture 4" descr="Figure running up stairs"/>
          <p:cNvPicPr/>
          <p:nvPr/>
        </p:nvPicPr>
        <p:blipFill>
          <a:blip r:embed="rId1"/>
          <a:stretch/>
        </p:blipFill>
        <p:spPr>
          <a:xfrm>
            <a:off x="8001000" y="609480"/>
            <a:ext cx="8380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struir su historial creditici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Pague sus facturas a tiemp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Pida a los prestamistas que revisen sus facturas de servicios públicos y otras para otorgarle un crédi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Mantenga sus niveles de deuda bajo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Deposite dinero regularmente en una cuenta de ahorr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2" name="Picture 4" descr="Figure running up stairs"/>
          <p:cNvPicPr/>
          <p:nvPr/>
        </p:nvPicPr>
        <p:blipFill>
          <a:blip r:embed="rId1"/>
          <a:stretch/>
        </p:blipFill>
        <p:spPr>
          <a:xfrm>
            <a:off x="8001000" y="609480"/>
            <a:ext cx="838080" cy="92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ómo reparar su propio créd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 txBox="1"/>
          <p:nvPr/>
        </p:nvSpPr>
        <p:spPr>
          <a:xfrm>
            <a:off x="456840" y="914400"/>
            <a:ext cx="6248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Obtenga una copia de su informe crediticio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óngase en contacto con la agencia de informes crediticios y los acreedores para documentar cualquier error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Considere optar por no recibir ofertas no solicitadas de crédito para evitar contraer más deudas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5" name="Picture 10" descr="Man using a laptop"/>
          <p:cNvPicPr/>
          <p:nvPr/>
        </p:nvPicPr>
        <p:blipFill>
          <a:blip r:embed="rId1"/>
          <a:stretch/>
        </p:blipFill>
        <p:spPr>
          <a:xfrm>
            <a:off x="6858000" y="1676520"/>
            <a:ext cx="1569960" cy="23619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Objetiv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1417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Describir las implicaciones de tener un buen o un mal puntaje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Identificar maneras de crear y reparar su historial crediticio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cómo corregir errores en su informe creditici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Reconocer cómo protegerse del robo de identidad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4" name="Picture 4" descr="Arrow in target bulls eye"/>
          <p:cNvPicPr/>
          <p:nvPr/>
        </p:nvPicPr>
        <p:blipFill>
          <a:blip r:embed="rId1"/>
          <a:stretch/>
        </p:blipFill>
        <p:spPr>
          <a:xfrm>
            <a:off x="7924680" y="247680"/>
            <a:ext cx="1219320" cy="127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c1961c"/>
                </a:solidFill>
                <a:latin typeface="Helvetica Neue"/>
              </a:rPr>
              <a:t>Agencias de asesoría crediticia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 txBox="1"/>
          <p:nvPr/>
        </p:nvSpPr>
        <p:spPr>
          <a:xfrm>
            <a:off x="457200" y="1143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able con varias compañías antes de firmar un contrato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Asegúrese de que son compañías reconocidas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Haga preguntas sobre servicios, costos y un plan de amortización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78" name="Picture 4" descr="Woman handing completed paperwork back to a counselor"/>
          <p:cNvPicPr/>
          <p:nvPr/>
        </p:nvPicPr>
        <p:blipFill>
          <a:blip r:embed="rId1"/>
          <a:stretch/>
        </p:blipFill>
        <p:spPr>
          <a:xfrm>
            <a:off x="2968560" y="4565520"/>
            <a:ext cx="2676600" cy="16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Timos en la reparación de créditos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 txBox="1"/>
          <p:nvPr/>
        </p:nvSpPr>
        <p:spPr>
          <a:xfrm>
            <a:off x="228240" y="1063800"/>
            <a:ext cx="89154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Nadie puede eliminar información correcta de su informe creditici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32f5a"/>
                </a:solidFill>
                <a:latin typeface="Helvetica Neue"/>
              </a:rPr>
              <a:t>Puede llevar años reparar un mal crédit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Nadie puede crearle una identidad nueva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Las compañías legítimas proporcionan un servicio antes de pedirle que paguen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4440" indent="-33300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32f5a"/>
                </a:solidFill>
                <a:latin typeface="Helvetica Neue"/>
              </a:rPr>
              <a:t>Puede pedir usted mismo su informe crediticio.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Resume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preguntas adicionales tiene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han aprendid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¿Cómo evaluarían el curso de capacitación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66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83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Conclusión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457200" y="113976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Han aprendido acerca de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ómo leer un informe credit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Cómo solicitar un informe creditici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Construir y reparar su crédito</a:t>
            </a: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Protegerse del robo de identidad y de timos en la reparación de crédit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¿Qué sabe usted?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¿Qué saben o quieren aprender sobre los informes crediticios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38040" indent="-3380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7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¿Qué es el crédito? 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33520" y="1143000"/>
            <a:ext cx="8534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0840" indent="-32940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Qué respuesta le daría un profesional financiero para definir </a:t>
            </a: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crédito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? 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Dinero que se le entrega que no tiene que dev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Dinero que toma prestado para pagar cosas pero que también debe devol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Reconocimiento por un trabajo bien hech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886680" indent="-44316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os t?ítulos que aparecen al final de una películ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0840" indent="-32940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" dur="5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9" dur="5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2" dur="5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Definir el créd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</a:rPr>
              <a:t>El crédito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es: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a habilidad de tomar dinero presta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gunas veces se llama présta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Una promesa que hace de devolver el dinero que toma prestado más intere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Picture 5" descr="Credit card and dollar symbol"/>
          <p:cNvPicPr/>
          <p:nvPr/>
        </p:nvPicPr>
        <p:blipFill>
          <a:blip r:embed="rId1"/>
          <a:stretch/>
        </p:blipFill>
        <p:spPr>
          <a:xfrm>
            <a:off x="6934320" y="228600"/>
            <a:ext cx="198108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</a:rPr>
              <a:t>La importancia del crédito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 txBox="1"/>
          <p:nvPr/>
        </p:nvSpPr>
        <p:spPr>
          <a:xfrm>
            <a:off x="152280" y="1218960"/>
            <a:ext cx="876312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¿Por qué creen que es importante el crédito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</a:rPr>
              <a:t>Es útil en situaciones de emerg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Es conveniente cuando no tiene dinero en efecti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 permite pagar compras grandes a lo largo de un periodo de tiemp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132f5a"/>
                </a:solidFill>
                <a:latin typeface="Helvetica Neue"/>
              </a:rPr>
              <a:t>Le puede ayudar a encontrar un trabajo, una casa o un segur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2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2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686800" cy="83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1961c"/>
                </a:solidFill>
                <a:latin typeface="Helvetica Neue"/>
              </a:rPr>
              <a:t>Caso crediticio: los escritorios de Marvin</a:t>
            </a:r>
            <a:endParaRPr b="1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1219320"/>
            <a:ext cx="8381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3984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Marvin construye y vende mesas de escritorio. Quiere tomar $1,000 prestados para una sierra de banda nueva y una lijadora el</a:t>
            </a:r>
            <a:r>
              <a:rPr b="1" lang="es-ES" sz="3000" spc="-1" strike="noStrike">
                <a:solidFill>
                  <a:srgbClr val="132f5a"/>
                </a:solidFill>
                <a:latin typeface="Helvetica Neue"/>
              </a:rPr>
              <a:t>éctr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ica. Ha pedido un préstamo al banco y ofrece en garantía sus nuevas herramientas. 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20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</a:rPr>
              <a:t>Si Marvin no devuelve o no puede devolver el préstamo, ¿qué hará el prestamista?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7" name="Picture 11" descr="Man sanding wood"/>
          <p:cNvPicPr/>
          <p:nvPr/>
        </p:nvPicPr>
        <p:blipFill>
          <a:blip r:embed="rId1"/>
          <a:stretch/>
        </p:blipFill>
        <p:spPr>
          <a:xfrm>
            <a:off x="457200" y="5029200"/>
            <a:ext cx="1886040" cy="167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0T18:57:27Z</dcterms:created>
  <dc:creator/>
  <dc:description/>
  <dc:language>en-US</dc:language>
  <cp:lastModifiedBy> </cp:lastModifiedBy>
  <dcterms:modified xsi:type="dcterms:W3CDTF">2011-02-11T21:59:53Z</dcterms:modified>
  <cp:revision>519</cp:revision>
  <dc:subject/>
  <dc:title>MoneySmart Adult Financial Education Curriculu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05F4F99E60CAF94ABC78279498A0B61D</vt:lpwstr>
  </property>
</Properties>
</file>