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28.xml.rels" ContentType="application/vnd.openxmlformats-package.relationships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29.jpeg" ContentType="image/jpeg"/>
  <Override PartName="/ppt/media/image27.wmf" ContentType="image/x-wmf"/>
  <Override PartName="/ppt/media/image23.png" ContentType="image/png"/>
  <Override PartName="/ppt/media/image21.jpeg" ContentType="image/jpeg"/>
  <Override PartName="/ppt/media/image28.jpeg" ContentType="image/jpeg"/>
  <Override PartName="/ppt/media/image7.jpeg" ContentType="image/jpeg"/>
  <Override PartName="/ppt/media/image31.jpeg" ContentType="image/jpeg"/>
  <Override PartName="/ppt/media/image10.wmf" ContentType="image/x-wmf"/>
  <Override PartName="/ppt/media/image25.png" ContentType="image/png"/>
  <Override PartName="/ppt/media/image4.jpeg" ContentType="image/jpeg"/>
  <Override PartName="/ppt/media/image8.wmf" ContentType="image/x-wmf"/>
  <Override PartName="/ppt/media/image13.png" ContentType="image/png"/>
  <Override PartName="/ppt/media/image11.png" ContentType="image/png"/>
  <Override PartName="/ppt/media/image12.png" ContentType="image/png"/>
  <Override PartName="/ppt/media/image30.wmf" ContentType="image/x-wmf"/>
  <Override PartName="/ppt/media/image32.png" ContentType="image/png"/>
  <Override PartName="/ppt/media/image1.jpeg" ContentType="image/jpeg"/>
  <Override PartName="/ppt/media/image33.png" ContentType="image/png"/>
  <Override PartName="/ppt/media/image14.jpeg" ContentType="image/jpeg"/>
  <Override PartName="/ppt/media/image6.png" ContentType="image/png"/>
  <Override PartName="/ppt/media/image5.jpeg" ContentType="image/jpeg"/>
  <Override PartName="/ppt/media/image20.wmf" ContentType="image/x-wmf"/>
  <Override PartName="/ppt/media/image26.jpeg" ContentType="image/jpeg"/>
  <Override PartName="/ppt/media/image3.jpeg" ContentType="image/jpeg"/>
  <Override PartName="/ppt/media/image24.jpeg" ContentType="image/jpeg"/>
  <Override PartName="/ppt/media/image2.jpeg" ContentType="image/jpeg"/>
  <Override PartName="/ppt/media/image22.jpeg" ContentType="image/jpeg"/>
  <Override PartName="/ppt/media/image9.png" ContentType="image/png"/>
  <Override PartName="/ppt/media/image16.jpeg" ContentType="image/jpeg"/>
  <Override PartName="/ppt/media/image17.jpeg" ContentType="image/jpeg"/>
  <Override PartName="/ppt/media/image15.png" ContentType="image/png"/>
  <Override PartName="/ppt/media/image18.jpeg" ContentType="image/jpeg"/>
  <Override PartName="/ppt/media/image1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  <p:sldId id="291" r:id="rId44"/>
    <p:sldId id="292" r:id="rId45"/>
    <p:sldId id="293" r:id="rId46"/>
    <p:sldId id="294" r:id="rId47"/>
    <p:sldId id="295" r:id="rId48"/>
    <p:sldId id="296" r:id="rId49"/>
    <p:sldId id="297" r:id="rId50"/>
    <p:sldId id="298" r:id="rId51"/>
  </p:sldIdLst>
  <p:sldSz cx="9144000" cy="6858000"/>
  <p:notesSz cx="7023100" cy="9309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slide" Target="slides/slide36.xml"/><Relationship Id="rId45" Type="http://schemas.openxmlformats.org/officeDocument/2006/relationships/slide" Target="slides/slide37.xml"/><Relationship Id="rId46" Type="http://schemas.openxmlformats.org/officeDocument/2006/relationships/slide" Target="slides/slide38.xml"/><Relationship Id="rId47" Type="http://schemas.openxmlformats.org/officeDocument/2006/relationships/slide" Target="slides/slide39.xml"/><Relationship Id="rId48" Type="http://schemas.openxmlformats.org/officeDocument/2006/relationships/slide" Target="slides/slide40.xml"/><Relationship Id="rId49" Type="http://schemas.openxmlformats.org/officeDocument/2006/relationships/slide" Target="slides/slide41.xml"/><Relationship Id="rId50" Type="http://schemas.openxmlformats.org/officeDocument/2006/relationships/slide" Target="slides/slide42.xml"/><Relationship Id="rId51" Type="http://schemas.openxmlformats.org/officeDocument/2006/relationships/slide" Target="slides/slide43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0" y="0"/>
            <a:ext cx="7023600" cy="930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dt" idx="18"/>
          </p:nvPr>
        </p:nvSpPr>
        <p:spPr>
          <a:xfrm>
            <a:off x="3978000" y="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sldImg"/>
          </p:nvPr>
        </p:nvSpPr>
        <p:spPr>
          <a:xfrm>
            <a:off x="1184040" y="698040"/>
            <a:ext cx="4654440" cy="3490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3240" rIns="9324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9960" cy="41893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ftr" idx="19"/>
          </p:nvPr>
        </p:nvSpPr>
        <p:spPr>
          <a:xfrm>
            <a:off x="-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 type="sldNum" idx="20"/>
          </p:nvPr>
        </p:nvSpPr>
        <p:spPr>
          <a:xfrm>
            <a:off x="397800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1A747-3897-409C-8606-544CD4E50C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996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Slide Number Placeholder 3"/>
          <p:cNvSpPr/>
          <p:nvPr/>
        </p:nvSpPr>
        <p:spPr>
          <a:xfrm>
            <a:off x="3978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994D5-13A3-46C6-9227-A8D76E6DF2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996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Slide Number Placeholder 3"/>
          <p:cNvSpPr/>
          <p:nvPr/>
        </p:nvSpPr>
        <p:spPr>
          <a:xfrm>
            <a:off x="3978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E8AD2-5A66-44BD-81F9-CAB1414385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E8F33-008C-40AD-8BB1-05973E0F7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74EE0-E06F-4A27-8158-1CB852C23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0F0FB-494B-4309-9B22-2BA4F3896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C58BB-6200-4F51-81B5-B551735FB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F8D24-FEFC-4646-B76E-5122FD0F2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A4CF1-F84C-4191-BF0C-3EC5E3474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BE093-5048-450B-943D-E42B2B5F8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86254-C6D9-48B0-8E3A-5D18956D1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271A6-8598-447D-AE35-BA8A64F11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7F38B-1D5E-4C0B-9449-00757B176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36452-2AE6-4837-A5AC-75D4F0FF7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3836F-6FE9-46E7-94BC-6FEAA5343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5817D-D5B6-4200-8A20-4A24A456C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155CF-A877-4290-9165-E276D8D53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7A979-6976-4CA5-B5DE-AC6170148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2FC91-CA28-4DF4-8FF8-78BEAEB00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12D39-870F-4D6E-8D74-DE29F25D1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78F12F-D1D0-4F54-B590-996A4347D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1ABBA1-AF2A-48E4-8271-781A152C3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268F22-AFAC-4366-B0DC-25A537DEC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286429-9777-4E34-B4CB-6239C0A74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67DBD5-F9DD-40C1-A277-A8E588FD4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1C43A-FE69-46FB-8EA9-9C67CEF39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092605-2E0E-4208-8526-70A4E9A81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4EC520-C562-4124-953A-7A147A182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76303A-B76D-4EC1-8394-E835BC24D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0A2D16-E985-43C2-8F87-A165C3507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B04892-C29D-4BA2-97B6-BD91E05F8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5B4837-DB5A-48F8-B1EE-06578927E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A046F7-BF24-4796-90FE-8EBB7324A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06C3A-C1F1-471C-8104-D4FCD2D47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3B75F38-3EA7-4A43-AD14-4DC4515E7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A62CD-6B37-4CEA-AD11-0CAE365A3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906983C-B060-4F42-B3B0-8188D68B5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0323C44-0781-4EB7-A3C5-0009FBD51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1638F60-9D80-4021-85EB-37DA4E0C4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017FD96-95FD-4F5E-8CF2-7C96D3FB6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D22A7E6-959D-432F-8B61-88797FE47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605540E-D62E-4B0E-8003-2A13BD0F4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646D6CC-8FC7-471E-9CF5-30AD9558B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576ADA2-4343-4A3C-B3F2-9F8B10250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ACCB789-4D75-4A55-9918-F9BDC9602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26B3BC8-A638-4F35-A46D-5649AAB4B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09DB4-9CB7-4031-BCC1-62E42CA11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E96F8B4-F119-439D-B9D8-F3692A3F7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CB6EE0C-0461-4FB4-8A2B-476D76C46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ED54F44-BA6B-4830-94B3-4C8AC1FA8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97122EC-F928-4DF1-84F5-30ADC665D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FE17F53-BCB6-401E-9DA2-592B3AFF6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685AA1F-05BA-42C0-B5E5-8BEC12F7F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866F025-55DB-4A7C-AC54-B9AD77069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FFA3DA8-F2A2-4BEF-AB22-667E6E9D5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26BB481-8268-4ED2-B4B5-6EF52C5C8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77B7614-FA9E-4411-A564-EF219D16B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2B71F-0FA4-49AE-BFF9-9CBCC0793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B65F786-0C97-42AA-B9DA-D6E6A1AEA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F63AE14-3286-498B-8F0F-A8E2332F0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E01822C-A8FD-4916-AEDE-8C5C622EC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9BBB9-3F89-46C6-80B1-410DA114F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01473-3E9B-4582-8ED0-7D2EAC2E6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9A494-0EA4-4CDA-9497-0F66DAFE7D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8" descr="PPT_cover_v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16002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206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2060"/>
                </a:solidFill>
                <a:latin typeface="Arial"/>
              </a:rPr>
              <a:t>Charge It 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96AAB-7DFE-4A14-95F1-AA5AB9A865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3D5FC-CEFF-4F32-9043-2C0D293A50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6" descr="slide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TextBox 7"/>
          <p:cNvSpPr/>
          <p:nvPr/>
        </p:nvSpPr>
        <p:spPr>
          <a:xfrm>
            <a:off x="6781680" y="6400800"/>
            <a:ext cx="167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Helvetica Neue"/>
                <a:ea typeface="Helvetica Neue"/>
              </a:rPr>
              <a:t>To Your Cred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8"/>
          <p:cNvSpPr/>
          <p:nvPr/>
        </p:nvSpPr>
        <p:spPr>
          <a:xfrm>
            <a:off x="8305920" y="6400800"/>
            <a:ext cx="38088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F4B69-D6D1-469F-9E7F-251F2061AEF5}" type="slidenum">
              <a:rPr b="1" lang="en-US" sz="1000" spc="-1" strike="noStrike">
                <a:solidFill>
                  <a:srgbClr val="132f5a"/>
                </a:solidFill>
                <a:latin typeface="Helvetica Neu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9" descr="slide3.jpg"/>
          <p:cNvPicPr/>
          <p:nvPr/>
        </p:nvPicPr>
        <p:blipFill>
          <a:blip r:embed="rId3"/>
          <a:stretch/>
        </p:blipFill>
        <p:spPr>
          <a:xfrm>
            <a:off x="5943600" y="5346720"/>
            <a:ext cx="2720880" cy="67320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ftr" idx="1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sldNum" idx="1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A163A-00EA-49C3-A84B-C13D0A559C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8" descr="PPT_cover_v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134928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7" descr="logo.jpg"/>
          <p:cNvPicPr/>
          <p:nvPr/>
        </p:nvPicPr>
        <p:blipFill>
          <a:blip r:embed="rId3"/>
          <a:stretch/>
        </p:blipFill>
        <p:spPr>
          <a:xfrm>
            <a:off x="6477120" y="6143760"/>
            <a:ext cx="2449440" cy="637920"/>
          </a:xfrm>
          <a:prstGeom prst="rect">
            <a:avLst/>
          </a:prstGeom>
          <a:ln w="0">
            <a:noFill/>
          </a:ln>
        </p:spPr>
      </p:pic>
      <p:sp>
        <p:nvSpPr>
          <p:cNvPr id="211" name="TextBox 9"/>
          <p:cNvSpPr/>
          <p:nvPr/>
        </p:nvSpPr>
        <p:spPr>
          <a:xfrm>
            <a:off x="6792840" y="6095880"/>
            <a:ext cx="22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2060"/>
                </a:solidFill>
                <a:latin typeface="Arial"/>
                <a:ea typeface="Arial"/>
              </a:rPr>
              <a:t>To Your Cred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10"/>
          <p:cNvSpPr/>
          <p:nvPr/>
        </p:nvSpPr>
        <p:spPr>
          <a:xfrm>
            <a:off x="8534520" y="609588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1750D-D358-47AA-ADD1-A59931F40127}" type="slidenum">
              <a:rPr b="0" lang="en-US" sz="1200" spc="-1" strike="noStrike">
                <a:solidFill>
                  <a:srgbClr val="00206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A92A8-B17A-4F1D-9CCF-F3B07FBB5B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optoutprescreen.com/" TargetMode="External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www.annualcreditreport.com/" TargetMode="External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3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hyperlink" Target="http://www.ftc.gov/idtheft/" TargetMode="External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3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http://www.ftc.gov/idtheft" TargetMode="External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3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7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3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7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37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7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2" descr="To Your Credit title slide with FDIC Money Smart logo and module logo including credit reports and loan application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2" name="TextBox 5"/>
          <p:cNvSpPr/>
          <p:nvPr/>
        </p:nvSpPr>
        <p:spPr>
          <a:xfrm>
            <a:off x="76320" y="838080"/>
            <a:ext cx="4952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0" spc="-1" strike="noStrike">
                <a:solidFill>
                  <a:srgbClr val="c1961c"/>
                </a:solidFill>
                <a:latin typeface="Helvetica Neue"/>
              </a:rPr>
              <a:t>To Your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Box 6"/>
          <p:cNvSpPr/>
          <p:nvPr/>
        </p:nvSpPr>
        <p:spPr>
          <a:xfrm>
            <a:off x="152280" y="1905120"/>
            <a:ext cx="4267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0" spc="-1" strike="noStrike">
                <a:solidFill>
                  <a:srgbClr val="132f5a"/>
                </a:solidFill>
                <a:latin typeface="Helvetica Neue"/>
              </a:rPr>
              <a:t>Credit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What Is a Credit Report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It tells lenders: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116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Who you 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116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How much debt you ha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116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Whether you have made payments on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116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Whether there is negative information about you in public rec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Credit Reporting Agencie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9" name="Group 4" descr=""/>
          <p:cNvPicPr/>
          <p:nvPr/>
        </p:nvPicPr>
        <p:blipFill>
          <a:blip r:embed="rId1"/>
          <a:stretch/>
        </p:blipFill>
        <p:spPr>
          <a:xfrm>
            <a:off x="2230560" y="2219400"/>
            <a:ext cx="3755880" cy="1365120"/>
          </a:xfrm>
          <a:prstGeom prst="rect">
            <a:avLst/>
          </a:prstGeom>
          <a:ln w="0">
            <a:noFill/>
          </a:ln>
        </p:spPr>
      </p:pic>
      <p:pic>
        <p:nvPicPr>
          <p:cNvPr id="290" name="Group 13" descr=""/>
          <p:cNvPicPr/>
          <p:nvPr/>
        </p:nvPicPr>
        <p:blipFill>
          <a:blip r:embed="rId2"/>
          <a:stretch/>
        </p:blipFill>
        <p:spPr>
          <a:xfrm>
            <a:off x="622440" y="1042920"/>
            <a:ext cx="3760560" cy="1359000"/>
          </a:xfrm>
          <a:prstGeom prst="rect">
            <a:avLst/>
          </a:prstGeom>
          <a:ln w="0">
            <a:noFill/>
          </a:ln>
        </p:spPr>
      </p:pic>
      <p:pic>
        <p:nvPicPr>
          <p:cNvPr id="291" name="Group 16" descr=""/>
          <p:cNvPicPr/>
          <p:nvPr/>
        </p:nvPicPr>
        <p:blipFill>
          <a:blip r:embed="rId3"/>
          <a:stretch/>
        </p:blipFill>
        <p:spPr>
          <a:xfrm>
            <a:off x="3822840" y="3365640"/>
            <a:ext cx="3760560" cy="135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Credit Report Informatio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Identifying information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Credit history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Inquiries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Public record information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4" name="Picture 5" descr="Experian credit report"/>
          <p:cNvPicPr/>
          <p:nvPr/>
        </p:nvPicPr>
        <p:blipFill>
          <a:blip r:embed="rId1"/>
          <a:stretch/>
        </p:blipFill>
        <p:spPr>
          <a:xfrm>
            <a:off x="6172200" y="2057400"/>
            <a:ext cx="2019240" cy="17272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Public Record Informatio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Information may include: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Judg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Unpaid tax lie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Colle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Bankrupt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7" name="Picture 7" descr="Fingers on keyboard"/>
          <p:cNvPicPr/>
          <p:nvPr/>
        </p:nvPicPr>
        <p:blipFill>
          <a:blip r:embed="rId1"/>
          <a:srcRect l="10754" t="0" r="7524" b="0"/>
          <a:stretch/>
        </p:blipFill>
        <p:spPr>
          <a:xfrm>
            <a:off x="5562720" y="1523880"/>
            <a:ext cx="2895480" cy="35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Personal Bankruptcy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Chapter 13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Debtor keeps all of his or her property and makes regular payments on the deb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Chapter 7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Debtor must give up certain property to the credi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Impact of Bankruptcy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It should be your last resort!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Bankruptcy: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Remains on your credit report for 7–10 yea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Makes it hard for you to get future cred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2" name="Picture 5" descr="One hundred dollar bills in background and troubled man in forefront"/>
          <p:cNvPicPr/>
          <p:nvPr/>
        </p:nvPicPr>
        <p:blipFill>
          <a:blip r:embed="rId1"/>
          <a:stretch/>
        </p:blipFill>
        <p:spPr>
          <a:xfrm>
            <a:off x="3352680" y="4114800"/>
            <a:ext cx="2248200" cy="14986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Credit Reports Do Not Contain What Information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lvl="1" marL="720720" indent="-277200">
              <a:lnSpc>
                <a:spcPct val="100000"/>
              </a:lnSpc>
              <a:spcBef>
                <a:spcPts val="275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0840" indent="-3294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Checking and savings account balance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0840" indent="-3294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Incom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0840" indent="-3294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Medical history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0840" indent="-3294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Purchases made with cash or check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0840" indent="-3294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Business account information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0840" indent="-3294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Race, gender, religion, or national origin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0840" indent="-3294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Driving record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0840" indent="-3294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0840" indent="-3294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3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3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3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3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3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Credit Report Use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Credit reports are used: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To obtain loans and other cred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To get certain kinds of jo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For housing (rental applications and mortgag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To obtain insur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7" name="Picture 5" descr="Lender reviewing paperwork with a couple"/>
          <p:cNvPicPr/>
          <p:nvPr/>
        </p:nvPicPr>
        <p:blipFill>
          <a:blip r:embed="rId1"/>
          <a:stretch/>
        </p:blipFill>
        <p:spPr>
          <a:xfrm>
            <a:off x="7086600" y="533520"/>
            <a:ext cx="1600200" cy="16002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Reasons a Loan Application May Be Denied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456840" y="987480"/>
            <a:ext cx="518148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No credit history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Credit problems or poor credit history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0" name="Picture 17" descr="Woman working on paying her bills"/>
          <p:cNvPicPr/>
          <p:nvPr/>
        </p:nvPicPr>
        <p:blipFill>
          <a:blip r:embed="rId1"/>
          <a:stretch/>
        </p:blipFill>
        <p:spPr>
          <a:xfrm>
            <a:off x="5943600" y="2057400"/>
            <a:ext cx="2286000" cy="23004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Credit Scor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53352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A number that helps lenders determine your credit ri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Two types: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The Fair Isaac Corporation (FICO) Sc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VantageSc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3" name="Picture 10" descr="Circle graphic containing a document icon"/>
          <p:cNvPicPr/>
          <p:nvPr/>
        </p:nvPicPr>
        <p:blipFill>
          <a:blip r:embed="rId1"/>
          <a:stretch/>
        </p:blipFill>
        <p:spPr>
          <a:xfrm>
            <a:off x="6705720" y="3124080"/>
            <a:ext cx="1904760" cy="18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Welcom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962520" y="1676520"/>
            <a:ext cx="4114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51"/>
              </a:spcBef>
              <a:spcAft>
                <a:spcPts val="24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Agenda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51"/>
              </a:spcBef>
              <a:spcAft>
                <a:spcPts val="24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Ground Rule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51"/>
              </a:spcBef>
              <a:spcAft>
                <a:spcPts val="24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Introduction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6" name="Picture 1" descr="Handshake"/>
          <p:cNvPicPr/>
          <p:nvPr/>
        </p:nvPicPr>
        <p:blipFill>
          <a:blip r:embed="rId1"/>
          <a:stretch/>
        </p:blipFill>
        <p:spPr>
          <a:xfrm>
            <a:off x="762120" y="1905120"/>
            <a:ext cx="3429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FICO Scor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45720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4000" indent="-3225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Primary method used to assess credi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Score range: 300 to 8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4000" indent="-3225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The score is based on: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Past payment history: 35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Outstanding debt: 3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How long you have had credit: 15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New applications for credit: 1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Types of credit: 1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VantageScor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457200" y="11426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1000"/>
          </a:bodyPr>
          <a:p>
            <a:pPr marL="139680" indent="-1393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Newer credit scoring system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304560" indent="-1170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Score range: 501 to 99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39680" indent="-1393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Also groups scores by letter categories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304560" indent="-1170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A = 901-99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04560" indent="-1170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B = 801-9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04560" indent="-1170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C = 701-8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04560" indent="-1170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D = 601-7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04560" indent="-1170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F = 501-6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39680" indent="-13932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Good and Bad Credit Score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457200" y="1417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The higher your credit score, the more likely you are to: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Get a better interest rat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Pay less for borrowing mon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275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Review your credit report regularly to ensure accuracy of your information.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0" name="Picture 4" descr="Figure standing before a chart with the data arrow rising"/>
          <p:cNvPicPr/>
          <p:nvPr/>
        </p:nvPicPr>
        <p:blipFill>
          <a:blip r:embed="rId1"/>
          <a:stretch/>
        </p:blipFill>
        <p:spPr>
          <a:xfrm>
            <a:off x="7162920" y="2133720"/>
            <a:ext cx="1787400" cy="144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Inquirie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Voluntary inquirie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Involuntary inquirie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Excessive inquirie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Inquiries when rate shopping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3" name="Picture 11" descr="Symbolism of technology with moving documents and the word &quot;download&quot;"/>
          <p:cNvPicPr/>
          <p:nvPr/>
        </p:nvPicPr>
        <p:blipFill>
          <a:blip r:embed="rId1"/>
          <a:stretch/>
        </p:blipFill>
        <p:spPr>
          <a:xfrm>
            <a:off x="5867280" y="1600200"/>
            <a:ext cx="2503440" cy="16765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Other Factors Influencing Lender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What other factors might influence a lender’s decision to make a loan besides your credit report and credit score?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422928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Inc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22928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Length of resid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22928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Employ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Picture 4" descr="Earned income credit (EIC) table"/>
          <p:cNvPicPr/>
          <p:nvPr/>
        </p:nvPicPr>
        <p:blipFill>
          <a:blip r:embed="rId1"/>
          <a:stretch/>
        </p:blipFill>
        <p:spPr>
          <a:xfrm>
            <a:off x="1676520" y="3352680"/>
            <a:ext cx="2246040" cy="14940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3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Activity 1: Who Poses the Most Credit Risk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457200" y="99072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7680" indent="-3362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	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7680" indent="-3362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Complete Activity 1 in the Participant Guide.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7680" indent="-3362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810440" indent="-5090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Read each scenari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810440" indent="-5090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Determine if each person is a credit risk or no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810440" indent="-5090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Be prepared to explain your answ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7680" indent="-3362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Picture 4" descr="Pencil"/>
          <p:cNvPicPr/>
          <p:nvPr/>
        </p:nvPicPr>
        <p:blipFill>
          <a:blip r:embed="rId1"/>
          <a:stretch/>
        </p:blipFill>
        <p:spPr>
          <a:xfrm>
            <a:off x="0" y="2895480"/>
            <a:ext cx="16192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 txBox="1"/>
          <p:nvPr/>
        </p:nvSpPr>
        <p:spPr>
          <a:xfrm>
            <a:off x="533160" y="1143000"/>
            <a:ext cx="8305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It is your right!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Call: 1-888-5-OPTOUT (567-8688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Visit: 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Helvetica Neue"/>
                <a:hlinkClick r:id="rId1"/>
              </a:rPr>
              <a:t>www.optoutprescreen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Call: The phone numbers that may be listed in your credit card privacy not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Opting Ou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2" name="Picture 5" descr="Man talking on cell phone and looking down at a piece of paper in his hands"/>
          <p:cNvPicPr/>
          <p:nvPr/>
        </p:nvPicPr>
        <p:blipFill>
          <a:blip r:embed="rId2"/>
          <a:stretch/>
        </p:blipFill>
        <p:spPr>
          <a:xfrm>
            <a:off x="7086600" y="533520"/>
            <a:ext cx="1447920" cy="21682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Request Your Credit Scor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0840" indent="-3294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Receive a copy of your credit score from: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Credit reporting agen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Companies that want to sell you your credit score as part of a package of produ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0840" indent="-3294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Receive a free credit report: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Once every 12 month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When you apply for a consumer loan secured by your personal dwel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39840" algn="ctr">
              <a:lnSpc>
                <a:spcPct val="100000"/>
              </a:lnSpc>
              <a:spcBef>
                <a:spcPts val="275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 algn="ctr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Visit: </a:t>
            </a:r>
            <a:r>
              <a:rPr b="1" lang="en-US" sz="3000" spc="-1" strike="noStrike" u="sng">
                <a:solidFill>
                  <a:srgbClr val="0000ff"/>
                </a:solidFill>
                <a:uFillTx/>
                <a:latin typeface="Helvetica Neue"/>
                <a:hlinkClick r:id="rId1"/>
              </a:rPr>
              <a:t>www.annualcreditreport.com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 algn="ctr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Call: 877-322-8228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 algn="ctr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Mail: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 algn="ctr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Annual Credit Report Request Servic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 algn="ctr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P. O. Box 105281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 algn="ctr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Atlanta, GA 30348-5281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 algn="ctr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Free Annual Credit Repor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Activity 2: Maria’s Credit Repor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Complete Activity 2 in the Participant Guide.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Read the scenari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Answer the questions provid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Be prepared to explain your answ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9" name="Picture 4" descr="Pencil"/>
          <p:cNvPicPr/>
          <p:nvPr/>
        </p:nvPicPr>
        <p:blipFill>
          <a:blip r:embed="rId1"/>
          <a:stretch/>
        </p:blipFill>
        <p:spPr>
          <a:xfrm>
            <a:off x="0" y="2895480"/>
            <a:ext cx="16192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Objective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1265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4440" indent="-3330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Define credi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4440" indent="-3330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Explain why credit is importan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4440" indent="-3330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Describe the purpose of a credit report and how it is used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4440" indent="-3330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Order a copy of your credit repor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4440" indent="-3330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Read and analyze your credit report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4440" indent="-3330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Differentiate between good and bad credi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4440" indent="-3330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9" name="Picture 4" descr="Arrow in target bulls eye"/>
          <p:cNvPicPr/>
          <p:nvPr/>
        </p:nvPicPr>
        <p:blipFill>
          <a:blip r:embed="rId1"/>
          <a:stretch/>
        </p:blipFill>
        <p:spPr>
          <a:xfrm>
            <a:off x="7924680" y="247680"/>
            <a:ext cx="1219320" cy="127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Sample Credit Repor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151920" y="1143000"/>
            <a:ext cx="3124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83480" indent="-483480">
              <a:lnSpc>
                <a:spcPct val="100000"/>
              </a:lnSpc>
              <a:buClr>
                <a:srgbClr val="132f5a"/>
              </a:buClr>
              <a:buFont typeface="Helvetica Neue"/>
              <a:buAutoNum type="arabicPeriod"/>
              <a:tabLst>
                <a:tab algn="l" pos="10312416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Times New Roman"/>
              </a:rPr>
              <a:t>Personal/ Consumer Informa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3480" indent="-483480">
              <a:lnSpc>
                <a:spcPct val="100000"/>
              </a:lnSpc>
              <a:buClr>
                <a:srgbClr val="132f5a"/>
              </a:buClr>
              <a:buFont typeface="Helvetica Neue"/>
              <a:buAutoNum type="arabicPeriod"/>
              <a:tabLst>
                <a:tab algn="l" pos="10312416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Times New Roman"/>
              </a:rPr>
              <a:t>Personal/ Consumer Statement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3480" indent="-483480">
              <a:lnSpc>
                <a:spcPct val="100000"/>
              </a:lnSpc>
              <a:buClr>
                <a:srgbClr val="132f5a"/>
              </a:buClr>
              <a:buFont typeface="Helvetica Neue"/>
              <a:buAutoNum type="arabicPeriod"/>
              <a:tabLst>
                <a:tab algn="l" pos="10312416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Times New Roman"/>
              </a:rPr>
              <a:t>Account summary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3480" indent="-483480">
              <a:lnSpc>
                <a:spcPct val="100000"/>
              </a:lnSpc>
              <a:buClr>
                <a:srgbClr val="132f5a"/>
              </a:buClr>
              <a:buFont typeface="Helvetica Neue"/>
              <a:buAutoNum type="arabicPeriod"/>
              <a:tabLst>
                <a:tab algn="l" pos="10312416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Times New Roman"/>
              </a:rPr>
              <a:t>Inquiries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3480" indent="-483480">
              <a:lnSpc>
                <a:spcPct val="100000"/>
              </a:lnSpc>
              <a:buClr>
                <a:srgbClr val="132f5a"/>
              </a:buClr>
              <a:buFont typeface="Helvetica Neue"/>
              <a:buAutoNum type="arabicPeriod"/>
              <a:tabLst>
                <a:tab algn="l" pos="10312416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Times New Roman"/>
              </a:rPr>
              <a:t>Public Record Informa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2" name="Picture 4" descr="Sample credit report"/>
          <p:cNvPicPr/>
          <p:nvPr/>
        </p:nvPicPr>
        <p:blipFill>
          <a:blip r:embed="rId1"/>
          <a:stretch/>
        </p:blipFill>
        <p:spPr>
          <a:xfrm>
            <a:off x="3581280" y="990720"/>
            <a:ext cx="5172120" cy="5333760"/>
          </a:xfrm>
          <a:prstGeom prst="rect">
            <a:avLst/>
          </a:prstGeom>
          <a:ln w="0">
            <a:noFill/>
          </a:ln>
        </p:spPr>
      </p:pic>
      <p:sp>
        <p:nvSpPr>
          <p:cNvPr id="343" name="Rectangle 7"/>
          <p:cNvSpPr/>
          <p:nvPr/>
        </p:nvSpPr>
        <p:spPr>
          <a:xfrm>
            <a:off x="3645000" y="1066680"/>
            <a:ext cx="5041800" cy="990720"/>
          </a:xfrm>
          <a:prstGeom prst="rect">
            <a:avLst/>
          </a:prstGeom>
          <a:solidFill>
            <a:srgbClr val="4f81bd">
              <a:alpha val="28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8"/>
          <p:cNvSpPr/>
          <p:nvPr/>
        </p:nvSpPr>
        <p:spPr>
          <a:xfrm>
            <a:off x="3645000" y="2057400"/>
            <a:ext cx="5041800" cy="533520"/>
          </a:xfrm>
          <a:prstGeom prst="rect">
            <a:avLst/>
          </a:prstGeom>
          <a:solidFill>
            <a:srgbClr val="4f81bd">
              <a:alpha val="28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9"/>
          <p:cNvSpPr/>
          <p:nvPr/>
        </p:nvSpPr>
        <p:spPr>
          <a:xfrm>
            <a:off x="3643200" y="2576520"/>
            <a:ext cx="5043600" cy="3062160"/>
          </a:xfrm>
          <a:prstGeom prst="rect">
            <a:avLst/>
          </a:prstGeom>
          <a:solidFill>
            <a:srgbClr val="4f81bd">
              <a:alpha val="28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10"/>
          <p:cNvSpPr/>
          <p:nvPr/>
        </p:nvSpPr>
        <p:spPr>
          <a:xfrm>
            <a:off x="3645000" y="5626080"/>
            <a:ext cx="5041800" cy="622440"/>
          </a:xfrm>
          <a:prstGeom prst="rect">
            <a:avLst/>
          </a:prstGeom>
          <a:solidFill>
            <a:srgbClr val="4f81bd">
              <a:alpha val="28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5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5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3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3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Activity 3: John Q. Consumer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Complete Activity 3 in the Participant Guide.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Use the sample credit repor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Answer the questions provid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9" name="Picture 4" descr="Pencil"/>
          <p:cNvPicPr/>
          <p:nvPr/>
        </p:nvPicPr>
        <p:blipFill>
          <a:blip r:embed="rId1"/>
          <a:stretch/>
        </p:blipFill>
        <p:spPr>
          <a:xfrm>
            <a:off x="0" y="2895480"/>
            <a:ext cx="16192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Checking for Error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It is your responsibility to: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Contact the credit reporting agenc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Write a letter disputing the 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Credit reporting agencies must conduct an investigation within 30 days of receiving your letter.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2" name="Picture 6" descr="Circle graphic with an envelope in the center"/>
          <p:cNvPicPr/>
          <p:nvPr/>
        </p:nvPicPr>
        <p:blipFill>
          <a:blip r:embed="rId1"/>
          <a:stretch/>
        </p:blipFill>
        <p:spPr>
          <a:xfrm>
            <a:off x="7848720" y="533520"/>
            <a:ext cx="1143000" cy="114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Minimize Your Risk of Identity Thef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720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4440" indent="-33300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Protect your personal information (SSN, PINs, passwords, credit/debit cards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4440" indent="-33300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Protect your incoming/outgoing mai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4440" indent="-33300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Sign up for direct deposi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4440" indent="-33300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Keep your financial trash “clean”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4440" indent="-33300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Keep an eye on your bank statements and credit card bill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5" name="Picture 4" descr="Down arrow next to a smiling figure pointing down"/>
          <p:cNvPicPr/>
          <p:nvPr/>
        </p:nvPicPr>
        <p:blipFill>
          <a:blip r:embed="rId1"/>
          <a:stretch/>
        </p:blipFill>
        <p:spPr>
          <a:xfrm>
            <a:off x="7391520" y="3124080"/>
            <a:ext cx="1371600" cy="10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Minimize Your Risk of Identity Thef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Avoid identity theft on the Interne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Review your credit record annually and report fraudulent activity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Resources from the Federal Trade Commission (FTC):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Helvetica Neue"/>
                <a:hlinkClick r:id="rId1"/>
              </a:rPr>
              <a:t>www.ftc.gov/idtheft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1-877-IDTHEFT (438-4338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Picture 4" descr="Down arrow next to a smiling figure pointing down"/>
          <p:cNvPicPr/>
          <p:nvPr/>
        </p:nvPicPr>
        <p:blipFill>
          <a:blip r:embed="rId2"/>
          <a:stretch/>
        </p:blipFill>
        <p:spPr>
          <a:xfrm>
            <a:off x="6858000" y="4343400"/>
            <a:ext cx="1371600" cy="101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Victims of Identity Thef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456840" y="99072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4000" indent="-3225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Take action immediately: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File a police repor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Contact your credi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Follow up in wri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Use the ID Theft Affidavit at 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Helvetica Neue"/>
                <a:ea typeface="Arial"/>
                <a:hlinkClick r:id="rId1"/>
              </a:rPr>
              <a:t>www.ftc.gov/idthe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File a complaint with the F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Ask for verification that disputed accounts have been closed and fraudulent debts discharg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4000" indent="-32256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1" name="Picture 5" descr="Police badge and ID"/>
          <p:cNvPicPr/>
          <p:nvPr/>
        </p:nvPicPr>
        <p:blipFill>
          <a:blip r:embed="rId2"/>
          <a:stretch/>
        </p:blipFill>
        <p:spPr>
          <a:xfrm>
            <a:off x="6934320" y="1219320"/>
            <a:ext cx="1279440" cy="16002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Picture 4" descr="Cell phone with grid and circles representing communication and alerts"/>
          <p:cNvPicPr/>
          <p:nvPr/>
        </p:nvPicPr>
        <p:blipFill>
          <a:blip r:embed="rId1"/>
          <a:stretch/>
        </p:blipFill>
        <p:spPr>
          <a:xfrm>
            <a:off x="7683480" y="237960"/>
            <a:ext cx="1469880" cy="1057320"/>
          </a:xfrm>
          <a:prstGeom prst="rect">
            <a:avLst/>
          </a:prstGeom>
          <a:ln w="0">
            <a:noFill/>
          </a:ln>
        </p:spPr>
      </p:pic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Victims of Identity Thef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457200" y="1112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7600" indent="-3261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Place a fraud alert on your credit file: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Initial fraud alert – 90 d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Extended fraud alert – 7 ye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7600" indent="-3261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Place a security freeze on your credit file: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Restricts access to your credit re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May delay, interfere with, or prohibit the timely approval of subsequent requests or applications for cred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Building Your Credit History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Apply for a small bank loan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Apply for credit at a local stor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Make large down payments and negotiate credit payment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Ask a friend or relative to cosign a loan for you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7" name="Picture 4" descr="Figure running up stairs"/>
          <p:cNvPicPr/>
          <p:nvPr/>
        </p:nvPicPr>
        <p:blipFill>
          <a:blip r:embed="rId1"/>
          <a:stretch/>
        </p:blipFill>
        <p:spPr>
          <a:xfrm>
            <a:off x="8001000" y="609480"/>
            <a:ext cx="838080" cy="9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Building Your Credit History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Pay your bills on tim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Ask lenders to review utility and other bills to grant you credi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Keep your debt levels low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Make regular deposits into your savings accoun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0" name="Picture 4" descr="Figure running up stairs"/>
          <p:cNvPicPr/>
          <p:nvPr/>
        </p:nvPicPr>
        <p:blipFill>
          <a:blip r:embed="rId1"/>
          <a:stretch/>
        </p:blipFill>
        <p:spPr>
          <a:xfrm>
            <a:off x="8001000" y="609480"/>
            <a:ext cx="838080" cy="9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Repairing Your Own Credi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456840" y="1143000"/>
            <a:ext cx="6248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Get a copy of your credit repor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Contact the credit reporting agency and creditors to report error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Consider opting out of unsolicited offers for credit to avoid getting into more deb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3" name="Picture 10" descr="Man using a laptop"/>
          <p:cNvPicPr/>
          <p:nvPr/>
        </p:nvPicPr>
        <p:blipFill>
          <a:blip r:embed="rId1"/>
          <a:stretch/>
        </p:blipFill>
        <p:spPr>
          <a:xfrm>
            <a:off x="6934320" y="1676520"/>
            <a:ext cx="1569960" cy="236196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Objective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457200" y="1417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Describe the implications of good and bad credit score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Identify ways to build and repair your credit history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Recognize how to correct errors on your credit repor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Recognize how to guard against identity thef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2" name="Picture 4" descr="Arrow in target bulls eye"/>
          <p:cNvPicPr/>
          <p:nvPr/>
        </p:nvPicPr>
        <p:blipFill>
          <a:blip r:embed="rId1"/>
          <a:stretch/>
        </p:blipFill>
        <p:spPr>
          <a:xfrm>
            <a:off x="7924680" y="247680"/>
            <a:ext cx="1219320" cy="127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Credit Counseling Agencie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Interview several companies before signing a contrac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Be sure they are reputab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Ask questions about services, fees, and a repayment plan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6" name="Picture 4" descr="Woman handing completed paperwork back to a counselor"/>
          <p:cNvPicPr/>
          <p:nvPr/>
        </p:nvPicPr>
        <p:blipFill>
          <a:blip r:embed="rId1"/>
          <a:stretch/>
        </p:blipFill>
        <p:spPr>
          <a:xfrm>
            <a:off x="2968560" y="4260960"/>
            <a:ext cx="2871720" cy="17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Credit Repair Scam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457200" y="106380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4000" indent="-3225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No one can remove accurate information from your credit report.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4000" indent="-3225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It can take years to repair bad credit legitimately.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4000" indent="-3225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No one can create a new identity for you.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4000" indent="-3225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Legitimate companies provide a service before requesting payment.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4000" indent="-3225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You can order your credit report yourself.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4000" indent="-3225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4000" indent="-3225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Summary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7200" y="10666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366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What final questions do you have?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66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66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What have you learned?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66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66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How would you evaluate the training?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66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1" name="Picture 7" descr="Clipboard and pencil"/>
          <p:cNvPicPr/>
          <p:nvPr/>
        </p:nvPicPr>
        <p:blipFill>
          <a:blip r:embed="rId1"/>
          <a:srcRect l="0" t="22003" r="0" b="0"/>
          <a:stretch/>
        </p:blipFill>
        <p:spPr>
          <a:xfrm>
            <a:off x="6705720" y="4038480"/>
            <a:ext cx="2063520" cy="16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Conclusio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457200" y="113976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You learned about: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Reading a credit re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Ordering a credit re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Building and repairing your credi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Protecting yourself from identity theft and credit repair sc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What Do You Know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2819520" y="990360"/>
            <a:ext cx="5867280" cy="426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What do you know or want to learn about 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credit reports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?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5" name="Picture 13" descr="Figure scratching his head and a question mark by his head"/>
          <p:cNvPicPr/>
          <p:nvPr/>
        </p:nvPicPr>
        <p:blipFill>
          <a:blip r:embed="rId1"/>
          <a:stretch/>
        </p:blipFill>
        <p:spPr>
          <a:xfrm>
            <a:off x="762120" y="1219320"/>
            <a:ext cx="1857240" cy="39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What Is Credit?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533520" y="1143000"/>
            <a:ext cx="8534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Which response would a financial professional use to define </a:t>
            </a:r>
            <a:r>
              <a:rPr b="1" i="1" lang="en-US" sz="3000" spc="-1" strike="noStrike">
                <a:solidFill>
                  <a:srgbClr val="c1961c"/>
                </a:solidFill>
                <a:latin typeface="Helvetica Neue"/>
              </a:rPr>
              <a:t>credit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? 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Money given to you that you do not have to pay b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Money you borrow to pay for things but must also pay b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Recognition for a job well d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That long scrolling text at the end of a mov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" dur="500"/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" dur="500"/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" dur="500"/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Credit Defined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c196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c1961c"/>
                </a:solidFill>
                <a:latin typeface="Helvetica Neue"/>
              </a:rPr>
              <a:t>Credit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 is: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The ability to borrow mon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Sometimes called a lo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A promise you make to pay back money you borrowed with inter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0" name="Picture 5" descr="Credit card and dollar symbol"/>
          <p:cNvPicPr/>
          <p:nvPr/>
        </p:nvPicPr>
        <p:blipFill>
          <a:blip r:embed="rId1"/>
          <a:stretch/>
        </p:blipFill>
        <p:spPr>
          <a:xfrm>
            <a:off x="6934320" y="228600"/>
            <a:ext cx="198108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Importance of Credi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380520" y="121896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Why do you think credit is important?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It is useful in times of emergen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It is convenient when you do not have ca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It allows you to pay for large purchases over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It can help you obtain employment, housing, and insur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Credit Case: Marvin’s Desk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39840">
              <a:lnSpc>
                <a:spcPct val="100000"/>
              </a:lnSpc>
              <a:spcBef>
                <a:spcPts val="2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Marvin makes and sells writing desks. He wants to borrow $1,000 for a new band saw and an electric sander. He obtains a loan from the bank, and pledges his new equipment as collateral.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2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If Marvin does not (or cannot) pay back the loan, what will the lender probably do?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5" name="Picture 11" descr="Man sanding wood"/>
          <p:cNvPicPr/>
          <p:nvPr/>
        </p:nvPicPr>
        <p:blipFill>
          <a:blip r:embed="rId1"/>
          <a:stretch/>
        </p:blipFill>
        <p:spPr>
          <a:xfrm>
            <a:off x="457200" y="5029200"/>
            <a:ext cx="188604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0T18:57:27Z</dcterms:created>
  <dc:creator/>
  <dc:description/>
  <dc:language>en-US</dc:language>
  <cp:lastModifiedBy>National Technologies Inc.</cp:lastModifiedBy>
  <dcterms:modified xsi:type="dcterms:W3CDTF">2010-11-01T14:33:25Z</dcterms:modified>
  <cp:revision>506</cp:revision>
  <dc:subject/>
  <dc:title>MoneySmart Adult Financial Education Curriculu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05F4F99E60CAF94ABC78279498A0B61D</vt:lpwstr>
  </property>
</Properties>
</file>