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DD3E9-1998-4687-9F8F-B163D5F9D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88B01-344F-4573-92EC-429CAA5D6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17F9-7969-48E0-BAE0-F84C974ED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3043-FB43-4A89-BC6A-5B6ED620C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B99-D866-4D0D-AA32-876CC25B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9FB-5BD5-4248-BE9A-170055D4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542-467C-4337-B50A-806B3123E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4D44-189F-4D67-A8BB-5F699FD66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BB0B-782C-4010-BB33-C1115743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D990-6039-46C7-8B32-EC26D075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76A-356A-4DA5-82D8-D2E0B7EE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6813-BBFA-494D-9046-9821CD57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65564-75EB-4C6B-9C5A-369C3B8D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3EBF-B0EE-4288-8D0C-85B91DC9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F44-334A-4276-AFF2-E8F30177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5946-FA45-4B4A-A4FE-0BC44E3A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DE8B-B8BA-4E9A-A111-A8959E2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E656-D7A8-4A30-8993-614DFA13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9D9-9D9E-4D22-B149-3BE994039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57AC-94AB-44F9-BF28-51B14EF4C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46537-F50D-4789-9926-52B6EA275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B9376-18CF-400B-ADE8-26CD2787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4D7C3-BB28-483D-88AD-DBEEB7F7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8B60-9138-4636-BF4B-BBA72C1F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FAA10-92B2-401A-AE7C-756FBEB05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F27-189B-483B-A9A1-DD81DB88A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43B3E-09AC-4729-87D5-2208F6EB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3861D-95C9-47ED-9A88-0EAF29B1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087FE-E64C-4D03-84DD-95C5CB1D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34753-0AC2-4B16-8B06-3C02B442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C75EB-0383-449B-BC13-65BCBB51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8F2F-6108-4C71-A7DB-3CEEC1974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8A19F-E84E-4385-8F57-F824DC547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EB8B-3DE2-47E6-A459-C29F6427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A61AFE-4F16-4AD3-9397-5E984C26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8BC7-9523-4E56-9DF5-3F8B596A6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3C742-34BE-4613-8F2E-6B979E2C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4DB8546-667B-413F-B40A-6B330B15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E02DB-7FE1-4B28-B495-D85A053C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E8829-0C52-4A0A-AE09-9F7000A2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AFB233-9EE2-49C8-8F5D-EF61617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FA686-04C7-4B81-8AC8-34D724B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39AE92-7FC1-4F2B-9186-B8AD80D9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711672-82D1-48F1-A1BF-8A9D5880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22D7DC-98F6-4BB0-B342-18808129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2FE295-58F0-495E-B540-A125D9C6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7866-91D4-4E80-8DF1-7DA7496B1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E202B9-D09E-4D63-9A6C-EF21EE83A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2CDDE-84DD-4F13-9C9A-8C376EB6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243FD-5F91-4A8F-9407-78681954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F8E011-40C5-4FF7-B532-CC0186F8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72971-8483-4B74-8B76-C3B366F2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0CC05-A68A-4350-896C-DC990A8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B232DE-101B-49CF-BC39-F1237F855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C6C764-BE4D-474A-B2DC-2DAD0C99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0AC1C-9AB9-4E88-A5C4-47F7408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15C5DB-BAC9-4AC1-848E-9942224A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437D-1852-4895-B344-FB6A2549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AF9BE1-FE74-4125-A984-CEEEDA34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F17B1-5891-4CE3-9CC6-B3FA4DC09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C4F88D-2EEB-4BBF-8FFA-3B6EE39E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66DB-751A-4628-B8DC-482CE400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6CD-104C-4571-B4F1-9E41436E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B20C0-E9BE-4DEC-8BBE-6E80D9C84B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C3AA-F587-4699-A141-D569120371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11120-4A81-437D-BCFB-81216ACB5F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To Your Cred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7E0C-1674-42AF-9879-16895D8209CA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EAB3-FDBD-49A2-8342-905590FC1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To Your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AA30-29F6-466A-A664-3D7B3DBE878C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1E88-0374-4EF0-9712-8F32013BFE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optoutprescreen.com/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annualcreditreport.com/" TargetMode="Externa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ftc.gov/idtheft/" TargetMode="External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TextBox 5"/>
          <p:cNvSpPr/>
          <p:nvPr/>
        </p:nvSpPr>
        <p:spPr>
          <a:xfrm>
            <a:off x="76320" y="8380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c1961c"/>
                </a:solidFill>
                <a:latin typeface="Helvetica Neue"/>
              </a:rPr>
              <a:t>To Your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152280" y="1905120"/>
            <a:ext cx="426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0" spc="-1" strike="noStrike">
                <a:solidFill>
                  <a:srgbClr val="132f5a"/>
                </a:solidFill>
                <a:latin typeface="Helvetica Neue"/>
              </a:rPr>
              <a:t>Credit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a Credit Report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tells lender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o you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much debt you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you have made payments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ther there is negative information about you in public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0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ing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blic record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2057400"/>
            <a:ext cx="2019240" cy="172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blic Record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tion may inclu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Jud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npaid tax li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ll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krupt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5562720" y="1523880"/>
            <a:ext cx="289548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ersonal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keeps all of his or her property and makes regular payments on the deb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apter 7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btor must give up certain property to the cr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act of Bankruptc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should be your last resor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ankruptc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mains on your credit report for 7–10 ye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kes it hard for you to get future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11480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s Do Not Contain What Information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hecking and savings account balanc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edical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urchases made with cash or check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usiness account informatio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ace, gender, religion, or national origi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riving recor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3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ort Us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 are used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loans and othe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get certain kinds of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or housing (rental applications and mortgag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o obtain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7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asons a Loan Application May Be Deni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problems or poor credit histor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number that helps lenders determine your credit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wo typ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Fair Isaac Corporation (FICO) 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elco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round Ru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roduction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ICO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imary method used to assess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300 to 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score is based o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st payment history: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utstanding debt: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ow long you have had credit: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New applications for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ypes of credit: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1426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ewer credit scoring syste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core range: 501 to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lso groups scores by letter categorie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04560" indent="-117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9680" indent="-13932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Good and Bad Credit Sc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he higher your credit score, the more likely you are to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Get a better interest ra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y less for borrowing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port regularly to ensure accuracy of your information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162920" y="2133720"/>
            <a:ext cx="178740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quir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voluntary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cessive inquiri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quiries when rate shopping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ther Factors Influencing Lende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other factors might influence a lender’s decision to make a loan besides your credit report and credit scor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ngth of res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mplo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352680"/>
            <a:ext cx="2246040" cy="1494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1: Who Poses the Most Credit Risk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1 in the Participant Guide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each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if each person is a credit risk or n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0440" indent="-509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7680" indent="-3362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533160" y="114300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ight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all: The phone numbers that may be listed in your credit card privacy no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ing 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5" descr="Man talking on cell phone and looking down at a piece of paper in his hands"/>
          <p:cNvPicPr/>
          <p:nvPr/>
        </p:nvPicPr>
        <p:blipFill>
          <a:blip r:embed="rId2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quest Your Credit 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copy of your credit score from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redit reporting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mpanies that want to sell you your credit score as part of a package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eive a free credit repor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nce every 12 mo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hen you apply for a consumer loan secured by your personal dwe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: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ll: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il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Free Annual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2: Maria’s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2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 the scenar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e prepared to explain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265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e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ain why credit is importa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purpose of a credit report and how it is use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Order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d and analyze your credit report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ferentiate between good and bad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Sample Credit Repo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ersonal/ Consumer Statement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Account summar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quiri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83480" indent="-4834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Public Record Inform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ty 3: John Q. Consum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lete Activity 3 in the Participant Guide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Use the sample credit re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nswer the questions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hecking for Error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is your responsibility to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ontact the credit reporting agen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Write a letter disputing th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ing agencies must conduct an investigation within 30 days of receiving your letter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2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personal information (SSN, PINs, passwords, credit/debit cards)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otect your incoming/outgoing mai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gn up for direct depos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financial trash “clean”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an eye on your bank statements and credit card bill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5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inimize Your Risk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void identity theft on the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ew your credit record annually and report fraudulent activity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sources from the Federal Trade Commission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hlinkClick r:id="rId1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Down arrow next to a smiling figure pointing down"/>
          <p:cNvPicPr/>
          <p:nvPr/>
        </p:nvPicPr>
        <p:blipFill>
          <a:blip r:embed="rId2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9907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ke action immediately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police 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tact your credi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ollow up 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ID Theft Affidavit at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e a complaint with the F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sk for verification that disputed accounts have been closed and fraudulent debts dischar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5" descr="Police badge and ID"/>
          <p:cNvPicPr/>
          <p:nvPr/>
        </p:nvPicPr>
        <p:blipFill>
          <a:blip r:embed="rId2"/>
          <a:stretch/>
        </p:blipFill>
        <p:spPr>
          <a:xfrm>
            <a:off x="693432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ictims of Identity Thef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112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fraud alert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nitial fraud alert – 9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xtended fraud alert –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lace a security freeze on your credit fil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tricts access to your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ay delay, interfere with, or prohibit the timely approval of subsequent requests or applications for cre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a small bank lo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pply for credit at a local stor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large down payments and negotiate credit payment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a friend or relative to cosign a loan for you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ilding Your Credit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ay your bills on tim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lenders to review utility and other bills to grant you credi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Keep your debt levels low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ke regular deposits into your savings accoun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0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Repairing Your Own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1430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Get a copy of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tact the credit reporting agency and creditors to report error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ider opting out of unsolicited offers for credit to avoid getting into more deb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10" descr="Man using a laptop"/>
          <p:cNvPicPr/>
          <p:nvPr/>
        </p:nvPicPr>
        <p:blipFill>
          <a:blip r:embed="rId1"/>
          <a:stretch/>
        </p:blipFill>
        <p:spPr>
          <a:xfrm>
            <a:off x="693432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ctiv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scribe the implications of good and bad credit scor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dentify ways to build and repair your credit history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correct errors on your credit repor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cognize how to guard against identity thef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ounseling Agenci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terview several companies before signing a contrac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Be sure they are reputab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sk questions about services, fees, and a repayment pla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260960"/>
            <a:ext cx="28717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Repair Scam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0638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remove accurate information from your credit repor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t can take years to repair bad credit legitimately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one can create a new identity for you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egitimate companies provide a service before requesting payment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can order your credit report yourself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final questions do you have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at have you learned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ow would you evaluate the training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You learned about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ad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Ordering a credit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uilding and repairing your cred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rotecting yourself from identity theft and credit repair sc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redit reports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What Is Credit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ich response would a financial professional use to define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given to you that you do not have t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Money you borrow to pay for things but must also pay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cognition for a job well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at long scrolling text at the end of a mov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Defin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edi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 i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The ability to borrow m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metimes called a lo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promise you make to pay back money you borrowed with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mportance of Credi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80520" y="12189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Why do you think credit is important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useful in times of emer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is convenient when you do not have c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allows you to pay for large purchases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It can help you obtain employment, housing, and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redit Case: Marvin’s Des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makes and sells writing desks. He wants to borrow $1,000 for a new band saw and an electric sander. He obtains a loan from the bank, and pledges his new equipment as collateral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f Marvin does not (or cannot) pay back the loan, what will the lender probably 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5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National Technologies Inc.</cp:lastModifiedBy>
  <dcterms:modified xsi:type="dcterms:W3CDTF">2010-11-01T14:33:25Z</dcterms:modified>
  <cp:revision>506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