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2.wmf" ContentType="image/x-wmf"/>
  <Override PartName="/ppt/media/image11.wmf" ContentType="image/x-wmf"/>
  <Override PartName="/ppt/media/image17.jpeg" ContentType="image/jpeg"/>
  <Override PartName="/ppt/media/image26.png" ContentType="image/png"/>
  <Override PartName="/ppt/media/image9.jpeg" ContentType="image/jpeg"/>
  <Override PartName="/ppt/media/image8.wmf" ContentType="image/x-wmf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20.wmf" ContentType="image/x-wmf"/>
  <Override PartName="/ppt/media/image21.jpeg" ContentType="image/jpeg"/>
  <Override PartName="/ppt/media/image16.jpeg" ContentType="image/jpeg"/>
  <Override PartName="/ppt/media/image19.png" ContentType="image/pn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91EE-4FC4-4C85-BEF6-9178C9FBF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3C70-1D40-4FBA-8595-982874CD1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A57B-F867-4E65-A461-7134A82C1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E4BE-BB45-4236-9451-0A05EDA7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4231-2B1A-4B79-9B9B-A9AD6A63E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9C04-4ED4-4A1B-AA05-ABBF114EA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FB75-EA3A-4A85-B1A6-5C32FF90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0C63A1-93C9-4983-AC25-EF73C7E1A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A313EE-2262-4189-A500-DAE6A328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2F0E7D-198B-410E-8D17-F867AC22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12BA24-CC7F-4146-A9A2-A957D86B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FEA5F9-B149-450A-9661-BCB9DA77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F320-87D7-41DE-A69C-60ACE899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23679A-D331-48D0-822A-BD6F7FF8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958450-1B48-478C-BD1F-C8836DB3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E664DF-8C13-40B8-B188-40CBE1E8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4B8002-2F02-487C-AE35-92450611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CA3223-E3F1-4FA3-8D90-4A625FF7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B5FF22-3DCE-4378-9FB8-C2C7B3B0A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8AF185-299A-4FB2-9EED-E17643CA0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AA8D11-868E-43D7-A9AA-A736584F5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A61958-B037-4D16-8BBF-84EDB17A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279566-C4F2-4AB5-B26E-E7043BA6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3658-EDB9-43F6-B81C-FAA8AAA7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384F37-A8E3-4664-BC4D-451A80C6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A6E936-351A-483A-9D5A-D4C9A1A3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3335B7-1A5F-4871-B639-4D85710C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F4E324-97B5-4D89-917C-8BC14862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6FB299-081E-4702-9CB9-1B4CFD64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36CE1E-2BA7-41AE-A220-C94D3002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51D207-79E4-43AD-AD16-8AFAB3D5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A5D038-5CB3-4D70-810E-C5CEBF453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A44494-63F3-453B-B83C-B4595B58B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D13B-DF74-4D57-A68C-C8366B12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7476-0760-4827-AD66-13AEB8B8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827F-C980-4E04-9108-7A8A2E7C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FE05-0A35-45E4-9B9F-6D9B7480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923B-E0A6-4515-AAA6-7A9D9351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F204-BBEB-42D2-A294-721442F517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629400" y="64008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Páguese Usted Pri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AAA3-ECCA-4B7B-854B-64CD87BDA5DB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0"/>
          <p:cNvSpPr/>
          <p:nvPr/>
        </p:nvSpPr>
        <p:spPr>
          <a:xfrm>
            <a:off x="6480000" y="5638680"/>
            <a:ext cx="25146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logo.jpg"/>
          <p:cNvPicPr/>
          <p:nvPr/>
        </p:nvPicPr>
        <p:blipFill>
          <a:blip r:embed="rId3"/>
          <a:stretch/>
        </p:blipFill>
        <p:spPr>
          <a:xfrm>
            <a:off x="6400800" y="601992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88" name="TextBox 8"/>
          <p:cNvSpPr/>
          <p:nvPr/>
        </p:nvSpPr>
        <p:spPr>
          <a:xfrm>
            <a:off x="6705720" y="604836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</a:rPr>
              <a:t>Páguese Usted Prim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8534520" y="60483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B72F-7FB2-42FF-B4AA-FC73CD0D9D82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0"/>
          <p:cNvSpPr/>
          <p:nvPr/>
        </p:nvSpPr>
        <p:spPr>
          <a:xfrm>
            <a:off x="6919920" y="6270480"/>
            <a:ext cx="22096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f497d"/>
                </a:solidFill>
                <a:latin typeface="Arial Rounded MT Bold"/>
              </a:rPr>
              <a:t>Para Promover: Conocimiento, Seguridad y Confian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0671-CDF4-461A-9675-288CAA3010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logo.jpg"/>
          <p:cNvPicPr/>
          <p:nvPr/>
        </p:nvPicPr>
        <p:blipFill>
          <a:blip r:embed="rId3"/>
          <a:stretch/>
        </p:blipFill>
        <p:spPr>
          <a:xfrm>
            <a:off x="6400800" y="601992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8"/>
          <p:cNvSpPr/>
          <p:nvPr/>
        </p:nvSpPr>
        <p:spPr>
          <a:xfrm>
            <a:off x="6705720" y="604836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</a:rPr>
              <a:t>Páguese Usted Prim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9"/>
          <p:cNvSpPr/>
          <p:nvPr/>
        </p:nvSpPr>
        <p:spPr>
          <a:xfrm>
            <a:off x="8534520" y="60483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3831-D6A5-40DD-9DAE-6E42A4B3F954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0"/>
          <p:cNvSpPr/>
          <p:nvPr/>
        </p:nvSpPr>
        <p:spPr>
          <a:xfrm>
            <a:off x="6919920" y="6270480"/>
            <a:ext cx="22096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f497d"/>
                </a:solidFill>
                <a:latin typeface="Arial Rounded MT Bold"/>
              </a:rPr>
              <a:t>Para Promover: Conocimiento, Seguridad y Confian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8636-F870-4035-B764-F14435DCFE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yfdicinsurance.gov/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Pay Yourself First title slide with FDIC Money Smart logo and module logo including a coin and piggy ban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Box 7"/>
          <p:cNvSpPr/>
          <p:nvPr/>
        </p:nvSpPr>
        <p:spPr>
          <a:xfrm>
            <a:off x="0" y="54288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águes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>
            <a:off x="228600" y="17431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Ust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9"/>
          <p:cNvSpPr/>
          <p:nvPr/>
        </p:nvSpPr>
        <p:spPr>
          <a:xfrm>
            <a:off x="457200" y="289728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imer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8"/>
          <p:cNvSpPr/>
          <p:nvPr/>
        </p:nvSpPr>
        <p:spPr>
          <a:xfrm>
            <a:off x="1143000" y="5016600"/>
            <a:ext cx="4191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1961c"/>
                </a:solidFill>
                <a:latin typeface="Arial Rounded MT Bold"/>
              </a:rPr>
              <a:t>Programa de Educación Financiera de la FD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7160" y="384120"/>
            <a:ext cx="899136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orcentaje Anual de Rendimiento (APY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1961c"/>
                </a:solidFill>
                <a:latin typeface="Helvetica Neue"/>
                <a:ea typeface="Arial"/>
              </a:rPr>
              <a:t>AP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 el monto de interés que ganará al cabo de un año mostrado como un porcenta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cluye el efecto de la capitaliz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 debería usar para comparar productos de ahorro, en lugar de la tasa de inter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Regla del 7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987120"/>
            <a:ext cx="8229600" cy="54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fórmula que le permite calcular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tiempo que tardará en duplicar sus ahorro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: 72 ÷ 4% = 18 añ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a tasa de interés que necesita para que sus ahorros se dupliquen en un periodo de tiempo fijo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: 72 ÷ 12 = 6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 quiere que su cuenta de ahorro se duplique de valor en 20 años, ¿qué tasa de interés necesitaría tener la cuent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72 ÷ 20 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3"/>
          <p:cNvSpPr/>
          <p:nvPr/>
        </p:nvSpPr>
        <p:spPr>
          <a:xfrm>
            <a:off x="2803680" y="5311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e4e"/>
                </a:solidFill>
                <a:latin typeface="Arial"/>
              </a:rPr>
              <a:t>3.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pciones para ahorr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987120"/>
            <a:ext cx="8229600" cy="45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xisten dos formas básicas de ahorrar diner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42480" indent="-498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brir una cuenta de ahor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segurada a nivel federal por la Federal Deposit Insurance Corporation (FDI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myfdicinsurance.g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42480" indent="-498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vertir su din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 asegurada a nivel federal y puede perder va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2" descr="Safe with cash"/>
          <p:cNvPicPr/>
          <p:nvPr/>
        </p:nvPicPr>
        <p:blipFill>
          <a:blip r:embed="rId2"/>
          <a:stretch/>
        </p:blipFill>
        <p:spPr>
          <a:xfrm>
            <a:off x="6934320" y="3429000"/>
            <a:ext cx="1614240" cy="1152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ahor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33520" y="25146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cuenta en la cual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ja su dinero durante un cierto periodo de tiempo/plaz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 puede realizar depósitos o reti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Gana más intereses a plazos más larg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iene que pagar si retira su dinero antes de terminar el plaz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Horizontal Scroll 3"/>
          <p:cNvSpPr/>
          <p:nvPr/>
        </p:nvSpPr>
        <p:spPr>
          <a:xfrm>
            <a:off x="530280" y="838080"/>
            <a:ext cx="7616880" cy="175284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l Mercado Mone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ertificado de Depós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 Ahorro con 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Notched Right Arrow 4"/>
          <p:cNvSpPr/>
          <p:nvPr/>
        </p:nvSpPr>
        <p:spPr>
          <a:xfrm rot="19931400">
            <a:off x="26640" y="169704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ahor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3520" y="246708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cuenta qu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quiere un saldo mínimo más alto para ganar interés (generalmen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ga más intereses por saldos más al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 tiene un plazo fij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e permite hacer depósitos y reti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Horizontal Scroll 3"/>
          <p:cNvSpPr/>
          <p:nvPr/>
        </p:nvSpPr>
        <p:spPr>
          <a:xfrm>
            <a:off x="533520" y="790560"/>
            <a:ext cx="7619760" cy="175248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l Mercado Mone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ertificado de Depós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 Ahorro con 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Notched Right Arrow 4"/>
          <p:cNvSpPr/>
          <p:nvPr/>
        </p:nvSpPr>
        <p:spPr>
          <a:xfrm rot="19931400">
            <a:off x="26640" y="16207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ahor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3520" y="246708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cuenta qu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e paga interés en su sal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uede requerir que mantenga un saldo diario míni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quiere un depósito más bajo para abrir la cu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Horizontal Scroll 3"/>
          <p:cNvSpPr/>
          <p:nvPr/>
        </p:nvSpPr>
        <p:spPr>
          <a:xfrm>
            <a:off x="533520" y="790560"/>
            <a:ext cx="7619760" cy="175248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l Mercado Mone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ertificado de Depós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 Ahorro con 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Notched Right Arrow 4"/>
          <p:cNvSpPr/>
          <p:nvPr/>
        </p:nvSpPr>
        <p:spPr>
          <a:xfrm rot="19931400">
            <a:off x="26640" y="16207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uenta de Desarrollo Individual (IDA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82760" y="9903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entas de contribución con un plan de ahorros por igualación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61760" indent="-280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yuda a familias de bajos ingresos a ahorrar dinero y ser financieramente independie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s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61760" indent="-280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Capacitación labo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61760" indent="-280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Educación universita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61760" indent="-280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Arial"/>
                <a:ea typeface="Arial"/>
              </a:rPr>
              <a:t>Establecer una pequeña empre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61760" indent="-280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Comprar una ca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19" descr="Female graduate taking a picture with family"/>
          <p:cNvPicPr/>
          <p:nvPr/>
        </p:nvPicPr>
        <p:blipFill>
          <a:blip r:embed="rId1"/>
          <a:stretch/>
        </p:blipFill>
        <p:spPr>
          <a:xfrm>
            <a:off x="6248520" y="3216240"/>
            <a:ext cx="2438280" cy="1622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uenta de Transferencia Electrónica (ET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46160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enta de bajo cos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ermite a los destinatarios </a:t>
            </a: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 pagos del gobierno federal recibir sus pagos a través del depósito direc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lgunas características s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 cargo mensual menor o igual a $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in saldo míni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a opción de transacciones de débito en puntos de v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l Plan de Ahorro Universitario 52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6840" y="1218960"/>
            <a:ext cx="60958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lan de ahorro para educació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63040" indent="-229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perado por una institución educacional o esta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63040" indent="-229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iseñado para ayudar a familias a reservar fondos para pagar los costos universitarios futu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ip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63040" indent="-229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lan 529 de Matrícula Prepag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63040" indent="-229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lan de Ahorro 52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2" descr="Three college students walking through a campus with books in their hands"/>
          <p:cNvPicPr/>
          <p:nvPr/>
        </p:nvPicPr>
        <p:blipFill>
          <a:blip r:embed="rId1"/>
          <a:stretch/>
        </p:blipFill>
        <p:spPr>
          <a:xfrm>
            <a:off x="6391440" y="1523880"/>
            <a:ext cx="244764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mprar una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12189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Inversión:</a:t>
            </a:r>
            <a:r>
              <a:rPr b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opción de ahorro a largo plazo para ingresos futuros o beneficios financier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63400" indent="-28548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os productos de inversión no están asegurados a nivel feder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63400" indent="-28548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be medir los riesgos y las gananci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63400" indent="-28548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Gana dinero a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7640" indent="-22860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Vender las inversiones por más de lo que pag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7640" indent="-22860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cibir dividendos e inter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ienvenid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040" y="1904760"/>
            <a:ext cx="43434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rmas básic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a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ntes de inverti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6840" y="1265040"/>
            <a:ext cx="84582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horre dinero (6 meses para su protección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able c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u ban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 asesor de buena reput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a firma de invers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gunte por las cuentas para la jubilación ofrecidas por su emplead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aga sus propias indaga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14" descr="Person inserting paper labeled &quot;401K&quot; into a piggy bank"/>
          <p:cNvPicPr/>
          <p:nvPr/>
        </p:nvPicPr>
        <p:blipFill>
          <a:blip r:embed="rId1"/>
          <a:stretch/>
        </p:blipFill>
        <p:spPr>
          <a:xfrm>
            <a:off x="6858000" y="2057400"/>
            <a:ext cx="129384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roductos de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on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ondos mutu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versiones para la jubil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c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ítulos del Tesoro de los Estados Unidos (EE.UU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2" descr="Stock charts and data"/>
          <p:cNvPicPr/>
          <p:nvPr/>
        </p:nvPicPr>
        <p:blipFill>
          <a:blip r:embed="rId1"/>
          <a:stretch/>
        </p:blipFill>
        <p:spPr>
          <a:xfrm>
            <a:off x="6259680" y="1676520"/>
            <a:ext cx="2655720" cy="1904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28600" y="2362320"/>
            <a:ext cx="86868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ando presta dinero a una corporación o al gobierno durante un cierto periodo de tiempo/plazo.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ando es propietario de parte de una compañía. Podrá recibir dividendos cuando la compañía tiene ganancia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Horizontal Scroll 8" descr=""/>
          <p:cNvPicPr/>
          <p:nvPr/>
        </p:nvPicPr>
        <p:blipFill>
          <a:blip r:embed="rId1"/>
          <a:stretch/>
        </p:blipFill>
        <p:spPr>
          <a:xfrm>
            <a:off x="506520" y="774720"/>
            <a:ext cx="8057880" cy="1657440"/>
          </a:xfrm>
          <a:prstGeom prst="rect">
            <a:avLst/>
          </a:prstGeom>
          <a:ln w="0">
            <a:noFill/>
          </a:ln>
        </p:spPr>
      </p:pic>
      <p:sp>
        <p:nvSpPr>
          <p:cNvPr id="253" name="Notched Right Arrow 9"/>
          <p:cNvSpPr/>
          <p:nvPr/>
        </p:nvSpPr>
        <p:spPr>
          <a:xfrm rot="19931400">
            <a:off x="26640" y="18493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0"/>
          <p:cNvSpPr/>
          <p:nvPr/>
        </p:nvSpPr>
        <p:spPr>
          <a:xfrm>
            <a:off x="4724280" y="11430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versiones de jubi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1"/>
          <p:cNvSpPr/>
          <p:nvPr/>
        </p:nvSpPr>
        <p:spPr>
          <a:xfrm>
            <a:off x="3886200" y="16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ítulos del Tesoro de EE.U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2"/>
          <p:cNvSpPr/>
          <p:nvPr/>
        </p:nvSpPr>
        <p:spPr>
          <a:xfrm>
            <a:off x="1828800" y="1600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3"/>
          <p:cNvSpPr/>
          <p:nvPr/>
        </p:nvSpPr>
        <p:spPr>
          <a:xfrm>
            <a:off x="762120" y="1143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o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4"/>
          <p:cNvSpPr/>
          <p:nvPr/>
        </p:nvSpPr>
        <p:spPr>
          <a:xfrm>
            <a:off x="2057400" y="11430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ondos mutu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52280" y="2408040"/>
            <a:ext cx="8686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ando presta dinero al gobierno. Puede elegir de productos basados en su valor nominal y la fecha de vencimient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ando invierte dinero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urante un largo periodo de tiempo para así tener dinero para su sustento cuando deje de trabajar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60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Horizontal Scroll 6" descr=""/>
          <p:cNvPicPr/>
          <p:nvPr/>
        </p:nvPicPr>
        <p:blipFill>
          <a:blip r:embed="rId1"/>
          <a:stretch/>
        </p:blipFill>
        <p:spPr>
          <a:xfrm>
            <a:off x="506520" y="774720"/>
            <a:ext cx="8057880" cy="1657440"/>
          </a:xfrm>
          <a:prstGeom prst="rect">
            <a:avLst/>
          </a:prstGeom>
          <a:ln w="0">
            <a:noFill/>
          </a:ln>
        </p:spPr>
      </p:pic>
      <p:sp>
        <p:nvSpPr>
          <p:cNvPr id="262" name="Notched Right Arrow 7"/>
          <p:cNvSpPr/>
          <p:nvPr/>
        </p:nvSpPr>
        <p:spPr>
          <a:xfrm rot="19931400">
            <a:off x="26640" y="18493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8"/>
          <p:cNvSpPr/>
          <p:nvPr/>
        </p:nvSpPr>
        <p:spPr>
          <a:xfrm>
            <a:off x="4724280" y="11430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versiones de jubi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9"/>
          <p:cNvSpPr/>
          <p:nvPr/>
        </p:nvSpPr>
        <p:spPr>
          <a:xfrm>
            <a:off x="3886200" y="16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ítulos del Tesoro de EE.U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0"/>
          <p:cNvSpPr/>
          <p:nvPr/>
        </p:nvSpPr>
        <p:spPr>
          <a:xfrm>
            <a:off x="1828800" y="1600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1"/>
          <p:cNvSpPr/>
          <p:nvPr/>
        </p:nvSpPr>
        <p:spPr>
          <a:xfrm>
            <a:off x="762120" y="1143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o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2"/>
          <p:cNvSpPr/>
          <p:nvPr/>
        </p:nvSpPr>
        <p:spPr>
          <a:xfrm>
            <a:off x="2057400" y="11430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ondos mutu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52280" y="2408040"/>
            <a:ext cx="8686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oducto que le permite invertir en muchos inversores y productos de inversión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60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Horizontal Scroll 5" descr=""/>
          <p:cNvPicPr/>
          <p:nvPr/>
        </p:nvPicPr>
        <p:blipFill>
          <a:blip r:embed="rId1"/>
          <a:stretch/>
        </p:blipFill>
        <p:spPr>
          <a:xfrm>
            <a:off x="506520" y="774720"/>
            <a:ext cx="8057880" cy="1657440"/>
          </a:xfrm>
          <a:prstGeom prst="rect">
            <a:avLst/>
          </a:prstGeom>
          <a:ln w="0">
            <a:noFill/>
          </a:ln>
        </p:spPr>
      </p:pic>
      <p:sp>
        <p:nvSpPr>
          <p:cNvPr id="271" name="Notched Right Arrow 8"/>
          <p:cNvSpPr/>
          <p:nvPr/>
        </p:nvSpPr>
        <p:spPr>
          <a:xfrm rot="19931400">
            <a:off x="26640" y="18493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4"/>
          <p:cNvSpPr/>
          <p:nvPr/>
        </p:nvSpPr>
        <p:spPr>
          <a:xfrm>
            <a:off x="4724280" y="11430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versiones de jubi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5"/>
          <p:cNvSpPr/>
          <p:nvPr/>
        </p:nvSpPr>
        <p:spPr>
          <a:xfrm>
            <a:off x="3886200" y="16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ítulos del Tesoro de EE.U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6"/>
          <p:cNvSpPr/>
          <p:nvPr/>
        </p:nvSpPr>
        <p:spPr>
          <a:xfrm>
            <a:off x="1828800" y="1600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7"/>
          <p:cNvSpPr/>
          <p:nvPr/>
        </p:nvSpPr>
        <p:spPr>
          <a:xfrm>
            <a:off x="762120" y="1143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o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8"/>
          <p:cNvSpPr/>
          <p:nvPr/>
        </p:nvSpPr>
        <p:spPr>
          <a:xfrm>
            <a:off x="2057400" y="11430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ondos mutu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onos de ahor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2949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onos 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Se compran a su valor nomi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onos 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Normalmente se compran a la mitad de su valor nomi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4" descr="$500 EE Savings bond"/>
          <p:cNvPicPr/>
          <p:nvPr/>
        </p:nvPicPr>
        <p:blipFill>
          <a:blip r:embed="rId1"/>
          <a:stretch/>
        </p:blipFill>
        <p:spPr>
          <a:xfrm>
            <a:off x="2438280" y="3429000"/>
            <a:ext cx="4343400" cy="1889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80" name="TextBox 5"/>
          <p:cNvSpPr/>
          <p:nvPr/>
        </p:nvSpPr>
        <p:spPr>
          <a:xfrm>
            <a:off x="3655440" y="5410080"/>
            <a:ext cx="23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e4e"/>
                </a:solidFill>
                <a:latin typeface="Helvetica Neue"/>
              </a:rPr>
              <a:t>Ejemplo de Bono 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Títulos del Tesoro de EE.UU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066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bligaciones del Tesoro (T bill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garés del Tesoro (T not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ítulos del Tesoro Protegidos contra  la Inflación (TIP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onos del Tesoro (T bon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on seguros porque están respaldados por el Gobierno de EE.U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onos corpora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éstamos a corporaciones durante un cierto periodo de tiempo/plazo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 corporación se compromete a devolver el monto de dinero que usted le presta en una fecha específic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ci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987480"/>
            <a:ext cx="68580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st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 propietario de una participación/parte de la compañí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odría recibir dividendos si la compañía tiene gananci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valor de su inversión cambia (sube o baja) según la bolsa de valor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2" descr="Up and down arrow representing the fluctuation of stocks"/>
          <p:cNvPicPr/>
          <p:nvPr/>
        </p:nvPicPr>
        <p:blipFill>
          <a:blip r:embed="rId1"/>
          <a:stretch/>
        </p:blipFill>
        <p:spPr>
          <a:xfrm>
            <a:off x="7010280" y="990720"/>
            <a:ext cx="1739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Fondos mutu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33160" y="121932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 producto qu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bina dinero de muchos invers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cluye acciones y bon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uede pagar dividen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mbia en valor con la bolsa de val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Diversifique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istribuya su riesgo de pérdida entre muchas opciones de inversión y ahorr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987120"/>
            <a:ext cx="822960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xplicar por qué es importante ahorr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tablecer objetivos para ahorrar din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icar opciones de ahor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ar qué opciones de ahorro le ayudarán a alcanzar sus objetivos de ahor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conocer cuáles de las opciones de inversión son apropiadas para us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numerar maneras de ahorrar para la jubil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numerar maneras de ahorrar para grandes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3" descr="Arrow in target bulls eye"/>
          <p:cNvPicPr/>
          <p:nvPr/>
        </p:nvPicPr>
        <p:blipFill>
          <a:blip r:embed="rId1"/>
          <a:stretch/>
        </p:blipFill>
        <p:spPr>
          <a:xfrm>
            <a:off x="7924680" y="304920"/>
            <a:ext cx="1143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uentas de Jubilación Individuales (IR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987120"/>
            <a:ext cx="822960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odrían incluir una combinación de productos de invers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tán libres de impues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luctúan con el mercado de valor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cluyen IRA tradicionales y Ro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2" descr="Road signs saying &quot;To,&quot; &quot;Retirement 401K,&quot; &quot;Invest Wisely&quot;"/>
          <p:cNvPicPr/>
          <p:nvPr/>
        </p:nvPicPr>
        <p:blipFill>
          <a:blip r:embed="rId1"/>
          <a:stretch/>
        </p:blipFill>
        <p:spPr>
          <a:xfrm>
            <a:off x="7529400" y="2286000"/>
            <a:ext cx="115740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lanes 401(k) y 403(b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6840" y="987120"/>
            <a:ext cx="838188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401(k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tablecidos por un empleador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ted designa un porcentaje de su salario a retirar antes de pagar impuest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empleador podría ofrecer la equiparación de contribuci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403(b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frecidos a empleados de escuelas públicas y ciertas organizaciones exentas de impue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2" descr="Egg with 401K written on it"/>
          <p:cNvPicPr/>
          <p:nvPr/>
        </p:nvPicPr>
        <p:blipFill>
          <a:blip r:embed="rId1"/>
          <a:stretch/>
        </p:blipFill>
        <p:spPr>
          <a:xfrm>
            <a:off x="7439040" y="380880"/>
            <a:ext cx="131760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nualidades variab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987120"/>
            <a:ext cx="822960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Un seguro contratado que invierte su prima en varias inversiones similares a los fondos mutu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s anualidades variables pueden tener muchos costos, que incluyen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Altos costos anu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argos de rescate sobre retiros prematur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El pago de impuestos por retiros anticipados antes de 59 años y medio de ed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stos de garantía de beneficio en vi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ómo elegir la mejor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6840" y="987120"/>
            <a:ext cx="716292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veriguar todo lo que pue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sidere por cuánto tiempo planea mantener su dinero invertid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iversifiqu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valuar periódicamente sus produc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su tolerancia al riesg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2" descr="Man looking at financial section of newspaper"/>
          <p:cNvPicPr/>
          <p:nvPr/>
        </p:nvPicPr>
        <p:blipFill>
          <a:blip r:embed="rId1"/>
          <a:stretch/>
        </p:blipFill>
        <p:spPr>
          <a:xfrm>
            <a:off x="6934320" y="2971800"/>
            <a:ext cx="152388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tras inversi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r propietario de una cas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Valor de la casa       = $250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132f5a"/>
                </a:solidFill>
                <a:uFillTx/>
                <a:latin typeface="Helvetica Neue"/>
                <a:ea typeface="Arial"/>
              </a:rPr>
              <a:t>Menos la deuda       = $200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apital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               =   $50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r propietario de un negoci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3" descr="House"/>
          <p:cNvPicPr/>
          <p:nvPr/>
        </p:nvPicPr>
        <p:blipFill>
          <a:blip r:embed="rId1"/>
          <a:stretch/>
        </p:blipFill>
        <p:spPr>
          <a:xfrm>
            <a:off x="6095880" y="380880"/>
            <a:ext cx="2819520" cy="1476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horrar para la jubil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6840" y="987120"/>
            <a:ext cx="79246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proveche al máximo los cheques de sueldo que le quedan hasta la jubil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ente reducir o eliminar deud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tablezca un plan para su dinero le alcance durante toda su jubil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Picture 6" descr="Couple sitting on a bench at the beach"/>
          <p:cNvPicPr/>
          <p:nvPr/>
        </p:nvPicPr>
        <p:blipFill>
          <a:blip r:embed="rId1"/>
          <a:stretch/>
        </p:blipFill>
        <p:spPr>
          <a:xfrm>
            <a:off x="6705720" y="4253040"/>
            <a:ext cx="194148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Factores decis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nto dinero quiere ahorrar con el tiemp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Durante cuánto tiempo puede tener invertido su diner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ómo se siente con respecto a poner su dinero en riesg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2: Plan de acción de Páguese Usted Prime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2 en la Guía para los Participant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10440" indent="-509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qué factores podrían afectar su toma de decisiones para ahorr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10440" indent="-509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qué acciones a corto y a largo plazo puede realizar para ahorr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preguntas adicionales tiene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han aprendi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ómo evaluarían el curso de capacitació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nclu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987480"/>
            <a:ext cx="82296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an aprendid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o que significa pagarse a usted mismo y cómo se puede beneficiar al hacer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nsejos para ayudarlo a ahorrar má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ómo incrementa el dinero con intereses compue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Varias opciones de inversión y ahor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ómo decidir qué opciones de inversión y ahorro son mejores para us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sabe uste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sabe o quiere aprender acerca de cómo ahorrar diner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águese Usted Prime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987480"/>
            <a:ext cx="822960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significa “pagarse usted primero”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oner dinero en sus ahorros antes de pagar sus factur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Por qué creen que deberían ahorrar dinero antes de pagar sus factura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les son algunas de las cosas para las que tal vez quiera ahorrar diner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4" descr="Glass piggy bank filled with change"/>
          <p:cNvPicPr/>
          <p:nvPr/>
        </p:nvPicPr>
        <p:blipFill>
          <a:blip r:embed="rId1"/>
          <a:stretch/>
        </p:blipFill>
        <p:spPr>
          <a:xfrm>
            <a:off x="914400" y="4876920"/>
            <a:ext cx="1625760" cy="1218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3818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1: Hoja de trabajo de Páguese Usted Prime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primera parte de la Actividad 1 en la Guía para los Participant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00640" indent="-478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iense en sus objetivos de ahorro y el monto que necesita ahorr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00640" indent="-478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mplimente la primera parte de la hoja de trabajo, “Mis objetivos de ahorro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1: Hoja de trabajo de Páguese Usted Prime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987120"/>
            <a:ext cx="822960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segunda parte de la Actividad 1 en la Guía para los Participant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iense en los consejos para ahorrar que acaba de aprend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mplimente la segunda parte de la hoja de trabajo, “Estrategias para ahorrar para mis objetivos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tere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6840" y="987480"/>
            <a:ext cx="65530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El interés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a suma de dinero que las instituciones financieras le pagan por depositar su dinero con ello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 expresa como un porcenta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 calcula en función del dinero que tiene en su cu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12" descr="Flow of people and money in and out of bank"/>
          <p:cNvPicPr/>
          <p:nvPr/>
        </p:nvPicPr>
        <p:blipFill>
          <a:blip r:embed="rId1"/>
          <a:stretch/>
        </p:blipFill>
        <p:spPr>
          <a:xfrm>
            <a:off x="7315200" y="1905120"/>
            <a:ext cx="1603440" cy="26636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tereses compue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ana dinero e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interés pagado anteriorm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dinero en su cu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interés se puede capitaliza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iariam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ensualm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ualm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6" descr="Calendar and cash"/>
          <p:cNvPicPr/>
          <p:nvPr/>
        </p:nvPicPr>
        <p:blipFill>
          <a:blip r:embed="rId1"/>
          <a:stretch/>
        </p:blipFill>
        <p:spPr>
          <a:xfrm>
            <a:off x="6629400" y="1523880"/>
            <a:ext cx="2179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4:24:57Z</dcterms:created>
  <dc:creator/>
  <dc:description/>
  <dc:language>en-US</dc:language>
  <cp:lastModifiedBy> NTI</cp:lastModifiedBy>
  <dcterms:modified xsi:type="dcterms:W3CDTF">2011-03-09T20:22:31Z</dcterms:modified>
  <cp:revision>18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