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1E94-DA2A-467D-A0AE-E2076DE38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522E-2FA4-4D11-A5C2-1139635B7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FAC-1589-41D9-91C8-C877DD56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F90-53A1-4E6A-9FD3-E344149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E1A-0474-4D4E-9715-A386C10E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448-2ED0-4BCB-9C13-4A14CAB7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8CEA-98A5-42EE-B03B-D544F24C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E3136-B4A6-4D30-9C90-F0FFC76C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B259C-5EEB-483C-9CC5-1EF8DE7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6E294-EFB8-4EF9-858C-0C96691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CCF50-1436-4FBB-A208-5FC9D062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B57B6-2431-455A-943E-F83C00C2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817-F74B-417D-9EFE-1DBE7459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804E4-9C9F-4077-9499-EA728843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4E5D4-216A-4D11-B52F-7E2C85ED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0A9E9-0552-452B-9F76-E5E7B3BD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D3DB1-1D73-4AD4-88F8-C58BF7F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A71ED-D4A3-4767-9A2B-35CEC499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20345-599C-4E3C-9F14-05B46991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43B95-1433-4A30-849C-0A4D752B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D78E4-D4C2-4E74-BE00-FEB7590C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7C6E8-3B2C-406D-82BB-7AB21FA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D5A74-FE3D-44AF-94FD-6E3140C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8F5-EDAE-42DE-A2E2-A0C112D1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3E317-FCD6-4CB9-A803-C273ACE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739821-C806-4524-949D-F13A1D6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1D3E2-2E0F-4D38-8296-CB89AC22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4DF64-8E26-4313-9FEE-4A959521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BC5E6C-F289-48FF-AD14-03AF28F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DD84B-02EB-4080-8807-23AC74F5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C47C0-4DD9-4EFE-A61E-A61A3A5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1A3DF-2AD1-4F10-85C8-B851CE13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AA55E-8BFB-4329-8AA2-7712A7E1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879-109C-41CC-BEB6-DAD98AFE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C8D-46F9-46A4-89E6-BC0D772A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9D1-1EFF-4568-9AF7-38EDA21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31A-1CE3-472B-8F18-84BC3056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515-98F6-4BDD-B7CE-8615452D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205E-B179-412C-BBB5-4F3D4329C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6294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águese Usted Pri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CF42-E0DF-4401-B7B6-767E961A1CB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85F-BFDA-4648-9BE2-4DA1759E44D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CA8A-96C2-4369-8813-2F83EAD61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Páguese Usted Pri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B787-03EA-4D3C-B272-6D6F7910D5FE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6919920" y="6270480"/>
            <a:ext cx="2209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1f497d"/>
                </a:solidFill>
                <a:latin typeface="Arial Rounded MT Bold"/>
              </a:rPr>
              <a:t>Para Promover: Conocimiento, Seguridad y Confia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73F5-35E1-4559-94DC-5017AC90F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0" y="54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águe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28600" y="174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Ust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57200" y="28972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38412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orcentaje Anual de Rendimiento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onto de interés que ganará al cabo de un año mostrado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el efecto de la capit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bería usar para comparar productos de ahorro, en lugar de la tasa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gla del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fórmula que le permite calcul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empo que tardará en duplicar sus ahorr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4% = 18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de interés que necesita para que sus ahorros se dupliquen en un periodo de tiempo fij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quiere que su cuenta de ahorro se duplique de valor en 20 años, ¿qué tasa de interés necesitaría tener la cuent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803680" y="5311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ciones para ahor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9871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isten dos formas básicas de ahorrar diner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brir una cuenta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egurada a nivel federal por la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rtir su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asegurada a nivel federal y puede perder va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en la cu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ja su dinero durante un cierto periodo de tiempo/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puede realizar depósitos o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más intereses a plazos más l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ene que pagar si retira su dinero antes de terminar el pl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saldo mínimo más alto para ganar interés (generalmen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 más intereses por saldos más al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un plazo fij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hacer depósitos y reti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cuent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aga interés en su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requerir que mantenga un saldo diar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ere un depósito más bajo para abrir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l Mercado Mone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do de De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uenta de Ahorro con 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Desarrollo Individual (IDA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s de contribución con un plan de ahorros por igual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yuda a familias de bajos ingresos a ahorrar dinero y ser financieramente independ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apacitación lab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ducación univers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ablecer una pequeña emp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61760" indent="-280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rar una ca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6248520" y="3216240"/>
            <a:ext cx="2438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 de Transferencia Electrónica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616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enta de bajo co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mite a los destinatarios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 pagos del gobierno federal recibir sus pagos a través del depósito direc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características 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cargo mensual menor o igual a $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n sa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opción de transacciones de débito en puntos de 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Plan de Ahorro Universitario 52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218960"/>
            <a:ext cx="6095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para educ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do por una institución educacional o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eñado para ayudar a familias a reservar fondos para pagar los costos universitarios futu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529 de Matrícula Prepa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040" indent="-229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lan de Ahorro 5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391440" y="1523880"/>
            <a:ext cx="24476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rar una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2189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rsión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opción de ahorro a largo plazo para ingresos futuros o beneficios financier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productos de inversión no están asegurados a nivel feder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medir los riesgos y las gananc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3400" indent="-28548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ender las inversiones por más de lo que pag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7640" indent="-22860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ibir dividendos 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tes de inver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26504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horre dinero (6 meses para su protecció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 ban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asesor de buena reput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firma de inver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por las cuentas para la jubilación ofrecidas por su emplead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ga sus propias indag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685800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roductos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ndos mutu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versiones par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de los Estados Unidos (EE.UU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Stock charts and data"/>
          <p:cNvPicPr/>
          <p:nvPr/>
        </p:nvPicPr>
        <p:blipFill>
          <a:blip r:embed="rId1"/>
          <a:stretch/>
        </p:blipFill>
        <p:spPr>
          <a:xfrm>
            <a:off x="6259680" y="1676520"/>
            <a:ext cx="26557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 una corporación o al gobierno durante un cierto periodo de tiempo/plazo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es propietario de parte de una compañía. Podrá recibir dividendos cuando la compañía tiene gananci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Horizontal Scroll 8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53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presta dinero al gobierno. Puede elegir de productos basados en su valor nominal y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invierte dinero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urante un largo periodo de tiempo para así tener dinero para su sustento cuando deje de trabaja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Horizontal Scroll 6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62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9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0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1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2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ombrar el producto de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ducto que le permite invertir en muchos inversores y productos de invers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Horizontal Scroll 5" descr=""/>
          <p:cNvPicPr/>
          <p:nvPr/>
        </p:nvPicPr>
        <p:blipFill>
          <a:blip r:embed="rId1"/>
          <a:stretch/>
        </p:blipFill>
        <p:spPr>
          <a:xfrm>
            <a:off x="506520" y="774720"/>
            <a:ext cx="8057880" cy="1657440"/>
          </a:xfrm>
          <a:prstGeom prst="rect">
            <a:avLst/>
          </a:prstGeom>
          <a:ln w="0">
            <a:noFill/>
          </a:ln>
        </p:spPr>
      </p:pic>
      <p:sp>
        <p:nvSpPr>
          <p:cNvPr id="271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ija u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4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nversiones de jub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5"/>
          <p:cNvSpPr/>
          <p:nvPr/>
        </p:nvSpPr>
        <p:spPr>
          <a:xfrm>
            <a:off x="3886200" y="1600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ítulos del Tesoro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6"/>
          <p:cNvSpPr/>
          <p:nvPr/>
        </p:nvSpPr>
        <p:spPr>
          <a:xfrm>
            <a:off x="1828800" y="1600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7"/>
          <p:cNvSpPr/>
          <p:nvPr/>
        </p:nvSpPr>
        <p:spPr>
          <a:xfrm>
            <a:off x="76212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8"/>
          <p:cNvSpPr/>
          <p:nvPr/>
        </p:nvSpPr>
        <p:spPr>
          <a:xfrm>
            <a:off x="2057400" y="1143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ondos mut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de ahor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compran a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rmalmente se compran a la mitad de su valor nomi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80" name="TextBox 5"/>
          <p:cNvSpPr/>
          <p:nvPr/>
        </p:nvSpPr>
        <p:spPr>
          <a:xfrm>
            <a:off x="3655440" y="541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Ejemplo de Bono 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ítulos del Tesoro de EE.UU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bligaciones del Tesoro (T bil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és del Tesoro (T no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ítulos del Tesoro Protegidos contra  la Inflación (TIP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nos del Tesoro (T bo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seguros porque están respaldados por el Gobierno de EE.U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onos corpora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a corporaciones durante un cierto periodo de tiempo/plaz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orporación se compromete a devolver el monto de dinero que usted le presta en una fecha específic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propietario de una participación/parte de la compañ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recibir dividendos si la compañía tiene gana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 inversión cambia (sube o baja) según la bolsa de valor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ondos mutu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oducto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a dinero de muchos invers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 acciones y bon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ede pagar dividen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mbia en valor con la bolsa de val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iqu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tribuya su riesgo de pérdida entre muchas opciones de inversión y ahorr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s importante ahor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er objetivos para ahorrar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opcione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ones de ahorro le ayudarán a alcanzar sus objetivos de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er cuáles de las opciones de inversión son apropiada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la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35600" indent="-271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umerar maneras de ahorrar para grande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entas de Jubilación Individuales (IR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n incluir una combinación de productos de invers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 libres de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úan con el mercado de val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en IRA tradicionales y Ro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529400" y="22860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lanes 401(k) y 403(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cidos por un emplead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designa un porcentaje de su salario a retirar antes de pagar impuest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empleador podría ofrecer la equiparación de contribu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recidos a empleados de escuelas públicas y ciertas organizaciones exentas de 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ualidades vari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seguro contratado que invierte su prima en varias inversiones similares a los fondos mutu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s anualidades variables pueden tener muchos costos, que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ltos 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de rescate sobre retiros prematu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l pago de impuestos por retiros anticipados antes de 59 años y medio de 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de garantía de beneficio en v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ómo elegir la mejor inver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iguar todo lo que pue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e por cuánto tiempo planea mantener su dinero inverti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aluar periódicamente sus produc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u tolerancia al ries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invers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or de la casa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enos la deuda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propietario de un nego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horrar para la jubil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oveche al máximo los cheques de sueldo que le quedan hasta la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nte reducir o eliminar deu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ablezca un plan para su dinero le alcance durante toda su jubil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705720" y="4253040"/>
            <a:ext cx="19414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actores deci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quiere ahorrar con el tiemp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urante cuánto tiempo puede tener invertido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se siente con respecto a poner su dinero en ries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Plan de acción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factores podrían afectar su toma de decisiones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qué acciones a corto y a largo plazo puede realizar par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n aprendi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 que significa pagarse a usted mismo y cómo se puede beneficiar al hac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ejos para ayudarlo a ahorrar m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incrementa el dinero con intereses co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rias opciones de inversión y ahor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decidir qué opciones de inversión y ahorro son mejores pa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iere aprender acerca de cómo ahorrar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significa “pagarse usted primero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er dinero en sus ahorros antes de pag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deberían ahorrar dinero antes de pagar sus factur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algunas de las cosas para las que tal vez quiera ahorrar diner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914400" y="487692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primer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sus objetivos de ahorro y el monto que necesita ahor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primera parte de la hoja de trabajo, “Mis objetivos de ahorr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ja de trabajo de Páguese Usted Prim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segunda parte d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os consejos para ahorrar que acaba de apren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mplimente la segunda parte de la hoja de trabajo, “Estrategias para ahorrar para mis objetivos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El interé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suma de dinero que las instituciones financieras le pagan por depositar su dinero con ell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expresa como un porcent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calcula en función del dinero que tiene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es compue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ana dinero e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pagado anterior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dinero en su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interés se puede capitaliza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aria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ualm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22:31Z</dcterms:modified>
  <cp:revision>18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