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D06C-1277-42A4-AD65-AFC702A7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DC27-1F61-4731-B012-9F904471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02F-B37D-45FE-8D4F-386E5EE4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B2C-74F4-4E82-BA73-CD896F69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1BB-2082-4354-93F0-FBC13FAB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F1B-556C-4B57-B84E-EF0C6A7C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30B-A154-4D49-BCB7-9C96A75A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B63C5-1BEC-4937-BC39-8DEF57AA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7F761-4134-4280-85BF-D1EE28AD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9BD9F-2543-4066-A1FB-61D446F3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DF1D7-D765-4E0D-AE6F-8104FBA0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3CD8E-A4DF-4ED3-903A-49837F54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88B-9981-4E78-A1DB-004A6F64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78280-4A25-4A22-9056-2919A3E7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7CC41-AAB9-4F1B-A05B-364575DA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6D5FB-EE06-44C0-9647-4E2C1EE1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1412D-FCC5-46BE-9178-B77B80B3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3608F-C7A5-412E-B076-FB08DB49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3E953-0BFD-4CFD-A17F-2CF7C558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C6FC4-4680-4705-9590-F729BD70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714AF-A99E-4F48-9930-147CE65F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530EC-88AA-4BF9-9893-FFBFC3B9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E07AD-C99F-4BDC-93E5-AE7B564C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1E0-E7F0-48A3-9377-E969BAEB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0BC12-1CCE-425C-8551-90DAAAA8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88E71-6274-49D4-9FE0-3491136E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D0123-3F44-4A56-9606-A254BAAC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8DABC-84D5-4BFA-A4E5-633E7DB1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B038FA-A43C-4527-A693-7A2CBCD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25226-3F3C-40EB-AC52-5913EE43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B0F63-BCFA-433A-91C7-A20B5129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C1711-C190-4819-AD1E-D21E0132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0F36F-C031-43AD-8BC9-3883B769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CE2-BF67-477E-9D7A-DC2646E5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20C-BE3A-449D-AF5A-B30CCF7B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C7F-CE74-49E6-91A3-357B08D6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CDA-4420-4EFE-827F-AB1D5680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196-4877-4F24-B351-823BFC7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CDBE-C7CB-4808-B5E7-0FC60DAAF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águese Usted Pri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FD0B-7429-4E36-BB50-6D335F484EEF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F717-CC4E-4A85-AF71-A6732F486925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A151-9EEF-4B78-AE53-AFFB90849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B123-6102-43E4-916E-E7E9348CC847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5262-BFEA-4496-BFC6-BBD6E9832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0" y="54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águ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28600" y="174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s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57200" y="28972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38412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orcentaje Anual de Rendimiento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onto de interés que ganará al cabo de un año mostrado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el efecto de la capit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bería usar para comparar productos de ahorro, en lugar de la tasa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gla del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fórmula que le permite calcul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empo que tardará en duplicar sus ahorr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4% = 18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de interés que necesita para que sus ahorros se dupliquen en un periodo de tiempo fij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quiere que su cuenta de ahorro se duplique de valor en 20 años, ¿qué tasa de interés necesitaría tener la cuent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803680" y="531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ciones para ahor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871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isten dos formas básicas de ahorrar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brir una cuenta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da a nivel federal por la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rtir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asegurada a nivel federal y puede perder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en la cu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ja su dinero durante un cierto periodo de tiempo/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uede realizar depósitos o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más intereses a plazos más l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ene que pagar si retira su dinero antes de terminar el 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saldo mínimo más alto para ganar interés (generalmen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 más intereses por saldos más al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un plazo fi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hacer depósitos y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aga interés en su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requerir que mantenga un saldo diar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depósito más bajo para abrir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Desarrollo Individual (IDA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contribución con un plan de ahorros por igual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familias de bajos ingresos a ahorrar dinero y ser financieramente independ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apacita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ducación univers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ablecer una pequeña emp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rar una 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6248520" y="3216240"/>
            <a:ext cx="2438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Transferencia Electrónica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616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 de bajo co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mite a los destinatarios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 pagos del gobierno federal recibir sus pagos a través del depósito dir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características 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cargo mensual menor o igual a $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 sa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opción de transacciones de débito en puntos de 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Plan de Ahorro Universitario 5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8960"/>
            <a:ext cx="6095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para educ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do por una institución educacional o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eñado para ayudar a familias a reservar fondos para pagar los costos universitarios fut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529 de Matrícula Prep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5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391440" y="1523880"/>
            <a:ext cx="2447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rar una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rsión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opción de ahorro a largo plazo para ingresos futuros o beneficios financie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roductos de inversión no están asegurados a nivel fede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medir los riesgos y las gananc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ender las inversiones por más de lo que pag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ibir dividendos 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tes de inver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26504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 (6 meses para su protecció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 ban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asesor de buena repu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firma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por las cuentas para la jubilación ofrecidas por su emple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ga sus propias indag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685800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roductos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ndos mutu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versiones par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de los Estados Unidos (EE.UU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Stock charts and data"/>
          <p:cNvPicPr/>
          <p:nvPr/>
        </p:nvPicPr>
        <p:blipFill>
          <a:blip r:embed="rId1"/>
          <a:stretch/>
        </p:blipFill>
        <p:spPr>
          <a:xfrm>
            <a:off x="6259680" y="1676520"/>
            <a:ext cx="2655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 una corporación o al gobierno durante un cierto periodo de tiempo/plazo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es propietario de parte de una compañía. Podrá recibir dividendos cuando la compañía tiene gana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Horizontal Scroll 8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53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l gobierno. Puede elegir de productos basados en su valor nominal y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invierte dinero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urante un largo periodo de tiempo para así tener dinero para su sustento cuando deje de trabaj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Horizontal Scroll 6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62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ducto que le permite invertir en muchos inversores y productos de invers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Horizontal Scroll 5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71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compran a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rmalmente se compran a la mitad de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TextBox 5"/>
          <p:cNvSpPr/>
          <p:nvPr/>
        </p:nvSpPr>
        <p:spPr>
          <a:xfrm>
            <a:off x="3655440" y="541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Ejemplo de Bono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ítulos del Tesoro de EE.U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bligaciones del Tesoro (T bil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és del Tesoro (T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Protegidos contra  la Inflación (TIP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del Tesoro (T bo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seguros porque están respaldados por el Gobierno de EE.U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corpora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a corporaciones durante un cierto periodo de tiempo/plaz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rporación se compromete a devolver el monto de dinero que usted le presta en una fecha específic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pietario de una participación/parte de la compañ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recibir dividendos si la compañía tiene gan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 inversión cambia (sube o baja) según la bolsa de valo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ondos mutu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oducto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a dinero de muchos inver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acciones y 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pagar dividen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mbia en valor con la bolsa de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iqu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tribuya su riesgo de pérdida entre muchas opciones de inversión y ahor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s importante ahor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er objetivos para ahorrar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opcione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ones de ahorro le ayudarán a alcanzar sus objetivo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er cuáles de las opciones de inversión son apropiada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la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grande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n incluir una combinación de productos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 libres de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úan con el mercado de val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n IRA tradicionales y R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529400" y="22860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lanes 401(k) y 403(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idos por un emplead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signa un porcentaje de su salario a retirar antes de pagar impues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empleador podría ofrecer la equiparación de contribu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recidos a empleados de escuelas públicas y ciertas organizaciones exentas de 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ualidades vari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seguro contratado que invierte su prima en varias inversiones similares a los fondos mutu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s anualidades variables pueden tener muchos costos, que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ltos 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de rescate sobre retiros prematu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l pago de impuestos por retiros anticipados antes de 59 años y medio de 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de garantía de beneficio en v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ómo elegir la mejor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iguar todo lo que pue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por cuánto tiempo planea mantener su dinero invert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uar periódicamente sus produc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u tolerancia 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or de la casa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enos la deuda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 nego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horrar para la jubi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oveche al máximo los cheques de sueldo que le quedan hast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nte reducir o eliminar deu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un plan para su dinero le alcance durante toda su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705720" y="4253040"/>
            <a:ext cx="1941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actores deci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quiere ahorrar con el tiemp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urante cuánto tiempo puede tener invertido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se siente con respecto a poner su dinero en ries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Plan de acción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factores podrían afectar su toma de decisiones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acciones a corto y a largo plazo puede realizar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 que significa pagarse a usted mismo y cómo se puede beneficiar al hac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ejos para ayudarlo a ahorrar m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incrementa el dinero con interese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rias opciones de inversión y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decidir qué opciones de inversión y ahorro son mejore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iere aprender acerca de cómo ahorrar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significa “pagarse usted primero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er dinero en sus ahorros antes de pag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deberían ahorrar dinero antes de pagar sus factur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algunas de las cosas para las que tal vez quiera ahorrar diner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914400" y="487692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primer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s objetivos de ahorro y el monto que necesit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primera parte de la hoja de trabajo, “Mis objetivos de ahorr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segund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os consejos para ahorrar que acaba de apr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segunda parte de la hoja de trabajo, “Estrategias para ahorrar para mis objetivo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El interé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suma de dinero que las instituciones financieras le pagan por depositar su dinero con ell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xpresa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calcula en función del dinero que tiene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 com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pagado anterior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inero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se puede capitaliz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22:31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