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CA1-9A11-4632-8AE7-28F37505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798-772A-43C4-864C-45C4BFDE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0F04-A8AC-4847-83E1-76482561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A41-53F3-496B-A484-587E48B2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7D9-6004-43B6-BBD7-4BAAB19D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F62FF-5B93-439A-AE91-3FE38CDF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776C1-A05F-426C-BB8E-C1F71DB5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B40A7-EAD1-4082-AF9C-373B44B4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66032-E80F-4512-9EF8-6598974B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69F9C-BE25-406F-9E79-7DBA3681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D7D-98A5-4EC0-B54D-64C8D9FE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0A1DA-52F7-4EE7-B7CB-31F7466E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E7E2B-3AEC-4F80-A5D7-537DC0E5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68061-87BF-47E8-8DCC-233E4AA5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A6A4A-C434-4B53-9ECA-785E7227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9FCE3-051E-442E-92CC-84A2CF8A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E3CAE-0E67-4CD9-9838-BC218A9C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BE9C9-67BE-443A-BE77-D465727E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A5CC18-58CC-41D7-9380-B08E0F11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24D45-D265-4BD7-86A8-5854FD27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891E1-44BC-4F86-BC23-F05D9A24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73A-63F7-45AB-8AB6-4E8385F0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8B837-168B-431A-A199-83689D93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B2C12-6EED-4927-930B-B3A5B7C8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0A7E54-0258-46CB-BF86-CACB3156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BEF93-30A4-4017-8CFB-7ED63373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A8D744-ED86-42AB-8AD8-9EDC8759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603C4-20F7-40D0-A2EB-E873EADE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9AAF5C-6805-4787-AD27-C949B4F0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1E835-7469-4113-990A-60DBC31A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371BEC-E615-490F-8FF9-3A01D51E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C41-6880-4D9E-86F1-5191A48C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EB4-2C26-4190-8604-7D2ED4BD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3C7-1AB9-4DA2-BB4D-ED668A1B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1D4-B4E2-469D-95A6-6B1E5150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436-30EA-4455-87F2-9F22D3B7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54F4-9C0C-42C4-9DCB-92AE9FC23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ay Yourself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F038-472F-43E6-8425-93ED1203E08C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Pay Yourself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2767-897B-4262-BCED-A6210F3FD200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7FDB-7CD6-47F2-9A80-3297A553C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Pay Yourself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80EE-C6EB-4FC2-B5D5-D7ED1C1355A0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834B-954A-400D-9275-5BB15BFD4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380880" y="6858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104760" y="1878120"/>
            <a:ext cx="4267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rsel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380880" y="2697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ir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nual Percentage Yield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the amount of interest you will earn on a yearly basis expressed as a perce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the effect of compo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uld be used to compare saving products, not the interes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ule of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formula that lets you estima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it will take for your savings to double in value: 72 ÷ 4% = 18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interest rate needed to double your savings within a set time period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want your savings account to double in value in 20 years, what interest rate would the account need to hav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2743200" y="4865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  <a:ea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 Op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re are two basic ways to save mone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n a savings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ederally insured by the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st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t federally insured and can los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in which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ve your money for a set period of time/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not make deposits or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 a higher interest rate with longer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a fee if you withdraw your money before the term has e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tha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a higher minimum balance to earn interest (usual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s a higher interest rate for higher bal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oes not have a fixed te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you to make deposits and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s interest on your bal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require you to maintain a minimum daily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a lower minimum deposit to o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Development Account (ID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tched savings accou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elps low-income families save money and become financially in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Job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llege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mall business start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ome purc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5948280" y="3352680"/>
            <a:ext cx="2738520" cy="1820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ectronic Transfer Account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w-cost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federal payment recipients to receive their payments through direct depos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ature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 fee of $3 (or le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minimum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it card for point-of-sale transactions may be off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529 College Savings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218960"/>
            <a:ext cx="55627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savings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ted by a state or educational institu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igned to help families set aside funds to pay for future colleg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529 Prepaid Tui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529 Savings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095880" y="1523880"/>
            <a:ext cx="2448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uy an Inves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193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stment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long-term savings option for future income or financial benef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stment products are not federally insur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ust weigh the risks and retur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earn money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lling the investments for more than you p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eiving dividends and interest earn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fore You Inv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2650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ve money (6-month savings cushio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lk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r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reputable financial advi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investment fi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sk about employer-offered retirement accou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r own resear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708804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vestment Produ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tual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investme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oc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ited States (U.S.) Treasury secur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Stock charts and data"/>
          <p:cNvPicPr/>
          <p:nvPr/>
        </p:nvPicPr>
        <p:blipFill>
          <a:blip r:embed="rId1"/>
          <a:stretch/>
        </p:blipFill>
        <p:spPr>
          <a:xfrm>
            <a:off x="5681520" y="1676520"/>
            <a:ext cx="2928960" cy="2100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loan money to a corporation or the government for a certain period of time/term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own a share/part of a company. You might receive periodic dividends when the company makes a prof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Horizontal Scroll 8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42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3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loan money to the government. You can select from products based on their face value and maturity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invest money over a long period of time so that you will have money to live on when you are no longer working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Horizontal Scroll 6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51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roduct that allows you to invest in many investors and investment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Horizontal Scroll 5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60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s Bo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 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rchased at fac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E 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rmally purchased at half their fac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9" name="TextBox 5"/>
          <p:cNvSpPr/>
          <p:nvPr/>
        </p:nvSpPr>
        <p:spPr>
          <a:xfrm>
            <a:off x="3669120" y="5410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Sample EE B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U.S. Treasury Secur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Inflation-Protected Securities (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se are safe because they are backed by the U.S. Govern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rporate Bo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ans to a corporation for a certain period of time/te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rporation promises to repay the amount of money you lend it on a specified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toc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wn a share/part of a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receive dividends if the company pro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value of your investment changes (up or down) according to the stock marke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utual F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roduct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es money from many inves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stocks and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pay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anges in value with the stock mar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y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pread your risk of loss across many savings and investment op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ain why it is important to s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goals for saving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savings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savings options will help you reach your savings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which investment options are right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ways to save for reti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ways to save for large expense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Retirement Arrangements </a:t>
            </a:r>
            <a:br>
              <a:rPr sz="3600"/>
            </a:b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(IRA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y include a combination of investment produ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tax exem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uate with stock mark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 Traditional IRAs and Roth IR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086600" y="25146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401(k) and 403(b) Pl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ished by an employe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designate a percentage of your pay to be taken out before tax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mployers may offer matching contrib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fered to employees of public schools and certain tax-exempt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Variable Annu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insurance contract that invests your premium in various mutual fund-like invest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riable annuities can be very costly due to the fees, which inclu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igh annual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render charges on early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penalty on early withdrawal before age 59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fe benefit guarantee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How To Choose the Best Inves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arn as much as possi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how long you plan to keep your money in the invest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-evaluate your products periodicall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risk tole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Invest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ning a h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ue of hom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inus Debt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	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quit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ning a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 for Retir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 most of your remaining paychecks until ret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ry to reduce or eliminate deb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velop a plan to stretch your money through ret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477120" y="3925800"/>
            <a:ext cx="2209680" cy="1560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ision Fac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want to save over tim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can you leave your money invest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do you feel about risking your mone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Pay Yourself First Ac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factors may affect your savings decision mak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short- and long-term actions you can take to s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at it means to pay yourself first and how you can benefit by doing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ps to help you save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your money can grow with compound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number of savings and investment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decide what savings and investment options are best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saving mone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 Yourself Fir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does it mean to “pay yourself first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t money in savings before paying your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y would you want to save money before paying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are some of the things you might want to save money f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6608880" y="4114800"/>
            <a:ext cx="193032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Pay Yourself First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Statement 1 of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savings goals and the amount you need to s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l out the first part of the worksheet, “My savings goal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Pay Yourself First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Statement 2 of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the savings tips you just learned ab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l out the second part of the worksheet, “Strategies to save for my goal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amount of money financial institutions pay you for keeping money on deposit with th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ressed as a perce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culated based on the money in your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ound 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earn money 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viously paid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money in your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can be compound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a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21:02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