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2.wmf" ContentType="image/x-wmf"/>
  <Override PartName="/ppt/media/image11.wmf" ContentType="image/x-wmf"/>
  <Override PartName="/ppt/media/image17.jpeg" ContentType="image/jpeg"/>
  <Override PartName="/ppt/media/image26.png" ContentType="image/png"/>
  <Override PartName="/ppt/media/image9.jpeg" ContentType="image/jpeg"/>
  <Override PartName="/ppt/media/image8.wmf" ContentType="image/x-wmf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0.wmf" ContentType="image/x-wmf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E08C-074B-4020-9AC6-416E93B4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5164-F159-4A72-8EBA-6043422A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A9E2-BDFD-4792-92C1-CDA96B94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8CF7-97F9-417D-80DC-E76F654F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4595-8BC6-45B7-B642-B4C8F419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6BCAD4-02E1-4123-9EBA-2FA963175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3EA6BE-DE14-49E4-8E74-387B4A4A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EBFCB2-8B49-44FD-8CE5-4D3A9BEE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4089B2-440C-4404-B05C-E780A41C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567E1F-06D1-4FF8-B68E-59E971EB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F19E-7CEC-4A37-9E62-296AD3E5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8CEC8-D686-4365-836C-314D1860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9D1366-AC31-492C-829E-2B54F179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D707F9-4CB5-4BBF-A344-C1B29879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49853-7CA0-429F-9862-9FA71D29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A2D335-886E-43FE-AB88-A403C32C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93932B-0965-4DB1-83FA-4A3E5319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43C112-4B02-4BE2-B089-2D190853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C9F4FA-5B0E-4159-87A4-5321BED9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E07DC6-20EC-4582-AD5A-96966B53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A62C92-B4A8-412B-86A0-BEDEF878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50B7-13EF-44D5-B49C-705F0C74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0207D7-F956-4C23-AF2A-3ED2BD7E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FC4E69-3877-4D50-BBC6-7E3E4752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4B2AAE-28A0-419F-9DE3-D8F1C239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655C79-6661-4D58-9DB5-E612F90C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50E917-1513-4716-A201-0B8DF578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664D76-69C8-42FC-AE72-931C3818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F1ADF7-B8B5-44A1-99FF-0D1D97C3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B66E61-571C-4801-9BE3-39536109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0E2A58-25C0-4AC2-99B6-559A42A4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E1D6-7F3D-4283-A863-95CADBC3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9E8B-5A05-4EA5-ABEE-3AFF5A7E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D4F5-63F2-4759-B29A-3F7A474A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6B58-A493-41A0-A501-B8FF59B5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7915-8598-451D-989E-C10706BE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AD66-B6A7-488B-A46A-635C0B7C7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ay Yourself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6AA0-A1DF-496A-96F8-43EF45B22121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Pay Yourself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FA5D-5BCA-41AD-B0E1-0A683DB9782C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CDBB-5888-46D9-9DB3-78D65B65A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Pay Yourself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FEB4-9300-4EAF-A3C1-2C0275F37161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EECB-C4AE-41EC-B022-CC28FA53F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yfdicinsurance.gov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ay Yourself First title slide with FDIC Money Smart logo and module logo including a coin and piggy ban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7"/>
          <p:cNvSpPr/>
          <p:nvPr/>
        </p:nvSpPr>
        <p:spPr>
          <a:xfrm>
            <a:off x="380880" y="68580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a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104760" y="1878120"/>
            <a:ext cx="42670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Yourself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380880" y="26971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irs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nual Percentage Yield (AP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1961c"/>
                </a:solidFill>
                <a:latin typeface="Helvetica Neue"/>
                <a:ea typeface="Arial"/>
              </a:rPr>
              <a:t>AP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s the amount of interest you will earn on a yearly basis expressed as a percen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des the effect of compou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hould be used to compare saving products, not the interest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ule of 7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987120"/>
            <a:ext cx="822960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formula that lets you estimat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long it will take for your savings to double in value: 72 ÷ 4% = 18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interest rate needed to double your savings within a set time period: 72 ÷ 12 = 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want your savings account to double in value in 20 years, what interest rate would the account need to hav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72 ÷ 20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2743200" y="48657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e4e"/>
                </a:solidFill>
                <a:latin typeface="Arial"/>
                <a:ea typeface="Arial"/>
              </a:rPr>
              <a:t>3.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aving Op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re are two basic ways to save mone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pen a savings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ederally insured by the Federal Deposit Insurance Corporation (FD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myfdicinsurance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vest your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t federally insured and can lose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Safe with cash"/>
          <p:cNvPicPr/>
          <p:nvPr/>
        </p:nvPicPr>
        <p:blipFill>
          <a:blip r:embed="rId2"/>
          <a:stretch/>
        </p:blipFill>
        <p:spPr>
          <a:xfrm>
            <a:off x="6934320" y="3429000"/>
            <a:ext cx="161424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Savings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520" y="2514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 account in which yo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ave your money for a set period of time/te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nnot make deposits or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arn a higher interest rate with longer te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 a fee if you withdraw your money before the term has e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Horizontal Scroll 3"/>
          <p:cNvSpPr/>
          <p:nvPr/>
        </p:nvSpPr>
        <p:spPr>
          <a:xfrm>
            <a:off x="530280" y="838080"/>
            <a:ext cx="7616880" cy="175284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oney Marke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te of Depo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atement Savings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Notched Right Arrow 4"/>
          <p:cNvSpPr/>
          <p:nvPr/>
        </p:nvSpPr>
        <p:spPr>
          <a:xfrm rot="19931400">
            <a:off x="26640" y="169704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Savings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 account tha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s a higher minimum balance to earn interest (usuall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s a higher interest rate for higher bal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oes not have a fixed ter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lows you to make deposits and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oney Marke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te of Depo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atement Savings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Savings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 account tha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s interest on your bal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ay require you to maintain a minimum daily ba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s a lower minimum deposit to op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oney Marke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te of Depo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atement Savings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dividual Development Account (ID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8276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tched savings accoun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92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elps low-income families save money and become financially indepen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92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Job tr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92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ollege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92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Small business start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92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Home purc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9" descr="Female graduate taking a picture with family"/>
          <p:cNvPicPr/>
          <p:nvPr/>
        </p:nvPicPr>
        <p:blipFill>
          <a:blip r:embed="rId1"/>
          <a:stretch/>
        </p:blipFill>
        <p:spPr>
          <a:xfrm>
            <a:off x="5948280" y="3352680"/>
            <a:ext cx="2738520" cy="1820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lectronic Transfer Account (ET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w-cost accou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lows federal payment recipients to receive their payments through direct depos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eatures inclu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onthly fee of $3 (or les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minimum ba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bit card for point-of-sale transactions may be off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529 College Savings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218960"/>
            <a:ext cx="55627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ducation savings pl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235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perated by a state or educational institu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235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signed to help families set aside funds to pay for future college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yp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235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529 Prepaid Tuitio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235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529 Savings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Three college students walking through a campus with books in their hands"/>
          <p:cNvPicPr/>
          <p:nvPr/>
        </p:nvPicPr>
        <p:blipFill>
          <a:blip r:embed="rId1"/>
          <a:stretch/>
        </p:blipFill>
        <p:spPr>
          <a:xfrm>
            <a:off x="6095880" y="1523880"/>
            <a:ext cx="24480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uy an Inves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2193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vestment:</a:t>
            </a:r>
            <a:r>
              <a:rPr b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long-term savings option for future income or financial benef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vestment products are not federally insur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must weigh the risks and retur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earn money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lling the investments for more than you pa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eiving dividends and interest earn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343040" y="1904760"/>
            <a:ext cx="4343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efore You Inv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2650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ave money (6-month savings cushio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lk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r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 reputable financial advi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 investment fi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sk about employer-offered retirement accoun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r own resear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14" descr="Person inserting paper labeled &quot;401K&quot; into a piggy bank"/>
          <p:cNvPicPr/>
          <p:nvPr/>
        </p:nvPicPr>
        <p:blipFill>
          <a:blip r:embed="rId1"/>
          <a:stretch/>
        </p:blipFill>
        <p:spPr>
          <a:xfrm>
            <a:off x="7088040" y="2057400"/>
            <a:ext cx="129384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vestment Produ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o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utual f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tirement investmen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toc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ited States (U.S.) Treasury secur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Stock charts and data"/>
          <p:cNvPicPr/>
          <p:nvPr/>
        </p:nvPicPr>
        <p:blipFill>
          <a:blip r:embed="rId1"/>
          <a:stretch/>
        </p:blipFill>
        <p:spPr>
          <a:xfrm>
            <a:off x="5681520" y="1676520"/>
            <a:ext cx="2928960" cy="2100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Investment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28600" y="2362320"/>
            <a:ext cx="86868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n you loan money to a corporation or the government for a certain period of time/term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n you own a share/part of a company. You might receive periodic dividends when the company makes a profi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Horizontal Scroll 8" descr=""/>
          <p:cNvPicPr/>
          <p:nvPr/>
        </p:nvPicPr>
        <p:blipFill>
          <a:blip r:embed="rId1"/>
          <a:stretch/>
        </p:blipFill>
        <p:spPr>
          <a:xfrm>
            <a:off x="500040" y="768240"/>
            <a:ext cx="8070840" cy="1670040"/>
          </a:xfrm>
          <a:prstGeom prst="rect">
            <a:avLst/>
          </a:prstGeom>
          <a:ln w="0">
            <a:noFill/>
          </a:ln>
        </p:spPr>
      </p:pic>
      <p:sp>
        <p:nvSpPr>
          <p:cNvPr id="242" name="Notched Right Arrow 9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0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tirement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1"/>
          <p:cNvSpPr/>
          <p:nvPr/>
        </p:nvSpPr>
        <p:spPr>
          <a:xfrm>
            <a:off x="3886200" y="1600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U.S. Treasury secu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2514600" y="1600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3"/>
          <p:cNvSpPr/>
          <p:nvPr/>
        </p:nvSpPr>
        <p:spPr>
          <a:xfrm>
            <a:off x="114300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2438280" y="11430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utual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Investment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n you loan money to the government. You can select from products based on their face value and maturity da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n you invest money over a long period of time so that you will have money to live on when you are no longer working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Horizontal Scroll 6" descr=""/>
          <p:cNvPicPr/>
          <p:nvPr/>
        </p:nvPicPr>
        <p:blipFill>
          <a:blip r:embed="rId1"/>
          <a:stretch/>
        </p:blipFill>
        <p:spPr>
          <a:xfrm>
            <a:off x="500040" y="768240"/>
            <a:ext cx="8070840" cy="1670040"/>
          </a:xfrm>
          <a:prstGeom prst="rect">
            <a:avLst/>
          </a:prstGeom>
          <a:ln w="0">
            <a:noFill/>
          </a:ln>
        </p:spPr>
      </p:pic>
      <p:sp>
        <p:nvSpPr>
          <p:cNvPr id="251" name="Notched Right Arrow 7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tirement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3886200" y="1600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U.S. Treasury secu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2514600" y="1600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1"/>
          <p:cNvSpPr/>
          <p:nvPr/>
        </p:nvSpPr>
        <p:spPr>
          <a:xfrm>
            <a:off x="114300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2"/>
          <p:cNvSpPr/>
          <p:nvPr/>
        </p:nvSpPr>
        <p:spPr>
          <a:xfrm>
            <a:off x="2438280" y="11430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utual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Investment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product that allows you to invest in many investors and investment produ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Horizontal Scroll 5" descr=""/>
          <p:cNvPicPr/>
          <p:nvPr/>
        </p:nvPicPr>
        <p:blipFill>
          <a:blip r:embed="rId1"/>
          <a:stretch/>
        </p:blipFill>
        <p:spPr>
          <a:xfrm>
            <a:off x="500040" y="768240"/>
            <a:ext cx="8070840" cy="1670040"/>
          </a:xfrm>
          <a:prstGeom prst="rect">
            <a:avLst/>
          </a:prstGeom>
          <a:ln w="0">
            <a:noFill/>
          </a:ln>
        </p:spPr>
      </p:pic>
      <p:sp>
        <p:nvSpPr>
          <p:cNvPr id="260" name="Notched Right Arrow 8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tirement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3886200" y="1600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U.S. Treasury secu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2514600" y="1600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114300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3"/>
          <p:cNvSpPr/>
          <p:nvPr/>
        </p:nvSpPr>
        <p:spPr>
          <a:xfrm>
            <a:off x="2438280" y="11430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utual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avings Bo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2949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 Bo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rchased at face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E Bo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rmally purchased at half their face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4" descr="$500 EE Savings bond"/>
          <p:cNvPicPr/>
          <p:nvPr/>
        </p:nvPicPr>
        <p:blipFill>
          <a:blip r:embed="rId1"/>
          <a:stretch/>
        </p:blipFill>
        <p:spPr>
          <a:xfrm>
            <a:off x="2438280" y="3429000"/>
            <a:ext cx="4343400" cy="1889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9" name="TextBox 5"/>
          <p:cNvSpPr/>
          <p:nvPr/>
        </p:nvSpPr>
        <p:spPr>
          <a:xfrm>
            <a:off x="3669120" y="5410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e4e"/>
                </a:solidFill>
                <a:latin typeface="Helvetica Neue"/>
              </a:rPr>
              <a:t>Sample EE B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U.S. Treasury Secur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easury (T) b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easury (T) 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easury Inflation-Protected Securities (TI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easury (T)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se are safe because they are backed by the U.S. Govern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rporate Bo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ans to a corporation for a certain period of time/ter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corporation promises to repay the amount of money you lend it on a specified da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toc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987480"/>
            <a:ext cx="68580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wn a share/part of a comp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ay receive dividends if the company pro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value of your investment changes (up or down) according to the stock marke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2" descr="Up and down arrow representing the fluctuation of stocks"/>
          <p:cNvPicPr/>
          <p:nvPr/>
        </p:nvPicPr>
        <p:blipFill>
          <a:blip r:embed="rId1"/>
          <a:stretch/>
        </p:blipFill>
        <p:spPr>
          <a:xfrm>
            <a:off x="7010280" y="990720"/>
            <a:ext cx="1739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utual Fu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3160" y="12193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product tha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bines money from many invest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des stocks and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ay pay divid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hanges in value with the stock mar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Diversify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pread your risk of loss across many savings and investment op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plain why it is important to s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goals for saving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savings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ich savings options will help you reach your savings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gnize which investment options are right for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ways to save for reti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ways to save for large expense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3" descr="Arrow in target bulls eye"/>
          <p:cNvPicPr/>
          <p:nvPr/>
        </p:nvPicPr>
        <p:blipFill>
          <a:blip r:embed="rId1"/>
          <a:stretch/>
        </p:blipFill>
        <p:spPr>
          <a:xfrm>
            <a:off x="7924680" y="304920"/>
            <a:ext cx="1143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dividual Retirement Arrangements </a:t>
            </a:r>
            <a:br>
              <a:rPr sz="3600"/>
            </a:b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(IRA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y include a combination of investment produ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re tax exem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uctuate with stock mark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de Traditional IRAs and Roth IR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2" descr="Road signs saying &quot;To,&quot; &quot;Retirement 401K,&quot; &quot;Invest Wisely&quot;"/>
          <p:cNvPicPr/>
          <p:nvPr/>
        </p:nvPicPr>
        <p:blipFill>
          <a:blip r:embed="rId1"/>
          <a:stretch/>
        </p:blipFill>
        <p:spPr>
          <a:xfrm>
            <a:off x="7086600" y="2514600"/>
            <a:ext cx="115740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401(k) and 403(b) Pl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987120"/>
            <a:ext cx="83818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1(k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ished by an employe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designate a percentage of your pay to be taken out before tax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mployers may offer matching contribu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3(b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ffered to employees of public schools and certain tax-exempt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2" descr="Egg with 401K written on it"/>
          <p:cNvPicPr/>
          <p:nvPr/>
        </p:nvPicPr>
        <p:blipFill>
          <a:blip r:embed="rId1"/>
          <a:stretch/>
        </p:blipFill>
        <p:spPr>
          <a:xfrm>
            <a:off x="7439040" y="380880"/>
            <a:ext cx="131760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Variable Annu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 insurance contract that invests your premium in various mutual fund-like invest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ariable annuities can be very costly due to the fees, which includ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igh annual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rrender charges on early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x penalty on early withdrawal before age 59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fe benefit guarantee 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How To Choose the Best Inves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6840" y="987120"/>
            <a:ext cx="71629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earn as much as possi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 how long you plan to keep your money in the invest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versif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-evaluate your products periodicall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your risk toler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Man looking at financial section of newspaper"/>
          <p:cNvPicPr/>
          <p:nvPr/>
        </p:nvPicPr>
        <p:blipFill>
          <a:blip r:embed="rId1"/>
          <a:stretch/>
        </p:blipFill>
        <p:spPr>
          <a:xfrm>
            <a:off x="6934320" y="2971800"/>
            <a:ext cx="15238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her Invest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wning a h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alue of hom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      = $2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Minus Debt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	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       = $20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quity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               =   $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wning a busin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3" descr="House"/>
          <p:cNvPicPr/>
          <p:nvPr/>
        </p:nvPicPr>
        <p:blipFill>
          <a:blip r:embed="rId1"/>
          <a:stretch/>
        </p:blipFill>
        <p:spPr>
          <a:xfrm>
            <a:off x="6095880" y="380880"/>
            <a:ext cx="2819520" cy="147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aving for Retir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987120"/>
            <a:ext cx="79246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ke the most of your remaining paychecks until retir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ry to reduce or eliminate deb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velop a plan to stretch your money through retir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6" descr="Couple sitting on a bench at the beach"/>
          <p:cNvPicPr/>
          <p:nvPr/>
        </p:nvPicPr>
        <p:blipFill>
          <a:blip r:embed="rId1"/>
          <a:stretch/>
        </p:blipFill>
        <p:spPr>
          <a:xfrm>
            <a:off x="6477120" y="3925800"/>
            <a:ext cx="2209680" cy="1560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cision Fac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much money do you want to save over tim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long can you leave your money invest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do you feel about risking your mone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2: Pay Yourself First Action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at factors may affect your savings decision mak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at short- and long-term actions you can take to s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987480"/>
            <a:ext cx="82296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learn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at it means to pay yourself first and how you can benefit by doing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ips to help you save 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your money can grow with compound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 number of savings and investment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decide what savings and investment options are best for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saving mone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y Yourself Fir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98748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does it mean to “pay yourself first”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t money in savings before paying your b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y would you want to save money before paying your bill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are some of the things you might want to save money fo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Glass piggy bank filled with change"/>
          <p:cNvPicPr/>
          <p:nvPr/>
        </p:nvPicPr>
        <p:blipFill>
          <a:blip r:embed="rId1"/>
          <a:stretch/>
        </p:blipFill>
        <p:spPr>
          <a:xfrm>
            <a:off x="6608880" y="4114800"/>
            <a:ext cx="1930320" cy="144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1: Pay Yourself First Worksh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Statement 1 of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ink about savings goals and the amount you need to s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l out the first part of the worksheet, “My savings goal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1: Pay Yourself First Worksh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9871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Statement 2 of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 the savings tips you just learned abo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l out the second part of the worksheet, “Strategies to save for my goal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987480"/>
            <a:ext cx="65530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t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 amount of money financial institutions pay you for keeping money on deposit with th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pressed as a percen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lculated based on the money in your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2" descr="Flow of people and money in and out of bank"/>
          <p:cNvPicPr/>
          <p:nvPr/>
        </p:nvPicPr>
        <p:blipFill>
          <a:blip r:embed="rId1"/>
          <a:stretch/>
        </p:blipFill>
        <p:spPr>
          <a:xfrm>
            <a:off x="7315200" y="1905120"/>
            <a:ext cx="1603440" cy="2663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mpound Inter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earn money 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eviously paid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money in your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est can be compound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a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onth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6" descr="Calendar and cash"/>
          <p:cNvPicPr/>
          <p:nvPr/>
        </p:nvPicPr>
        <p:blipFill>
          <a:blip r:embed="rId1"/>
          <a:stretch/>
        </p:blipFill>
        <p:spPr>
          <a:xfrm>
            <a:off x="6629400" y="1523880"/>
            <a:ext cx="2179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National Technologies Inc.</cp:lastModifiedBy>
  <dcterms:modified xsi:type="dcterms:W3CDTF">2010-11-01T14:21:02Z</dcterms:modified>
  <cp:revision>17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