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61B-14FC-4214-9982-8A9479CB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1A2-5D41-4919-8084-354C5369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AB5-3675-4127-A31C-27D1024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491-BF31-4A9D-B962-B421DC8E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9AE-C54E-402F-B741-C6EBF65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4013D-EF3B-49AD-AF15-4D02F8FD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1A072-F906-4B89-98C5-82E2ACCE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FE574-61B8-48EC-B23B-DA9F1538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A07D8-3F8C-4936-8910-ABE5DE53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0CF34-7380-4887-A07E-FF0646FF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0BB-ABA4-475D-AD83-565D27FB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7E628-D041-46E2-9A4C-D8BAC5C2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CFABB-AFD4-4065-BA21-119C079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D6AD4-5386-4D33-8489-4EDCA2A5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E38DB-22D0-4EE3-8D42-90A5C16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6C24F-DF4E-4824-9B40-0B4BE58D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E7EE7-F8FF-4F9A-89D3-24A6A2E5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F6CE0-244E-4605-9415-9FE71597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F6172-FF50-4490-95F4-793250FC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A5908-D484-42EA-9CB0-2BF401F8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7C7D6-FCC8-49A5-B068-3B961F56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818-53AC-4789-880C-BE9CD9DA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8D89F-9CE1-4B58-A419-0D18AC7A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8273E-7DE7-4538-8BCC-3761C108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CDDE2-9E70-42F3-A2C6-F8E68256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E2A29-2218-44F3-B5C4-5E8F06C3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EBF6B-EE90-4A79-B857-4ABA667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EA6AF-B9BC-47B3-8F1F-6894D5A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43231-DE7E-45CD-BFA3-A8471AF8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93CF9-BAFB-4346-BE81-C12C4149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B2CDD-293F-43D5-8006-5B465CEB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107-EFF5-4A31-B064-285D848B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607-93E3-4569-B553-9EE2414B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12A-1CD8-40F0-A94A-2A273AE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88A-A9EB-447D-9C20-A62F81F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038-0D63-429A-B1E7-9C6CFFD2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89D3-4854-42DF-8FF7-B9F055E50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ay Yourself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14B2-252A-4CD4-A564-5856FC06C7E7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7257-2E7A-4305-9B46-C4407C6CBDD5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131F-BCC2-4600-8904-7A7ABA513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7DF8-FB3B-45F4-BB57-D7763A53E14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69C1-93EA-4AA0-A1D2-5D571FB60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380880" y="6858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104760" y="1878120"/>
            <a:ext cx="4267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rse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380880" y="2697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Yield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the amount of interest you will earn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the effect of compo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uld be used to compare saving products, not the inter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ule of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formula that lets you estima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it will take for your savings to double in value: 72 ÷ 4% = 18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interest rate needed to double your savings within a set time period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want your savings account to double in value in 20 years, what interest rate would the account need to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743200" y="4865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  <a:ea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re are two basic ways to 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n a savings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ly insured by the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 federally insured and can los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in which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ve your money for a set period of time/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not make deposits or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 a higher interest rate with longer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a fee if you withdraw your money before the term has 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higher minimum balance to earn interest (usual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a higher interest rate for higher bal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oes not have a fixed 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deposits and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interest on your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quire you to maintain a minimum daily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lower minimum deposit to 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Development Account (ID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tched savings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low-income families save money and become financially 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Job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llege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mall business start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ome purc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5948280" y="3352680"/>
            <a:ext cx="273852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ectronic Transfer Account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-cost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federal payment recipients to receive their payments through direct depos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fee of $3 (or l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minimum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it card for point-of-sale transactions may be off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529 College Savings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8960"/>
            <a:ext cx="5562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savings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ted by a state or educational instit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igned to help families set aside funds to pay for future colleg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Prepaid Tui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Savings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095880" y="1523880"/>
            <a:ext cx="2448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uy an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long-term savings option for future income or financial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ment products are not federally insur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weigh the risks and retur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ling the investments for more than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eiving dividends and interest ear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fore You Inv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65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 (6-month savings cush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reputable financial advi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vestment 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about employer-offered retirement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r own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708804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invest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ited States (U.S.) Treasury secur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Stock charts and data"/>
          <p:cNvPicPr/>
          <p:nvPr/>
        </p:nvPicPr>
        <p:blipFill>
          <a:blip r:embed="rId1"/>
          <a:stretch/>
        </p:blipFill>
        <p:spPr>
          <a:xfrm>
            <a:off x="5681520" y="1676520"/>
            <a:ext cx="292896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a corporation or the government for a certain period of time/term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own a share/part of a company. You might receive periodic dividends when the company makes a prof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Horizontal Scroll 8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42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the government. You can select from products based on their face value and maturity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invest money over a long period of time so that you will have money to live on when you are no longer working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Horizontal Scroll 6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51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 allows you to invest in many investors and investment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Horizontal Scroll 5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60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s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d at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rmally purchased at half their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9" name="TextBox 5"/>
          <p:cNvSpPr/>
          <p:nvPr/>
        </p:nvSpPr>
        <p:spPr>
          <a:xfrm>
            <a:off x="366912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Sample EE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U.S. Treasury Secur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Inflation-Protected Securities (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se are safe because they are backed by the U.S. Gover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rporate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ans to a corporation for a certain period of time/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rporation promises to repay the amount of money you lend it on a specified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wn a share/part of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ceive dividends if the company pro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value of your investment changes (up or down) according to the stock mark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utual F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es money from many inves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 and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pay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anges in value with the stock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y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pread your risk of loss across many savings and investment o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it is important to s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goals for saving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savings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savings options will help you reach your savings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which investment options are righ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ret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large expense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Retirement Arrangements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(IR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y include a combination of investment produ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ax exem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uate with stock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Traditional IRAs and Roth IR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086600" y="25146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401(k) and 403(b)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by an employ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designate a percentage of your pay to be taken out before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mployers may offer matching contrib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fered to employees of public schools and certain tax-exempt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Variable Annu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surance contract that invests your premium in various mutual fund-like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riable annuities can be very costly due to the fees, which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gh 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render charges on early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penalty on early withdrawal before age 59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fe benefit guarante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How To Choose the Best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arn as much as possi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how long you plan to keep your money in the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-evaluate your products periodical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isk tole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h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ue of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inus Debt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	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it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for Retir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 most of your remaining paychecks until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y to reduce or eliminate deb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velop a plan to stretch your money through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477120" y="3925800"/>
            <a:ext cx="2209680" cy="156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ision Fac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want to save over ti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can you leave your money invest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do you feel about risking your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Pay Yourself First Ac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factors may affect your savings decision 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short- and long-term actions you can take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at it means to pay yourself first and how you can benefit by do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ps to help you save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your money can grow with compoun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of savings and investment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decide what savings and investment options are bes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saving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 Yourself Fir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does it mean to “pay yourself first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t money in savings before paying your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would you want to save money before paying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some of the things you might want to save money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6608880" y="4114800"/>
            <a:ext cx="19303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1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savings goals and the amount you need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first part of the worksheet, “My savings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2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the savings tips you just learned ab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second part of the worksheet, “Strategies to save for my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amount of money financial institutions pay you for keeping money on deposit with th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culated based on 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ound 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iously pai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an be compound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21:02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