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3.jpeg" ContentType="image/jpeg"/>
  <Override PartName="/ppt/media/image12.wmf" ContentType="image/x-wmf"/>
  <Override PartName="/ppt/media/image11.wmf" ContentType="image/x-wmf"/>
  <Override PartName="/ppt/media/image17.jpeg" ContentType="image/jpeg"/>
  <Override PartName="/ppt/media/image26.png" ContentType="image/png"/>
  <Override PartName="/ppt/media/image9.jpeg" ContentType="image/jpeg"/>
  <Override PartName="/ppt/media/image8.wmf" ContentType="image/x-wmf"/>
  <Override PartName="/ppt/media/image7.jpeg" ContentType="image/jpeg"/>
  <Override PartName="/ppt/media/image18.png" ContentType="image/png"/>
  <Override PartName="/ppt/media/image6.png" ContentType="image/png"/>
  <Override PartName="/ppt/media/image5.jpeg" ContentType="image/jpeg"/>
  <Override PartName="/ppt/media/image20.wmf" ContentType="image/x-wmf"/>
  <Override PartName="/ppt/media/image21.jpeg" ContentType="image/jpeg"/>
  <Override PartName="/ppt/media/image16.jpeg" ContentType="image/jpeg"/>
  <Override PartName="/ppt/media/image19.png" ContentType="image/png"/>
  <Override PartName="/ppt/media/image15.jpeg" ContentType="image/jpeg"/>
  <Override PartName="/ppt/media/image14.jpeg" ContentType="image/jpeg"/>
  <Override PartName="/ppt/media/image22.jpeg" ContentType="image/jpeg"/>
  <Override PartName="/ppt/media/image1.jpeg" ContentType="image/jpeg"/>
  <Override PartName="/ppt/media/image10.png" ContentType="image/png"/>
  <Override PartName="/ppt/media/image3.jpeg" ContentType="image/jpeg"/>
  <Override PartName="/ppt/media/image24.jpeg" ContentType="image/jpeg"/>
  <Override PartName="/ppt/media/image23.jpeg" ContentType="image/jpeg"/>
  <Override PartName="/ppt/media/image2.jpeg" ContentType="image/jpeg"/>
  <Override PartName="/ppt/media/image4.jpeg" ContentType="image/jpeg"/>
  <Override PartName="/ppt/media/image25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6DCAC-691C-4A4C-A7B0-70679D218B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80598-3F54-46AD-8D2C-2E7F6B58E1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CAB9C-C21C-4838-8D3A-9E190FABAD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08F5-0247-42EA-8B64-64BB75C727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0405-59C2-443C-9FCC-3C35268A5E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7F8AE68-3004-4754-8FF5-A6EC347F27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78D5F9-AAB7-40B7-B47A-A3C5CC083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F20320B-4319-41BE-9FA8-48947894D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7ADE7E7-22F8-4CD0-ABB1-C1C275471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306BD01-5529-4D3B-A3E5-DEFA1209B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C4A2-E700-4E86-8EF1-237A03178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9E86C2-9D01-43DC-9FD1-1008C70092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F476626-1640-4F03-A79B-62C1006CC2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C727860-B61D-465B-91AE-965140E709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D86D8C5-9859-4BFA-A13B-018203BDE2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F348327-5234-43EE-9A44-8476E58B7C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E16D835-E476-4C63-AF75-F610810FC3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A4EFB28-365D-4700-9164-3AE37A9E29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3653088-37E7-450A-AAAB-38E24DEC1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817C4DB-8BB9-40EC-BC39-483617E48D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945B95A-540A-4CE1-AEAE-149AFAC101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F9CFA-E34D-48CF-B8A8-46BDCCF7EE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D323309-AA7F-4F61-95F9-1E6503EB7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7106338-DFC1-466B-8ECE-F829133C5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4995DEFD-6097-4905-9CE2-D32E4DE4D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66A2D3A5-B8B4-4B0C-AB3D-E444807D5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02F1304-3673-41A2-B336-96841F4D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2EDB8166-6E69-48FC-B347-99F24E3A4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BBC86C7-52D5-4C1F-85BA-4B66757253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74C781A-BD20-49E9-AAEA-D29BCBA463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D1A7DAB-2EE5-42B4-B4E0-CBFED68B2C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D06E1-E402-4DD2-B0AC-1C3CC87EB2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286EC-675D-4949-AA94-FCBD1DFBF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0980D-EC5F-4E00-AC5D-4B6B58F3A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5CD1-B36F-46D1-9FB4-90BCF0786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8A60D-478E-41B1-9CE1-CBE16B4A34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0D43A-57C4-4234-B812-DF556E36A45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6" descr="slide2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TextBox 7"/>
          <p:cNvSpPr/>
          <p:nvPr/>
        </p:nvSpPr>
        <p:spPr>
          <a:xfrm>
            <a:off x="6781680" y="6400800"/>
            <a:ext cx="16765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Helvetica Neue"/>
                <a:ea typeface="Helvetica Neue"/>
              </a:rPr>
              <a:t>Pay Yourself 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TextBox 8"/>
          <p:cNvSpPr/>
          <p:nvPr/>
        </p:nvSpPr>
        <p:spPr>
          <a:xfrm>
            <a:off x="8305920" y="6400800"/>
            <a:ext cx="380880" cy="26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AB0663-DDDA-4F04-91EA-82F07C76CB7B}" type="slidenum">
              <a:rPr b="1" lang="en-US" sz="1000" spc="-1" strike="noStrike">
                <a:solidFill>
                  <a:srgbClr val="132f5a"/>
                </a:solidFill>
                <a:latin typeface="Helvetica Neue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" name="Picture 9" descr="slide3.jpg"/>
          <p:cNvPicPr/>
          <p:nvPr/>
        </p:nvPicPr>
        <p:blipFill>
          <a:blip r:embed="rId3"/>
          <a:stretch/>
        </p:blipFill>
        <p:spPr>
          <a:xfrm>
            <a:off x="5943600" y="5346720"/>
            <a:ext cx="2720880" cy="6732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87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Pay Yourself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3389DF-59A9-4CDD-9DC8-5AB61F2CB5AE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dt" idx="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ftr" idx="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sldNum" idx="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3AB47B-BFE2-4522-A70A-905844D22C4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8" descr="PPT_cover_v3.jpg"/>
          <p:cNvPicPr/>
          <p:nvPr/>
        </p:nvPicPr>
        <p:blipFill>
          <a:blip r:embed="rId2"/>
          <a:stretch/>
        </p:blipFill>
        <p:spPr>
          <a:xfrm>
            <a:off x="0" y="0"/>
            <a:ext cx="9144000" cy="134928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logo.jpg"/>
          <p:cNvPicPr/>
          <p:nvPr/>
        </p:nvPicPr>
        <p:blipFill>
          <a:blip r:embed="rId3"/>
          <a:stretch/>
        </p:blipFill>
        <p:spPr>
          <a:xfrm>
            <a:off x="6400800" y="6019920"/>
            <a:ext cx="2449440" cy="637920"/>
          </a:xfrm>
          <a:prstGeom prst="rect">
            <a:avLst/>
          </a:prstGeom>
          <a:ln w="0">
            <a:noFill/>
          </a:ln>
        </p:spPr>
      </p:pic>
      <p:sp>
        <p:nvSpPr>
          <p:cNvPr id="132" name="TextBox 8"/>
          <p:cNvSpPr/>
          <p:nvPr/>
        </p:nvSpPr>
        <p:spPr>
          <a:xfrm>
            <a:off x="6705720" y="6048360"/>
            <a:ext cx="2209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2060"/>
                </a:solidFill>
                <a:latin typeface="Arial"/>
                <a:ea typeface="Arial"/>
              </a:rPr>
              <a:t>Pay Yourself Fir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TextBox 9"/>
          <p:cNvSpPr/>
          <p:nvPr/>
        </p:nvSpPr>
        <p:spPr>
          <a:xfrm>
            <a:off x="8534520" y="604836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713C6-6D17-4F98-B989-B2493F20F806}" type="slidenum">
              <a:rPr b="0" lang="en-US" sz="1200" spc="-1" strike="noStrike">
                <a:solidFill>
                  <a:srgbClr val="00206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PlaceHolder 3"/>
          <p:cNvSpPr>
            <a:spLocks noGrp="1"/>
          </p:cNvSpPr>
          <p:nvPr>
            <p:ph type="dt" idx="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4"/>
          <p:cNvSpPr>
            <a:spLocks noGrp="1"/>
          </p:cNvSpPr>
          <p:nvPr>
            <p:ph type="ftr" idx="1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5"/>
          <p:cNvSpPr>
            <a:spLocks noGrp="1"/>
          </p:cNvSpPr>
          <p:nvPr>
            <p:ph type="sldNum" idx="1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BC62BA-3BC2-4476-A136-2AB3FF9B291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www.myfdicinsurance.gov/" TargetMode="External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slideLayout" Target="../slideLayouts/slideLayout1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5" name="Picture 2" descr="Pay Yourself First title slide with FDIC Money Smart logo and module logo including a coin and piggy bank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76" name="TextBox 7"/>
          <p:cNvSpPr/>
          <p:nvPr/>
        </p:nvSpPr>
        <p:spPr>
          <a:xfrm>
            <a:off x="380880" y="685800"/>
            <a:ext cx="2743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Pa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TextBox 8"/>
          <p:cNvSpPr/>
          <p:nvPr/>
        </p:nvSpPr>
        <p:spPr>
          <a:xfrm>
            <a:off x="104760" y="1878120"/>
            <a:ext cx="4267080" cy="123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5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Yourself</a:t>
            </a:r>
            <a:endParaRPr b="0" lang="en-US" sz="7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Box 9"/>
          <p:cNvSpPr/>
          <p:nvPr/>
        </p:nvSpPr>
        <p:spPr>
          <a:xfrm>
            <a:off x="380880" y="2697120"/>
            <a:ext cx="32004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First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nnual Percentage Yield (APY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200" spc="-1" strike="noStrike">
                <a:solidFill>
                  <a:srgbClr val="c1961c"/>
                </a:solidFill>
                <a:latin typeface="Helvetica Neue"/>
                <a:ea typeface="Arial"/>
              </a:rPr>
              <a:t>APY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s the amount of interest you will earn on a yearly basis expressed as a perce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the effect of compound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hould be used to compare saving products, not the interest rat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Rule of 7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457200" y="987120"/>
            <a:ext cx="8229600" cy="548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formula that lets you estimat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it will take for your savings to double in value: 72 ÷ 4% = 18 yea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interest rate needed to double your savings within a set time period: 72 ÷ 12 = 6%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f you want your savings account to double in value in 20 years, what interest rate would the account need to have?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72 ÷ 20 =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TextBox 3"/>
          <p:cNvSpPr/>
          <p:nvPr/>
        </p:nvSpPr>
        <p:spPr>
          <a:xfrm>
            <a:off x="2743200" y="486576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252e4e"/>
                </a:solidFill>
                <a:latin typeface="Arial"/>
                <a:ea typeface="Arial"/>
              </a:rPr>
              <a:t>3.6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" dur="indefinite" restart="never" nodeType="tmRoot">
          <p:childTnLst>
            <p:seq>
              <p:cTn id="30" dur="indefinite" nodeType="mainSeq">
                <p:childTnLst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 Optio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re are two basic ways to save money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n a savings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ederally insured by the Federal Deposit Insurance Corporation (FDIC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ff"/>
                </a:solidFill>
                <a:uFillTx/>
                <a:latin typeface="Helvetica Neue"/>
                <a:ea typeface="Arial"/>
                <a:hlinkClick r:id="rId1"/>
              </a:rPr>
              <a:t>www.myfdicinsurance.gov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942480" indent="-498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st your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551960" indent="-2214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t federally insured and can los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Safe with cash"/>
          <p:cNvPicPr/>
          <p:nvPr/>
        </p:nvPicPr>
        <p:blipFill>
          <a:blip r:embed="rId2"/>
          <a:stretch/>
        </p:blipFill>
        <p:spPr>
          <a:xfrm>
            <a:off x="6934320" y="3429000"/>
            <a:ext cx="1614240" cy="1152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533520" y="2514600"/>
            <a:ext cx="85341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in which 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eave your money for a set period of time/te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nnot make deposits or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arn a higher interest rate with longer ter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 a fee if you withdraw your money before the term has end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Horizontal Scroll 3"/>
          <p:cNvSpPr/>
          <p:nvPr/>
        </p:nvSpPr>
        <p:spPr>
          <a:xfrm>
            <a:off x="530280" y="838080"/>
            <a:ext cx="7616880" cy="175284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Notched Right Arrow 4"/>
          <p:cNvSpPr/>
          <p:nvPr/>
        </p:nvSpPr>
        <p:spPr>
          <a:xfrm rot="19931400">
            <a:off x="26640" y="169704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that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a higher minimum balance to earn interest (usually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s a higher interest rate for higher balanc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oes not have a fixed te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you to make deposits and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7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Savings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"/>
          <p:cNvSpPr txBox="1"/>
          <p:nvPr/>
        </p:nvSpPr>
        <p:spPr>
          <a:xfrm>
            <a:off x="533520" y="2467080"/>
            <a:ext cx="8229600" cy="396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n account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ays interest on your balance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require you to maintain a minimum daily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quires a lower minimum deposit to ope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Horizontal Scroll 3"/>
          <p:cNvSpPr/>
          <p:nvPr/>
        </p:nvSpPr>
        <p:spPr>
          <a:xfrm>
            <a:off x="533520" y="790560"/>
            <a:ext cx="7619760" cy="1752480"/>
          </a:xfrm>
          <a:prstGeom prst="horizontalScroll">
            <a:avLst>
              <a:gd name="adj" fmla="val 125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  <a:effectLst>
            <a:outerShdw dist="38160" dir="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oney Market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Certificate of Deposi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atement Savings Accoun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Notched Right Arrow 4"/>
          <p:cNvSpPr/>
          <p:nvPr/>
        </p:nvSpPr>
        <p:spPr>
          <a:xfrm rot="19931400">
            <a:off x="26640" y="16207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6868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Development Account (ID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"/>
          <p:cNvSpPr txBox="1"/>
          <p:nvPr/>
        </p:nvSpPr>
        <p:spPr>
          <a:xfrm>
            <a:off x="482760" y="990360"/>
            <a:ext cx="815328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tched savings accou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elps low-income families save money and become financially independ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s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Job training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College educatio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Small business start up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93800" indent="-29232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Arial"/>
                <a:ea typeface="Arial"/>
              </a:rPr>
              <a:t>Home purchas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25" name="Picture 19" descr="Female graduate taking a picture with family"/>
          <p:cNvPicPr/>
          <p:nvPr/>
        </p:nvPicPr>
        <p:blipFill>
          <a:blip r:embed="rId1"/>
          <a:stretch/>
        </p:blipFill>
        <p:spPr>
          <a:xfrm>
            <a:off x="5948280" y="3352680"/>
            <a:ext cx="2738520" cy="18208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Electronic Transfer Account (ETA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ow-cost account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llows federal payment recipients to receive their payments through direct deposit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eatures include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 fee of $3 (or les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 minimum balanc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bit card for point-of-sale transactions may be offere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529 College Savings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457200" y="1218960"/>
            <a:ext cx="5562720" cy="5135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ducation savings pla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perated by a state or educational institutio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signed to help families set aside funds to pay for future college cos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ype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529 Prepaid Tuition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35040" indent="-235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529 Savings Pl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0" name="Picture 2" descr="Three college students walking through a campus with books in their hands"/>
          <p:cNvPicPr/>
          <p:nvPr/>
        </p:nvPicPr>
        <p:blipFill>
          <a:blip r:embed="rId1"/>
          <a:stretch/>
        </p:blipFill>
        <p:spPr>
          <a:xfrm>
            <a:off x="6095880" y="1523880"/>
            <a:ext cx="2448000" cy="3429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uy an Inves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"/>
          <p:cNvSpPr txBox="1"/>
          <p:nvPr/>
        </p:nvSpPr>
        <p:spPr>
          <a:xfrm>
            <a:off x="457200" y="1219320"/>
            <a:ext cx="82296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vestment:</a:t>
            </a:r>
            <a:r>
              <a:rPr b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long-term savings option for future income or financial benefi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vestment products are not federally insured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must weigh the risks and retur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98400" indent="-268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earn money by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elling the investments for more than you pa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074240" indent="-2145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eiving dividends and interest earning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Welcom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"/>
          <p:cNvSpPr txBox="1"/>
          <p:nvPr/>
        </p:nvSpPr>
        <p:spPr>
          <a:xfrm>
            <a:off x="4343040" y="1904760"/>
            <a:ext cx="43434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genda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Ground Rul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spcAft>
                <a:spcPts val="2401"/>
              </a:spcAft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roduc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1" name="Picture 1" descr="Handshake"/>
          <p:cNvPicPr/>
          <p:nvPr/>
        </p:nvPicPr>
        <p:blipFill>
          <a:blip r:embed="rId1"/>
          <a:stretch/>
        </p:blipFill>
        <p:spPr>
          <a:xfrm>
            <a:off x="762120" y="1905120"/>
            <a:ext cx="3429000" cy="3429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Before You Inv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"/>
          <p:cNvSpPr txBox="1"/>
          <p:nvPr/>
        </p:nvSpPr>
        <p:spPr>
          <a:xfrm>
            <a:off x="457200" y="1265040"/>
            <a:ext cx="8229600" cy="422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ave money (6-month savings cushion)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alk t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r bank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reputable financial advis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investment fir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sk about employer-offered retirement accou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o your own research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5" name="Picture 14" descr="Person inserting paper labeled &quot;401K&quot; into a piggy bank"/>
          <p:cNvPicPr/>
          <p:nvPr/>
        </p:nvPicPr>
        <p:blipFill>
          <a:blip r:embed="rId1"/>
          <a:stretch/>
        </p:blipFill>
        <p:spPr>
          <a:xfrm>
            <a:off x="7088040" y="2057400"/>
            <a:ext cx="129384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vestment Produc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294920"/>
            <a:ext cx="82296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utual fu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tirement investments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tock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601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United States (U.S.) Treasury securitie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8" name="Picture 2" descr="Stock charts and data"/>
          <p:cNvPicPr/>
          <p:nvPr/>
        </p:nvPicPr>
        <p:blipFill>
          <a:blip r:embed="rId1"/>
          <a:stretch/>
        </p:blipFill>
        <p:spPr>
          <a:xfrm>
            <a:off x="5681520" y="1676520"/>
            <a:ext cx="2928960" cy="210024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"/>
          <p:cNvSpPr txBox="1"/>
          <p:nvPr/>
        </p:nvSpPr>
        <p:spPr>
          <a:xfrm>
            <a:off x="228600" y="2362320"/>
            <a:ext cx="868680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loan money to a corporation or the government for a certain period of time/term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own a share/part of a company. You might receive periodic dividends when the company makes a profi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Horizontal Scroll 8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42" name="Notched Right Arrow 9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10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TextBox 11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Box 12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Box 13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Box 14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loan money to the government. You can select from products based on their face value and maturity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en you invest money over a long period of time so that you will have money to live on when you are no longer working.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0" name="Horizontal Scroll 6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51" name="Notched Right Arrow 7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8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9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0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Box 11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TextBox 12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9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Name the Investment Produc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8" name=""/>
          <p:cNvSpPr txBox="1"/>
          <p:nvPr/>
        </p:nvSpPr>
        <p:spPr>
          <a:xfrm>
            <a:off x="152280" y="2408040"/>
            <a:ext cx="8686800" cy="4297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57160" indent="-514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Helvetica Neue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roduct that allows you to invest in many investors and investment products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60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857160" indent="-514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59" name="Horizontal Scroll 5" descr=""/>
          <p:cNvPicPr/>
          <p:nvPr/>
        </p:nvPicPr>
        <p:blipFill>
          <a:blip r:embed="rId1"/>
          <a:stretch/>
        </p:blipFill>
        <p:spPr>
          <a:xfrm>
            <a:off x="500040" y="768240"/>
            <a:ext cx="8070840" cy="1670040"/>
          </a:xfrm>
          <a:prstGeom prst="rect">
            <a:avLst/>
          </a:prstGeom>
          <a:ln w="0">
            <a:noFill/>
          </a:ln>
        </p:spPr>
      </p:pic>
      <p:sp>
        <p:nvSpPr>
          <p:cNvPr id="260" name="Notched Right Arrow 8"/>
          <p:cNvSpPr/>
          <p:nvPr/>
        </p:nvSpPr>
        <p:spPr>
          <a:xfrm rot="19931400">
            <a:off x="26640" y="1849320"/>
            <a:ext cx="1676520" cy="533520"/>
          </a:xfrm>
          <a:custGeom>
            <a:avLst/>
            <a:gdLst>
              <a:gd name="textAreaLeft" fmla="*/ 120600 w 1676520"/>
              <a:gd name="textAreaRight" fmla="*/ 1555920 w 1676520"/>
              <a:gd name="textAreaTop" fmla="*/ 146160 h 533520"/>
              <a:gd name="textAreaBottom" fmla="*/ 387360 h 533520"/>
            </a:gdLst>
            <a:ahLst/>
            <a:rect l="textAreaLeft" t="textAreaTop" r="textAreaRight" b="textAreaBottom"/>
            <a:pathLst>
              <a:path w="21600" h="21600">
                <a:moveTo>
                  <a:pt x="0" y="5914"/>
                </a:moveTo>
                <a:lnTo>
                  <a:pt x="18164" y="5914"/>
                </a:lnTo>
                <a:lnTo>
                  <a:pt x="18164" y="0"/>
                </a:lnTo>
                <a:lnTo>
                  <a:pt x="21600" y="10800"/>
                </a:lnTo>
                <a:lnTo>
                  <a:pt x="18164" y="21600"/>
                </a:lnTo>
                <a:lnTo>
                  <a:pt x="18164" y="15686"/>
                </a:lnTo>
                <a:lnTo>
                  <a:pt x="0" y="15686"/>
                </a:lnTo>
                <a:lnTo>
                  <a:pt x="1554" y="10800"/>
                </a:lnTo>
                <a:lnTo>
                  <a:pt x="0" y="5914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e46c0a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Choose 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9"/>
          <p:cNvSpPr/>
          <p:nvPr/>
        </p:nvSpPr>
        <p:spPr>
          <a:xfrm>
            <a:off x="4724280" y="11430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Retirement invest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TextBox 10"/>
          <p:cNvSpPr/>
          <p:nvPr/>
        </p:nvSpPr>
        <p:spPr>
          <a:xfrm>
            <a:off x="3886200" y="1600200"/>
            <a:ext cx="3886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U.S. Treasury securi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Box 11"/>
          <p:cNvSpPr/>
          <p:nvPr/>
        </p:nvSpPr>
        <p:spPr>
          <a:xfrm>
            <a:off x="2514600" y="1600200"/>
            <a:ext cx="1295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Stock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Box 12"/>
          <p:cNvSpPr/>
          <p:nvPr/>
        </p:nvSpPr>
        <p:spPr>
          <a:xfrm>
            <a:off x="1143000" y="1143000"/>
            <a:ext cx="1143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Bo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Box 13"/>
          <p:cNvSpPr/>
          <p:nvPr/>
        </p:nvSpPr>
        <p:spPr>
          <a:xfrm>
            <a:off x="2438280" y="1143000"/>
            <a:ext cx="221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Calibri"/>
              </a:rPr>
              <a:t>Mutual f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s Bo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"/>
          <p:cNvSpPr txBox="1"/>
          <p:nvPr/>
        </p:nvSpPr>
        <p:spPr>
          <a:xfrm>
            <a:off x="457200" y="12949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 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rchased at fac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E Bond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Normally purchased at half their face valu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68" name="Picture 4" descr="$500 EE Savings bond"/>
          <p:cNvPicPr/>
          <p:nvPr/>
        </p:nvPicPr>
        <p:blipFill>
          <a:blip r:embed="rId1"/>
          <a:stretch/>
        </p:blipFill>
        <p:spPr>
          <a:xfrm>
            <a:off x="2438280" y="3429000"/>
            <a:ext cx="4343400" cy="1889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  <p:sp>
        <p:nvSpPr>
          <p:cNvPr id="269" name="TextBox 5"/>
          <p:cNvSpPr/>
          <p:nvPr/>
        </p:nvSpPr>
        <p:spPr>
          <a:xfrm>
            <a:off x="3669120" y="5410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252e4e"/>
                </a:solidFill>
                <a:latin typeface="Helvetica Neue"/>
              </a:rPr>
              <a:t>Sample EE Bon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U.S. Treasury Secur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"/>
          <p:cNvSpPr txBox="1"/>
          <p:nvPr/>
        </p:nvSpPr>
        <p:spPr>
          <a:xfrm>
            <a:off x="457200" y="1066680"/>
            <a:ext cx="8229600" cy="498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not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Inflation-Protected Securities (TIPS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1035000" indent="-29196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reasury (T)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se are safe because they are backed by the U.S. Government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rporate Bo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oans to a corporation for a certain period of time/ter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corporation promises to repay the amount of money you lend it on a specified date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tock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457200" y="987480"/>
            <a:ext cx="68580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wn a share/part of a compan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receive dividends if the company profi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he value of your investment changes (up or down) according to the stock market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76" name="Picture 2" descr="Up and down arrow representing the fluctuation of stocks"/>
          <p:cNvPicPr/>
          <p:nvPr/>
        </p:nvPicPr>
        <p:blipFill>
          <a:blip r:embed="rId1"/>
          <a:stretch/>
        </p:blipFill>
        <p:spPr>
          <a:xfrm>
            <a:off x="7010280" y="990720"/>
            <a:ext cx="1739880" cy="2057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Mutual Fund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"/>
          <p:cNvSpPr txBox="1"/>
          <p:nvPr/>
        </p:nvSpPr>
        <p:spPr>
          <a:xfrm>
            <a:off x="533160" y="1219320"/>
            <a:ext cx="79246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 product that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mbines money from many investors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s stocks and bo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ay pay divide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800280" indent="-34308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hanges in value with the stock marke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c1961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Diversify: 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spread your risk of loss across many savings and investment option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bjectiv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lain why it is important to sav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goals for saving mone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Identify savings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ich savings options will help you reach your savings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Recognize which investment options are right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ways to save for retireme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05600" indent="-271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st ways to save for large expense go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25800" indent="-3258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4" name="Picture 3" descr="Arrow in target bulls eye"/>
          <p:cNvPicPr/>
          <p:nvPr/>
        </p:nvPicPr>
        <p:blipFill>
          <a:blip r:embed="rId1"/>
          <a:stretch/>
        </p:blipFill>
        <p:spPr>
          <a:xfrm>
            <a:off x="7924680" y="304920"/>
            <a:ext cx="1143000" cy="129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dividual Retirement Arrangements </a:t>
            </a:r>
            <a:br>
              <a:rPr sz="3600"/>
            </a:b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(IRAs)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y include a combination of investment product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Are tax exemp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Fluctuate with stock marke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clude Traditional IRAs and Roth IRA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1" name="Picture 2" descr="Road signs saying &quot;To,&quot; &quot;Retirement 401K,&quot; &quot;Invest Wisely&quot;"/>
          <p:cNvPicPr/>
          <p:nvPr/>
        </p:nvPicPr>
        <p:blipFill>
          <a:blip r:embed="rId1"/>
          <a:stretch/>
        </p:blipFill>
        <p:spPr>
          <a:xfrm>
            <a:off x="7086600" y="2514600"/>
            <a:ext cx="115740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401(k) and 403(b) Plan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456840" y="987120"/>
            <a:ext cx="8381880" cy="5870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1(k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stablished by an employer: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You designate a percentage of your pay to be taken out before taxes.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mployers may offer matching contributions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403(b)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Offered to employees of public schools and certain tax-exempt organiza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4" name="Picture 2" descr="Egg with 401K written on it"/>
          <p:cNvPicPr/>
          <p:nvPr/>
        </p:nvPicPr>
        <p:blipFill>
          <a:blip r:embed="rId1"/>
          <a:stretch/>
        </p:blipFill>
        <p:spPr>
          <a:xfrm>
            <a:off x="7439040" y="380880"/>
            <a:ext cx="1317600" cy="11430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Variable Annuitie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7200" y="987120"/>
            <a:ext cx="8229600" cy="5032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insurance contract that invests your premium in various mutual fund-like investment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riable annuities can be very costly due to the fees, which include: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igh annual fe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Surrender charges on early withdrawa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ax penalty on early withdrawal before age 59½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Life benefit guarantee fe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How To Choose the Best Invest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"/>
          <p:cNvSpPr txBox="1"/>
          <p:nvPr/>
        </p:nvSpPr>
        <p:spPr>
          <a:xfrm>
            <a:off x="456840" y="987120"/>
            <a:ext cx="716292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Learn as much as possib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how long you plan to keep your money in the invest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iversif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Re-evaluate your products periodically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your risk toleranc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39480" indent="-3394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89" name="Picture 2" descr="Man looking at financial section of newspaper"/>
          <p:cNvPicPr/>
          <p:nvPr/>
        </p:nvPicPr>
        <p:blipFill>
          <a:blip r:embed="rId1"/>
          <a:stretch/>
        </p:blipFill>
        <p:spPr>
          <a:xfrm>
            <a:off x="6934320" y="2971800"/>
            <a:ext cx="1523880" cy="17524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Other Investment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ning a hom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Value of home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= $2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Minus Debt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	</a:t>
            </a:r>
            <a:r>
              <a:rPr b="1" lang="en-US" sz="3000" spc="-1" strike="noStrike" u="sng">
                <a:solidFill>
                  <a:srgbClr val="132f5a"/>
                </a:solidFill>
                <a:uFillTx/>
                <a:latin typeface="Helvetica Neue"/>
                <a:ea typeface="Arial"/>
              </a:rPr>
              <a:t>       = $20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8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Equity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               =   $50,000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Owning a business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2" name="Picture 3" descr="House"/>
          <p:cNvPicPr/>
          <p:nvPr/>
        </p:nvPicPr>
        <p:blipFill>
          <a:blip r:embed="rId1"/>
          <a:stretch/>
        </p:blipFill>
        <p:spPr>
          <a:xfrm>
            <a:off x="6095880" y="380880"/>
            <a:ext cx="2819520" cy="147636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Saving for Retiremen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456840" y="987120"/>
            <a:ext cx="79246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Make the most of your remaining paychecks until ret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Try to reduce or eliminate deb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34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Develop a plan to stretch your money through retirement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5" name="Picture 6" descr="Couple sitting on a bench at the beach"/>
          <p:cNvPicPr/>
          <p:nvPr/>
        </p:nvPicPr>
        <p:blipFill>
          <a:blip r:embed="rId1"/>
          <a:stretch/>
        </p:blipFill>
        <p:spPr>
          <a:xfrm>
            <a:off x="6477120" y="3925800"/>
            <a:ext cx="2209680" cy="156060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Decision Factors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much money do you want to save over tim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long can you leave your money invest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do you feel about risking your mone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2: Pay Yourself First Action Pla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	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Activity 2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factors may affect your savings decision making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etermine what short- and long-term actions you can take to s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0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Summary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"/>
          <p:cNvSpPr txBox="1"/>
          <p:nvPr/>
        </p:nvSpPr>
        <p:spPr>
          <a:xfrm>
            <a:off x="457200" y="1066680"/>
            <a:ext cx="8229600" cy="426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final questions do you have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have you learned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How would you evaluate the training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3660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3" name="Picture 7" descr="Clipboard and pencil"/>
          <p:cNvPicPr/>
          <p:nvPr/>
        </p:nvPicPr>
        <p:blipFill>
          <a:blip r:embed="rId1"/>
          <a:srcRect l="0" t="22003" r="0" b="0"/>
          <a:stretch/>
        </p:blipFill>
        <p:spPr>
          <a:xfrm>
            <a:off x="6705720" y="4038480"/>
            <a:ext cx="2063520" cy="160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nclusion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"/>
          <p:cNvSpPr txBox="1"/>
          <p:nvPr/>
        </p:nvSpPr>
        <p:spPr>
          <a:xfrm>
            <a:off x="457200" y="987480"/>
            <a:ext cx="8229600" cy="4651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-3358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learn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What it means to pay yourself first and how you can benefit by doing i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ips to help you save mo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your money can grow with compound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 number of savings and investment optio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27920" indent="-28008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How to decide what savings and investment options are best for you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Helvetica Neue"/>
              </a:rPr>
              <a:t>What Do You Know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"/>
          <p:cNvSpPr txBox="1"/>
          <p:nvPr/>
        </p:nvSpPr>
        <p:spPr>
          <a:xfrm>
            <a:off x="2819520" y="990360"/>
            <a:ext cx="5867280" cy="426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Helvetica Neue"/>
              </a:rPr>
              <a:t>What do you know or want to learn about saving money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87" name="Picture 13" descr="Figure scratching his head and a question mark by his head"/>
          <p:cNvPicPr/>
          <p:nvPr/>
        </p:nvPicPr>
        <p:blipFill>
          <a:blip r:embed="rId1"/>
          <a:stretch/>
        </p:blipFill>
        <p:spPr>
          <a:xfrm>
            <a:off x="762120" y="1219320"/>
            <a:ext cx="1857240" cy="399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Pay Yourself Fir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"/>
          <p:cNvSpPr txBox="1"/>
          <p:nvPr/>
        </p:nvSpPr>
        <p:spPr>
          <a:xfrm>
            <a:off x="457200" y="987480"/>
            <a:ext cx="8229600" cy="4803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does it mean to “pay yourself first”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ut money in savings before paying your bill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y would you want to save money before paying your bills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spcAft>
                <a:spcPts val="1199"/>
              </a:spcAft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What are some of the things you might want to save money for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0" name="Picture 4" descr="Glass piggy bank filled with change"/>
          <p:cNvPicPr/>
          <p:nvPr/>
        </p:nvPicPr>
        <p:blipFill>
          <a:blip r:embed="rId1"/>
          <a:stretch/>
        </p:blipFill>
        <p:spPr>
          <a:xfrm>
            <a:off x="6608880" y="4114800"/>
            <a:ext cx="1930320" cy="144792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456840" y="384120"/>
            <a:ext cx="838188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Pay Yourself First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Statement 1 of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ink about savings goals and the amount you need to save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l out the first part of the worksheet, “My savings goal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3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Activity 1: Pay Yourself First Workshee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"/>
          <p:cNvSpPr txBox="1"/>
          <p:nvPr/>
        </p:nvSpPr>
        <p:spPr>
          <a:xfrm>
            <a:off x="457200" y="987120"/>
            <a:ext cx="8229600" cy="4956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Complete Statement 2 of Activity 1 in the Participant Guide. 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onsider the savings tips you just learned about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828800" indent="-5144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Helvetica Neue"/>
              <a:buAutoNum type="arabicPeriod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Fill out the second part of the worksheet, “Strategies to save for my goals.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6" name="Picture 4" descr="Pencil"/>
          <p:cNvPicPr/>
          <p:nvPr/>
        </p:nvPicPr>
        <p:blipFill>
          <a:blip r:embed="rId1"/>
          <a:stretch/>
        </p:blipFill>
        <p:spPr>
          <a:xfrm>
            <a:off x="0" y="2895480"/>
            <a:ext cx="1619280" cy="27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456840" y="987480"/>
            <a:ext cx="655308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000" spc="-1" strike="noStrike">
                <a:solidFill>
                  <a:srgbClr val="c1961c"/>
                </a:solidFill>
                <a:latin typeface="Helvetica Neue"/>
                <a:ea typeface="Arial"/>
              </a:rPr>
              <a:t>Interest</a:t>
            </a: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 is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 amount of money financial institutions pay you for keeping money on deposit with them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Expressed as a percentag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Calculated based on the money in your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99" name="Picture 12" descr="Flow of people and money in and out of bank"/>
          <p:cNvPicPr/>
          <p:nvPr/>
        </p:nvPicPr>
        <p:blipFill>
          <a:blip r:embed="rId1"/>
          <a:stretch/>
        </p:blipFill>
        <p:spPr>
          <a:xfrm>
            <a:off x="7315200" y="1905120"/>
            <a:ext cx="1603440" cy="2663640"/>
          </a:xfrm>
          <a:prstGeom prst="rect">
            <a:avLst/>
          </a:prstGeom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57200" y="384120"/>
            <a:ext cx="8229600" cy="612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1961c"/>
                </a:solidFill>
                <a:latin typeface="Helvetica Neue"/>
                <a:ea typeface="Arial"/>
              </a:rPr>
              <a:t>Compound Interest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457200" y="987480"/>
            <a:ext cx="8229600" cy="4270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275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You earn money on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Previously paid interes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The money in your accoun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751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132f5a"/>
                </a:solidFill>
                <a:latin typeface="Helvetica Neue"/>
                <a:ea typeface="Arial"/>
              </a:rPr>
              <a:t>Interest can be compounded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Dai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Month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132f5a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32f5a"/>
                </a:solidFill>
                <a:latin typeface="Helvetica Neue"/>
                <a:ea typeface="Arial"/>
              </a:rPr>
              <a:t>Annually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2" name="Picture 6" descr="Calendar and cash"/>
          <p:cNvPicPr/>
          <p:nvPr/>
        </p:nvPicPr>
        <p:blipFill>
          <a:blip r:embed="rId1"/>
          <a:stretch/>
        </p:blipFill>
        <p:spPr>
          <a:xfrm>
            <a:off x="6629400" y="1523880"/>
            <a:ext cx="2179800" cy="213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3T14:24:57Z</dcterms:created>
  <dc:creator/>
  <dc:description/>
  <dc:language>en-US</dc:language>
  <cp:lastModifiedBy>National Technologies Inc.</cp:lastModifiedBy>
  <dcterms:modified xsi:type="dcterms:W3CDTF">2010-11-01T14:21:02Z</dcterms:modified>
  <cp:revision>171</cp:revision>
  <dc:subject/>
  <dc:title>Slid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Id">
    <vt:lpwstr>0x010100F39A119390EE2E43A4E19FA973347658</vt:lpwstr>
  </property>
</Properties>
</file>