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6A5-3C99-4B8B-A3C6-415E7B9A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135-58E7-4E91-B0CC-F9EB9502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B7C-7052-4D47-A354-0DCB554C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2F0-6525-496D-9573-301DC208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7DA-CD54-4758-AE37-8164DA41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238-6327-47D0-9C80-DBA45E76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473-79C2-4E7D-97D9-22679668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251-A5AF-48E4-9493-095D1502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108-126C-4CFB-8537-CE2989FF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980-ED5B-45A2-B975-BD906F02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4E8-276D-49DE-AFD7-73ABEAB2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F9B2-2855-4123-9D82-A36E01D6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69DB-63B2-435E-8D8A-1FA2A950D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uestiones de Din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BE1E-2518-46B1-BA93-0E3C95EA2CF6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0" y="685800"/>
            <a:ext cx="59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1961c"/>
                </a:solidFill>
                <a:latin typeface="Helvetica Neue"/>
              </a:rPr>
              <a:t>Cuestio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76320" y="177336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 Dine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ar ingresos y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57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Los ingresos </a:t>
            </a:r>
            <a:r>
              <a:rPr b="1" lang="es-ES" sz="3000" spc="-1" strike="noStrike">
                <a:solidFill>
                  <a:srgbClr val="132f5a"/>
                </a:solidFill>
                <a:latin typeface="Arial"/>
                <a:ea typeface="Arial"/>
              </a:rPr>
              <a:t>son el dinero que usted percibe a partir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al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ngresos como trabajador independi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Asistencia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ubsidio familiar o pensión alimenti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ntereses y dividen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eguro Soc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Otras fuentes (por ejemplo, propin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858000" y="2514600"/>
            <a:ext cx="208116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" y="987480"/>
            <a:ext cx="87631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gresos bru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gresos ne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ingresos del Seguro Social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por discapa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famili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superviv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Medi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358128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</a:t>
            </a:r>
            <a:r>
              <a:rPr b="1" lang="en-US" sz="2700" spc="-1" strike="noStrike">
                <a:solidFill>
                  <a:srgbClr val="132f5a"/>
                </a:solidFill>
                <a:latin typeface="Helvetica Neue"/>
              </a:rPr>
              <a:t>total de ingre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352680" y="1801800"/>
            <a:ext cx="57913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</a:t>
            </a:r>
            <a:r>
              <a:rPr b="1" lang="en-US" sz="2700" spc="-1" strike="noStrike">
                <a:solidFill>
                  <a:srgbClr val="132f5a"/>
                </a:solidFill>
                <a:latin typeface="Helvetica Neue"/>
              </a:rPr>
              <a:t>total de ingresos – deducci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gastos fijos no cambian de un mes para ot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gastos flexibles a menudo cambian de un mes para ot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tal vez tenga cierto control sobre cuánto pag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precios para encontrar el mejor valor antes de comprometerse a un pag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Hoja de trabajo de ingresos y gastos mens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2 en la Guía para el Participa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hoja de cálculo de ingresos y gastos mensuale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ga las fuentes de ingresos y montos mensuales a la izquierd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ga los gastos y montos mensuales a la derech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jemplo de activ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TextBox 4"/>
          <p:cNvSpPr/>
          <p:nvPr/>
        </p:nvSpPr>
        <p:spPr>
          <a:xfrm>
            <a:off x="1378080" y="1039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3515400" y="143028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qu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3519720" y="18874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tamos y fac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3522960" y="231300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idado de ni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3513240" y="2751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o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3497760" y="3176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éf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3513600" y="36212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3508920" y="40528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3520800" y="44956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5"/>
          <p:cNvSpPr/>
          <p:nvPr/>
        </p:nvSpPr>
        <p:spPr>
          <a:xfrm>
            <a:off x="4958640" y="10396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ducir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ducir gastos aumenta su flujo de fon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¿Cómo puede reducir gasto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umentar 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520" y="837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os créditos impositivos que pueden ayudarlo a aumentar sus ingresos so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del gobierno federal sobre el impuesto de la renta (EITC o EIC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impositivos por hij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por gastos de cuidado de hijos o personas a car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s educa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s impositivos por contribuciones para ahorros de reti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antener registros preci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9903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Guarde los registros en un lugar segur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Organice sus archivos para que sea fácil encontrar y actualizar la información financiera importan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Guarde los registros impositivos al menos 3 añ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Envíe cheques para el pago de facturas al menos una semana antes de la fecha de vencimiento para evitar carg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3: Programa de pago mens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98748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3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el programa de pago mensu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grese las fuentes de ingresos y las fechas en las que se recib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grese los gastos, fechas de vencimiento y mon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jemplo de ingresos y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9480" y="1295280"/>
          <a:ext cx="7925040" cy="4267440"/>
        </p:xfrm>
        <a:graphic>
          <a:graphicData uri="http://schemas.openxmlformats.org/drawingml/2006/table">
            <a:tbl>
              <a:tblPr/>
              <a:tblGrid>
                <a:gridCol w="1295640"/>
                <a:gridCol w="1828800"/>
                <a:gridCol w="2209680"/>
                <a:gridCol w="2590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o/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o/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050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Ahor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75 a pagar el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Alqu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,000 a pagar el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om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400 a pagar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050 el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Gastos person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50 a pagar el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uidado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eléfo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40 a pagar el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uidado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arjeta de 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40 a pagar el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4: Calendario de pago mens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4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el calendario de pago mensual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scriba los ingresos y los gastos en las fechas correspondien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herramientas para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238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bre de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ja de presupue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ja de cálculo de computado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12222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236232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0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ando hay más gastos que 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debería pagar primero si no puede pagar todas sus factura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primero los gastos necesarios del hogar (alquiler o hipoteca y aliment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a salud y bienestar de su familia a la hora de prioriz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licite asistencia para poder cubrir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gar sus préstam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problemas para pagar sus préstamos, consider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primero el préstamo que tenga la tasa de interés más al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 sus acree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licitar asesoramiento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arse en bancarrota (¡como último recurso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5: Consideraciones de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5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Lea cuidadosamente la situación plante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beneficios de elaborar un presupues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crear un plan de gastos para controlar sus gastos diarios y sus ingresos y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utilizar el Programa y el Calendario de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ras consideraciones para tener en mente al planificar su presupues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987480"/>
            <a:ext cx="899172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Enumerar los pasos para establecer objetivos financie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Hacer un seguimiento de hábitos de gastos di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Preparar un plan de gastos para estimar ingresos y gastos mens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modos de disminuir gast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modos de aumentar ingres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herramientas de un plan de gastos que lo ayudarán a administrar factur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é quiere aprender acerca de cómo administrar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stablecer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ágalos específicos para lo que quiere en un cierto periodo de tiemp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que y escriba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ce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úqu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úe su progre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80000" y="3279600"/>
            <a:ext cx="1901880" cy="1425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12920" y="4572000"/>
            <a:ext cx="206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Por qué crear un plan de gastos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98748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Un plan de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 un plan detallado para cancelar los gastos de un período determina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ayuda a reducir ansie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otorga un sentido de control sobre su din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ayuda a construir un patrimon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sos para preparar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evar un registro de sus gastos diari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us ingresos y gastos mensu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maneras de reducir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maneras de aumentar ingre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levar un registro de gastos di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Sabe en qué gasta su dinero cada 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ienda en qué se gasta el dinero mediante un registro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un diario de gastos pers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Diario de gastos di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1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el Diario de gastos diar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ote cuánto dinero se ha gastado ho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16:08Z</dcterms:modified>
  <cp:revision>2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