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jpeg" ContentType="image/jpeg"/>
  <Override PartName="/ppt/media/image9.wmf" ContentType="image/x-wmf"/>
  <Override PartName="/ppt/media/image11.wmf" ContentType="image/x-wmf"/>
  <Override PartName="/ppt/media/image1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5.jpeg" ContentType="image/jpeg"/>
  <Override PartName="/ppt/media/image16.wmf" ContentType="image/x-wmf"/>
  <Override PartName="/ppt/media/image14.jpeg" ContentType="image/jpeg"/>
  <Override PartName="/ppt/media/image2.jpeg" ContentType="image/jpeg"/>
  <Override PartName="/ppt/media/image4.png" ContentType="image/png"/>
  <Override PartName="/ppt/media/image7.png" ContentType="image/png"/>
  <Override PartName="/ppt/media/image1.jpeg" ContentType="image/jpeg"/>
  <Override PartName="/ppt/media/image10.png" ContentType="image/png"/>
  <Override PartName="/ppt/media/image5.wmf" ContentType="image/x-wmf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193D5-FED9-4D89-8909-5B52B0793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D1D2-33FC-4E9B-8A47-F6D59C3AE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0231-96A2-4353-B934-A9F14EC60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BF1-94CD-495E-941C-D1B8D0DE1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FFE7-524D-4ECB-BBE3-6E353288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1F81-F99C-4D83-B1CE-E9958730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4246-95C0-4053-A1C9-177610E07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959D-9774-4620-A666-614E5008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4F47-3D02-4914-B03D-41BC7BE16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4DF99-6ED4-4050-A29E-84D58D1F5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EA41-4533-48F8-B282-3306305C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DFF-79F3-48B1-9A9A-E5123E6CB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9102-B6BA-4E29-A0B6-7C0ADCCEBD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Cuestiones de Diner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FA22F-D0E1-4FD2-8AEC-448A7D1778DF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Money Matters title slide with FDIC Money Smart logo and module logo including a budget, pencil, and dollar sig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0" y="685800"/>
            <a:ext cx="5943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c1961c"/>
                </a:solidFill>
                <a:latin typeface="Helvetica Neue"/>
              </a:rPr>
              <a:t>Cuestiones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76320" y="1773360"/>
            <a:ext cx="5715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de Dinero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terminar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215720"/>
            <a:ext cx="8229600" cy="45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Arial"/>
                <a:ea typeface="Arial"/>
              </a:rPr>
              <a:t>Los ingresos </a:t>
            </a:r>
            <a:r>
              <a:rPr b="1" lang="es-ES" sz="3000" spc="-1" strike="noStrike">
                <a:solidFill>
                  <a:srgbClr val="132f5a"/>
                </a:solidFill>
                <a:latin typeface="Arial"/>
                <a:ea typeface="Arial"/>
              </a:rPr>
              <a:t>son el dinero que usted percibe a partir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al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gresos como trabajador independien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Asistencia públ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ubsidio familiar o pensión alimentici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ntereses y dividend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Seguro Socia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401760" indent="-285840">
              <a:lnSpc>
                <a:spcPct val="100000"/>
              </a:lnSpc>
              <a:spcBef>
                <a:spcPts val="6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Otras fuentes (por ejemplo, propina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2" descr="Man in tie holding up cash"/>
          <p:cNvPicPr/>
          <p:nvPr/>
        </p:nvPicPr>
        <p:blipFill>
          <a:blip r:embed="rId1"/>
          <a:stretch/>
        </p:blipFill>
        <p:spPr>
          <a:xfrm>
            <a:off x="6858000" y="2514600"/>
            <a:ext cx="2081160" cy="18288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28600" y="987480"/>
            <a:ext cx="87631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bru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gresos ne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ingresos del Seguro Social incluye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jubilació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por discapacid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familia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supervivien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Beneficios de Medic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3581280" y="1252440"/>
            <a:ext cx="365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4"/>
          <p:cNvSpPr/>
          <p:nvPr/>
        </p:nvSpPr>
        <p:spPr>
          <a:xfrm>
            <a:off x="3352680" y="1801800"/>
            <a:ext cx="57913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= </a:t>
            </a:r>
            <a:r>
              <a:rPr b="1" lang="en-US" sz="2700" spc="-1" strike="noStrike">
                <a:solidFill>
                  <a:srgbClr val="132f5a"/>
                </a:solidFill>
                <a:latin typeface="Helvetica Neue"/>
              </a:rPr>
              <a:t>total de ingresos – deduccion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Social Security card"/>
          <p:cNvPicPr/>
          <p:nvPr/>
        </p:nvPicPr>
        <p:blipFill>
          <a:blip r:embed="rId1"/>
          <a:stretch/>
        </p:blipFill>
        <p:spPr>
          <a:xfrm>
            <a:off x="6485040" y="3344760"/>
            <a:ext cx="2193840" cy="19051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ijos n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s gastos flexibles a menudo cambian de un mes para otro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sted tal vez tenga cierto control sobre cuánto pag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are precios para encontrar el mejor valor antes de comprometerse a un pag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2: Hoja de trabajo de ingresos y gastos mensual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2 en la Guía para el Participan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alice la hoja de cálculo de ingresos y gastos mensuale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as fuentes de ingresos y montos mensuales a la izquierda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onga los gastos y montos mensuales a la derech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activida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table.PNG"/>
          <p:cNvPicPr/>
          <p:nvPr/>
        </p:nvPicPr>
        <p:blipFill>
          <a:blip r:embed="rId1"/>
          <a:stretch/>
        </p:blipFill>
        <p:spPr>
          <a:xfrm>
            <a:off x="685800" y="963720"/>
            <a:ext cx="7772400" cy="44560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28" name="TextBox 4"/>
          <p:cNvSpPr/>
          <p:nvPr/>
        </p:nvSpPr>
        <p:spPr>
          <a:xfrm>
            <a:off x="1378080" y="1039680"/>
            <a:ext cx="113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737640" y="142092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3,5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6"/>
          <p:cNvSpPr/>
          <p:nvPr/>
        </p:nvSpPr>
        <p:spPr>
          <a:xfrm>
            <a:off x="650520" y="1887480"/>
            <a:ext cx="259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$2,100 + $1,4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7"/>
          <p:cNvSpPr/>
          <p:nvPr/>
        </p:nvSpPr>
        <p:spPr>
          <a:xfrm>
            <a:off x="3515400" y="1430280"/>
            <a:ext cx="119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qu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8"/>
          <p:cNvSpPr/>
          <p:nvPr/>
        </p:nvSpPr>
        <p:spPr>
          <a:xfrm>
            <a:off x="3519720" y="1887480"/>
            <a:ext cx="30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éstamos y factur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3522960" y="2313000"/>
            <a:ext cx="254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idado de ni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0"/>
          <p:cNvSpPr/>
          <p:nvPr/>
        </p:nvSpPr>
        <p:spPr>
          <a:xfrm>
            <a:off x="3513240" y="275112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horr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1"/>
          <p:cNvSpPr/>
          <p:nvPr/>
        </p:nvSpPr>
        <p:spPr>
          <a:xfrm>
            <a:off x="3497760" y="317664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léf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2"/>
          <p:cNvSpPr/>
          <p:nvPr/>
        </p:nvSpPr>
        <p:spPr>
          <a:xfrm>
            <a:off x="3513600" y="3621240"/>
            <a:ext cx="131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id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3508920" y="4052880"/>
            <a:ext cx="165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4"/>
          <p:cNvSpPr/>
          <p:nvPr/>
        </p:nvSpPr>
        <p:spPr>
          <a:xfrm>
            <a:off x="3520800" y="4495680"/>
            <a:ext cx="272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tos pers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5"/>
          <p:cNvSpPr/>
          <p:nvPr/>
        </p:nvSpPr>
        <p:spPr>
          <a:xfrm>
            <a:off x="5631840" y="492588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6"/>
          <p:cNvSpPr/>
          <p:nvPr/>
        </p:nvSpPr>
        <p:spPr>
          <a:xfrm>
            <a:off x="7232400" y="137160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1,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7"/>
          <p:cNvSpPr/>
          <p:nvPr/>
        </p:nvSpPr>
        <p:spPr>
          <a:xfrm>
            <a:off x="7729920" y="1878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8"/>
          <p:cNvSpPr/>
          <p:nvPr/>
        </p:nvSpPr>
        <p:spPr>
          <a:xfrm>
            <a:off x="7630920" y="2317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9"/>
          <p:cNvSpPr/>
          <p:nvPr/>
        </p:nvSpPr>
        <p:spPr>
          <a:xfrm>
            <a:off x="7630920" y="27432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20"/>
          <p:cNvSpPr/>
          <p:nvPr/>
        </p:nvSpPr>
        <p:spPr>
          <a:xfrm>
            <a:off x="7630920" y="320040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21"/>
          <p:cNvSpPr/>
          <p:nvPr/>
        </p:nvSpPr>
        <p:spPr>
          <a:xfrm>
            <a:off x="7630920" y="3657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22"/>
          <p:cNvSpPr/>
          <p:nvPr/>
        </p:nvSpPr>
        <p:spPr>
          <a:xfrm>
            <a:off x="7630920" y="40734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23"/>
          <p:cNvSpPr/>
          <p:nvPr/>
        </p:nvSpPr>
        <p:spPr>
          <a:xfrm>
            <a:off x="7630920" y="453060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24"/>
          <p:cNvSpPr/>
          <p:nvPr/>
        </p:nvSpPr>
        <p:spPr>
          <a:xfrm>
            <a:off x="7332120" y="4952880"/>
            <a:ext cx="111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$2,4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25"/>
          <p:cNvSpPr/>
          <p:nvPr/>
        </p:nvSpPr>
        <p:spPr>
          <a:xfrm>
            <a:off x="4958640" y="1039680"/>
            <a:ext cx="95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educir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ducir gastos aumenta su flujo de fond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¿Cómo puede reducir gasto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Scissors cutting $100 bill"/>
          <p:cNvPicPr/>
          <p:nvPr/>
        </p:nvPicPr>
        <p:blipFill>
          <a:blip r:embed="rId1"/>
          <a:stretch/>
        </p:blipFill>
        <p:spPr>
          <a:xfrm>
            <a:off x="3352680" y="3581280"/>
            <a:ext cx="2408400" cy="171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umentar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80520" y="8377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24000" indent="-3240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lgunos créditos impositivos que pueden ayudarlo a aumentar sus ingresos son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del gobierno federal sobre el impuesto de la renta (EITC o EIC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impositivos por hij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 por gastos de cuidado de hijos o personas a car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educativ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réditos impositivos por contribuciones para ahorros de retir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antener registros preci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80880" y="9903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en un lugar seguro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Organice sus archivos para que sea fácil encontrar y actualizar la información financiera importan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Guarde los registros impositivos al menos 3 añ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700" spc="-1" strike="noStrike">
                <a:solidFill>
                  <a:srgbClr val="132f5a"/>
                </a:solidFill>
                <a:latin typeface="Arial"/>
                <a:ea typeface="Arial"/>
              </a:rPr>
              <a:t>Envíe cheques para el pago de facturas al menos una semana antes de la fecha de vencimiento para evitar cargo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3" descr="Accordian file"/>
          <p:cNvPicPr/>
          <p:nvPr/>
        </p:nvPicPr>
        <p:blipFill>
          <a:blip r:embed="rId1"/>
          <a:stretch/>
        </p:blipFill>
        <p:spPr>
          <a:xfrm>
            <a:off x="7848720" y="533520"/>
            <a:ext cx="1112760" cy="1390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3: Programa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6840" y="987480"/>
            <a:ext cx="85345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3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7160" indent="-3171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el programa de pago mensual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as fuentes de ingresos y las fechas en las que se recibe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grese los gastos, fechas de vencimiento y monto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00640" indent="-478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jemplo de ingresos y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609480" y="1295280"/>
          <a:ext cx="7925040" cy="4267440"/>
        </p:xfrm>
        <a:graphic>
          <a:graphicData uri="http://schemas.openxmlformats.org/drawingml/2006/table">
            <a:tbl>
              <a:tblPr/>
              <a:tblGrid>
                <a:gridCol w="1295640"/>
                <a:gridCol w="1828800"/>
                <a:gridCol w="2209680"/>
                <a:gridCol w="25909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gre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as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onto/Fech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132f5a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horr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75 a pagar el 4/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Alqui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,000 a pagar el 4/1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om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0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ranspor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Gastos person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5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Suel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350 el 4/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eléfo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4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Cuidado de niñ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200 a pagar el 4/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Tarjeta de crédi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132f5a"/>
                          </a:solidFill>
                          <a:latin typeface="Arial"/>
                        </a:rPr>
                        <a:t>$140 a pagar el 4/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32f5a"/>
                      </a:solidFill>
                    </a:lnL>
                    <a:lnR w="5760">
                      <a:solidFill>
                        <a:srgbClr val="132f5a"/>
                      </a:solidFill>
                    </a:lnR>
                    <a:lnT w="5760">
                      <a:solidFill>
                        <a:srgbClr val="132f5a"/>
                      </a:solidFill>
                    </a:lnT>
                    <a:lnB w="5760">
                      <a:solidFill>
                        <a:srgbClr val="132f5a"/>
                      </a:solidFill>
                    </a:lnB>
                    <a:solidFill>
                      <a:srgbClr val="ffffff">
                        <a:alpha val="63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ienvenid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038480" y="987480"/>
            <a:ext cx="46483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Normas básic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Presentacion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4: Calendario de pago mensu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4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Complete el calendario de pago mensual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Escriba los ingresos y los gastos en las fechas correspondient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ras herramientas para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5238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obre de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aja de presupues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54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ja de cálculo de computador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3" descr="Envelopes and pen"/>
          <p:cNvPicPr/>
          <p:nvPr/>
        </p:nvPicPr>
        <p:blipFill>
          <a:blip r:embed="rId1"/>
          <a:srcRect l="0" t="0" r="10667" b="0"/>
          <a:stretch/>
        </p:blipFill>
        <p:spPr>
          <a:xfrm>
            <a:off x="7010280" y="1222200"/>
            <a:ext cx="1914480" cy="14446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5" descr="Files labeled by month"/>
          <p:cNvPicPr/>
          <p:nvPr/>
        </p:nvPicPr>
        <p:blipFill>
          <a:blip r:embed="rId2"/>
          <a:stretch/>
        </p:blipFill>
        <p:spPr>
          <a:xfrm>
            <a:off x="4952880" y="2362320"/>
            <a:ext cx="1408320" cy="1371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70" name="Picture 20" descr="Laptop"/>
          <p:cNvPicPr/>
          <p:nvPr/>
        </p:nvPicPr>
        <p:blipFill>
          <a:blip r:embed="rId3"/>
          <a:stretch/>
        </p:blipFill>
        <p:spPr>
          <a:xfrm>
            <a:off x="7010280" y="3505320"/>
            <a:ext cx="15256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uando hay más gastos que ingres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987480"/>
            <a:ext cx="8229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debería pagar primero si no puede pagar todas sus factura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los gastos necesarios del hogar (alquiler o hipoteca y alimento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iense en la salud y bienestar de su familia a la hora de priorizar sus factura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e asistencia para poder cubrir sus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gar sus préstam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987480"/>
            <a:ext cx="86868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i 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iene problemas para pagar sus préstamos, consider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gar primero el préstamo que tenga la tasa de interés más alt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able con sus acreedo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olicitar asesoramiento creditic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clararse en bancarrota (¡como último recurso!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5: Consideraciones de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5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0760" indent="-32076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Lea cuidadosamente la situación planteada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Responda a las pregunta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té preparado para explicar su respuesta</a:t>
            </a: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719000" indent="-4834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7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preguntas adicionales tiene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Qué han aprendi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Cómo evaluarían el curso de capacitación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ó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prendieron acerca 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s beneficios de elaborar un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crear un plan de gastos para controlar sus gastos diarios y sus ingresos y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ómo utilizar el Programa y el Calendario de gastos mensua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tras consideraciones para tener en mente al planificar su presupues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tiv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51920" y="987480"/>
            <a:ext cx="8991720" cy="510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Enumerar los pasos para establecer objetivos financier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Hacer un seguimiento de hábitos de gastos diari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Preparar un plan de gastos para estimar ingresos y gastos mensua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disminuir gast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modos de aumentar ingreso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649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132f5a"/>
                </a:solidFill>
                <a:latin typeface="Arial"/>
                <a:ea typeface="Arial"/>
              </a:rPr>
              <a:t>Identificar herramientas de un plan de gastos que lo ayudarán a administrar factura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 o qué quiere aprender acerca de cómo administrar su diner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stablecer objetivos financier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ágalos específicos para lo que quiere en un cierto periodo de tiemp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ique y escriba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rganice sus objetivos financier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dúque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valúe su progre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5" descr="Mortar board and diploma"/>
          <p:cNvPicPr/>
          <p:nvPr/>
        </p:nvPicPr>
        <p:blipFill>
          <a:blip r:embed="rId1"/>
          <a:stretch/>
        </p:blipFill>
        <p:spPr>
          <a:xfrm>
            <a:off x="6480000" y="3279600"/>
            <a:ext cx="1901880" cy="14256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4" descr="House with sold sign in front"/>
          <p:cNvPicPr/>
          <p:nvPr/>
        </p:nvPicPr>
        <p:blipFill>
          <a:blip r:embed="rId2"/>
          <a:stretch/>
        </p:blipFill>
        <p:spPr>
          <a:xfrm>
            <a:off x="2212920" y="4572000"/>
            <a:ext cx="20606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¿Por qué crear un plan de gastos</a:t>
            </a: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6840" y="987480"/>
            <a:ext cx="83818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Arial"/>
                <a:ea typeface="Arial"/>
              </a:rPr>
              <a:t>Un plan de gasto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es un plan detallado para cancelar los gastos de un período determinad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reducir ansiedad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otorga un sentido de control sobre su diner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Arial"/>
                <a:ea typeface="Arial"/>
              </a:rPr>
              <a:t>le ayuda a construir un patrimonio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4" descr="Fist clinching cash"/>
          <p:cNvPicPr/>
          <p:nvPr/>
        </p:nvPicPr>
        <p:blipFill>
          <a:blip r:embed="rId1"/>
          <a:stretch/>
        </p:blipFill>
        <p:spPr>
          <a:xfrm>
            <a:off x="3809880" y="3995640"/>
            <a:ext cx="19051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sos para preparar un plan de gast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levar un registro de sus gastos diari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ar sus ingresos y gastos mensua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reducir gast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ncontrar maneras de aumentar ingreso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73120" indent="-573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Business woman juggling dollar signs and a clock"/>
          <p:cNvPicPr/>
          <p:nvPr/>
        </p:nvPicPr>
        <p:blipFill>
          <a:blip r:embed="rId1"/>
          <a:stretch/>
        </p:blipFill>
        <p:spPr>
          <a:xfrm>
            <a:off x="7238880" y="3581280"/>
            <a:ext cx="12193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Llevar un registr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¿Sabe en qué gasta su dinero cada me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ntienda en qué se gasta el dinero mediante un registro de gasto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un diario de gastos perso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dad 1: Diario de gastos diario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alizar la Actividad 1 en la Guía para el Participant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el Diario de gastos diario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ote cuánto dinero se ha gastado hoy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 NTI</cp:lastModifiedBy>
  <dcterms:modified xsi:type="dcterms:W3CDTF">2011-03-09T20:16:08Z</dcterms:modified>
  <cp:revision>27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E4E92F9026AE644C917DF6AE7989ADB5</vt:lpwstr>
  </property>
</Properties>
</file>