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8CDA-D8DD-436D-BA68-0FB62BE4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FC0-37D8-45AF-B398-CE042BEC1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C892-B4C7-46F0-82CB-084B1C7CD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71F-CA83-4B7E-B0C6-5B39C9922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093B-9330-4E17-95B1-7560B4B4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860B-46A7-4714-BE8E-D324E76C2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FDC5-EEA6-4A1B-BB60-0D3D7786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7CF3-687E-4378-9D17-7325F9810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A0E4-CCCC-40DA-911F-BDC5C89C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2D66-456B-4511-BDB3-B68E35DB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07AD-F7D2-4C77-A399-9638864BA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B3E5-3647-4610-80E6-8800CEA3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E1FC-E0DF-464E-ABD7-35A1AE1485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Money Mat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EFC4-CD44-4990-AFAB-43DFC08F5F30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76320" y="83808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</a:rPr>
              <a:t>Mon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6"/>
          <p:cNvSpPr/>
          <p:nvPr/>
        </p:nvSpPr>
        <p:spPr>
          <a:xfrm>
            <a:off x="76320" y="2028960"/>
            <a:ext cx="426708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2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Matters</a:t>
            </a:r>
            <a:endParaRPr b="0" lang="en-US" sz="8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2160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Income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 is money that comes from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Wa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elf-employment inco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Public assi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hild support or alimo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nterest and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ocial Secur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Other sources (e.g., 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324480" y="2514600"/>
            <a:ext cx="2427480" cy="21337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ss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Net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cial Security income includ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isabilit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amily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vivor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edicare bene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"/>
          <p:cNvSpPr/>
          <p:nvPr/>
        </p:nvSpPr>
        <p:spPr>
          <a:xfrm>
            <a:off x="350532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3048120" y="1801800"/>
            <a:ext cx="55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total income – deduction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xed expenses do not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0840" indent="-330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exible expenses often change from month to mon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ay have some control over how much you p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p for the best value before committing to any payme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Monthly Income and Expense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Income and Expenses workshee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income sources and income amounts to the left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monthly expenses and amounts to the righ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6" name="TextBox 4"/>
          <p:cNvSpPr/>
          <p:nvPr/>
        </p:nvSpPr>
        <p:spPr>
          <a:xfrm>
            <a:off x="1377000" y="1039680"/>
            <a:ext cx="98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3510720" y="1430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3518280" y="188748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ns &amp;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3516480" y="2313000"/>
            <a:ext cx="155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ld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3514320" y="27511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3500640" y="317664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511800" y="36212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3512160" y="405288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4"/>
          <p:cNvSpPr/>
          <p:nvPr/>
        </p:nvSpPr>
        <p:spPr>
          <a:xfrm>
            <a:off x="3522600" y="4495680"/>
            <a:ext cx="28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al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5"/>
          <p:cNvSpPr/>
          <p:nvPr/>
        </p:nvSpPr>
        <p:spPr>
          <a:xfrm>
            <a:off x="4960800" y="103968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rease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creasing spending increases your cash fl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What are some ways you can cut back on your spend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crease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that may help to increase your income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ed Income Tax Credit (EITC or E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ild tax cred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edit for child and dependent care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cre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credits for retirement savings contribu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Keep Accurate Reco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records in a safe pla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Organize your files so it is easy to update and find important financial inform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Keep your tax records for at least 3 yea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Mail bill payments at least 1 week before they are due to avoid late fe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3: Monthly Payment Sched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3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Monthly Payment Schedule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income sources and date receiv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er the expenses, due dates, and amoun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37360" indent="-4885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xample Income and Expen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7925040" cy="3962520"/>
        </p:xfrm>
        <a:graphic>
          <a:graphicData uri="http://schemas.openxmlformats.org/drawingml/2006/table">
            <a:tbl>
              <a:tblPr/>
              <a:tblGrid>
                <a:gridCol w="1295640"/>
                <a:gridCol w="1904760"/>
                <a:gridCol w="2743200"/>
                <a:gridCol w="19814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Amount/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Sav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75 due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,000 due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F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0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ransporta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ersonal Expen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5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Payche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350 on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Teleph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4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hild C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200 due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Credit Card Pay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  <a:ea typeface="Arial"/>
                        </a:rPr>
                        <a:t>$140 due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4: Monthly Payment Calenda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4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the Monthly Payment Calend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nter the income and expense amounts on the appropriate da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Spending Plan Too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7200" y="114300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xpense Envelope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udget Box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uter Spreadsheet Syst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9144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198108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68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en There Are More Expenses Than In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payments should you make first if you cannot pay all of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your necessary household expenses first (rent, mortgage, foo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the health and safety of your family when prioritizing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ek assistance to help cover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ing Your Lo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are having trouble paying your loans, consider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ing off the loan with the highest interest rate fir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lking to your credi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Getting credit counse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ing bankruptcy (last resort only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5: Spending Plan Considera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5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ad the scenario carefull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Answer the question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Be prepared to explain your answ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103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have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benefits of budge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create a spending plan to track your daily spending and monthly income and expen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use the “Monthly Spending Schedule” and the “Monthly Spending Calendar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her considerations to keep in mind when planning your budg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0320" indent="-3103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List the steps for setting financial goa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Track daily spending habi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pare a personal spending plan to estimate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Identify spending plan tools that will help you manage your bill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289800" indent="-289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</a:t>
            </a: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Helvetica Neue"/>
              </a:rPr>
              <a:t>managing your mone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etting Financial Goal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m specific to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</a:t>
            </a:r>
            <a:r>
              <a:rPr b="1" i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want within a certain time peri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and write down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ze your financial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ucate your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uate your progr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73880" y="3273480"/>
            <a:ext cx="1914480" cy="1438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06800" y="4565520"/>
            <a:ext cx="2073240" cy="13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hy Create a Spending Plan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 spending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Is a step-by-step plan for meeting expenses in a given period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reduce anx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Gives you a sense of control over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elps you build as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pending Plan Ste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Keep track of your daily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monthly income and expens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decrease spe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ind ways to increase inc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Track Daily Spend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 know where your money goes each month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derstand where your money goes by tracking your spe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a personal spending dia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Daily Spending Di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e the Daily Spending Diar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rd the money you have spent toda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17:22Z</dcterms:modified>
  <cp:revision>26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