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1.wmf" ContentType="image/x-wmf"/>
  <Override PartName="/ppt/media/image1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16DF-2B10-4EF0-ADB4-5F69E46B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C5F4-D9B1-4F5A-89BB-2A28E525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EDE-567B-42CC-A68D-335CF6B8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97F-7BF1-41E5-8034-79F27771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51B1-991A-49B0-9C0E-5CBD3F56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879C-FA8C-4DF7-A19A-2F2D0249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946-46EC-42EC-8084-71B72988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49B7-F491-4702-8F49-C1722DCC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A86-02B0-435C-B829-31EBCA13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83D4-9528-4DA1-A619-821960D7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DB1-4B6F-4BF4-86C0-90A6B15E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6AD-A4C0-4BF1-9286-197AC5A8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1BBA-DD93-46E9-8047-BC2DAEA7A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Mat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6527-ACBF-444C-9DD8-E20AE5CB722D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oney Matters title slide with FDIC Money Smart logo and module logo including a budget, pencil, and dollar 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76320" y="8380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</a:rPr>
              <a:t>Mon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76320" y="2028960"/>
            <a:ext cx="4267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atters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termin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Arial"/>
                <a:ea typeface="Arial"/>
              </a:rPr>
              <a:t>Income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 is money that comes fro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W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elf-employment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Public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hild support or alim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nterest and divid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ocial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Other sources (e.g., ti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Man in tie holding up cash"/>
          <p:cNvPicPr/>
          <p:nvPr/>
        </p:nvPicPr>
        <p:blipFill>
          <a:blip r:embed="rId1"/>
          <a:stretch/>
        </p:blipFill>
        <p:spPr>
          <a:xfrm>
            <a:off x="6324480" y="2514600"/>
            <a:ext cx="242748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ss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t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cial Security income includ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tirement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abilit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rvivor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dicare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3505320" y="125244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048120" y="1801800"/>
            <a:ext cx="55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 – deduc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Social Security card"/>
          <p:cNvPicPr/>
          <p:nvPr/>
        </p:nvPicPr>
        <p:blipFill>
          <a:blip r:embed="rId1"/>
          <a:stretch/>
        </p:blipFill>
        <p:spPr>
          <a:xfrm>
            <a:off x="6485040" y="3344760"/>
            <a:ext cx="2193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xed expenses do not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le expenses often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ay have some control over how much you p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p for the best value before committing to any pay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2: Monthly Income and Expense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Income and Expenses workshe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income sources and income amounts to the lef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expenses and amounts to the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table.PNG"/>
          <p:cNvPicPr/>
          <p:nvPr/>
        </p:nvPicPr>
        <p:blipFill>
          <a:blip r:embed="rId1"/>
          <a:stretch/>
        </p:blipFill>
        <p:spPr>
          <a:xfrm>
            <a:off x="685800" y="963720"/>
            <a:ext cx="7772400" cy="445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TextBox 4"/>
          <p:cNvSpPr/>
          <p:nvPr/>
        </p:nvSpPr>
        <p:spPr>
          <a:xfrm>
            <a:off x="1377000" y="10396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737640" y="14209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650520" y="18874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2,100 + $1,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3510720" y="1430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518280" y="18874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s &amp;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3516480" y="231300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3514320" y="27511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3500640" y="31766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511800" y="36212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3512160" y="40528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3522600" y="449568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5631840" y="49258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7232400" y="1371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7729920" y="1878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7630920" y="2317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7630920" y="27432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7630920" y="3200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7630920" y="3657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2"/>
          <p:cNvSpPr/>
          <p:nvPr/>
        </p:nvSpPr>
        <p:spPr>
          <a:xfrm>
            <a:off x="7630920" y="4073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7630920" y="4530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7332120" y="49528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,4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4960800" y="10396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crease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creasing spending increases your cash fl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What are some ways you can cut back on your spend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Scissors cutting $100 bill"/>
          <p:cNvPicPr/>
          <p:nvPr/>
        </p:nvPicPr>
        <p:blipFill>
          <a:blip r:embed="rId1"/>
          <a:stretch/>
        </p:blipFill>
        <p:spPr>
          <a:xfrm>
            <a:off x="3352680" y="3581280"/>
            <a:ext cx="2408400" cy="17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rease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that may help to increase your income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arned Income Tax Credit (EITC or E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ild tax cre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for child and dependent care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ion cre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for retirement savings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Keep Accurate Rec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records in a safe pl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Organize your files so it is easy to update and find important financial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your tax records for at least 3 ye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Mail bill payments at least 1 week before they are due to avoid late f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Accordian file"/>
          <p:cNvPicPr/>
          <p:nvPr/>
        </p:nvPicPr>
        <p:blipFill>
          <a:blip r:embed="rId1"/>
          <a:stretch/>
        </p:blipFill>
        <p:spPr>
          <a:xfrm>
            <a:off x="7848720" y="533520"/>
            <a:ext cx="111276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3: Monthly Payment Sche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Payment Schedu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income sources and date receiv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expenses, due dates, and amou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ampl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295280"/>
          <a:ext cx="7925040" cy="3962520"/>
        </p:xfrm>
        <a:graphic>
          <a:graphicData uri="http://schemas.openxmlformats.org/drawingml/2006/table">
            <a:tbl>
              <a:tblPr/>
              <a:tblGrid>
                <a:gridCol w="1295640"/>
                <a:gridCol w="1904760"/>
                <a:gridCol w="2743200"/>
                <a:gridCol w="1981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Sav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75 due 4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R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,000 due 4/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ranspor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ersonal 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5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ele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redit Card Pay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40 due 4/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38480" y="987480"/>
            <a:ext cx="46483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4: Monthly Payment Calend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4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lete the Monthly Payment Calend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nter the income and expense amounts on the appropriate da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Spending Plan To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430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ense Envelope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udget Box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uter Spreadsheet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13" descr="Envelopes and pen"/>
          <p:cNvPicPr/>
          <p:nvPr/>
        </p:nvPicPr>
        <p:blipFill>
          <a:blip r:embed="rId1"/>
          <a:srcRect l="0" t="0" r="10667" b="0"/>
          <a:stretch/>
        </p:blipFill>
        <p:spPr>
          <a:xfrm>
            <a:off x="7010280" y="914400"/>
            <a:ext cx="1914480" cy="1444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Files labeled by month"/>
          <p:cNvPicPr/>
          <p:nvPr/>
        </p:nvPicPr>
        <p:blipFill>
          <a:blip r:embed="rId2"/>
          <a:stretch/>
        </p:blipFill>
        <p:spPr>
          <a:xfrm>
            <a:off x="4952880" y="1981080"/>
            <a:ext cx="14083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8" name="Picture 20" descr="Laptop"/>
          <p:cNvPicPr/>
          <p:nvPr/>
        </p:nvPicPr>
        <p:blipFill>
          <a:blip r:embed="rId3"/>
          <a:stretch/>
        </p:blipFill>
        <p:spPr>
          <a:xfrm>
            <a:off x="7010280" y="3505320"/>
            <a:ext cx="1525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en There Are More Expenses Than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payments should you make first if you cannot pay all of your bill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your necessary household expenses first (rent, mortgage, foo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ink about the health and safety of your family when prioritizing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ek assistance to help cover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ying Your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8748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re having trouble paying your loans, consid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ing off the loan with the highest interest rate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lking to your credi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etting credit couns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claring bankruptcy (last resort only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5: Spending Plan Consider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5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Read the scenario carefu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Answer the ques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learn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benefits of budg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create a spending plan to track your daily spending and monthly income and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use the “Monthly Spending Schedule” and the “Monthly Spending Calendar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her considerations to keep in mind when planning your bud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List the steps for setting financial go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Track daily spending hab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Prepare a personal spending plan to estimate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spending plan tools that will help you manage your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Helvetica Neue"/>
              </a:rPr>
              <a:t>managing your money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etting Financial 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them specific to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want within a certain time peri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and write down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rganize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e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aluate your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Mortar board and diploma"/>
          <p:cNvPicPr/>
          <p:nvPr/>
        </p:nvPicPr>
        <p:blipFill>
          <a:blip r:embed="rId1"/>
          <a:stretch/>
        </p:blipFill>
        <p:spPr>
          <a:xfrm>
            <a:off x="6473880" y="327348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House with sold sign in front"/>
          <p:cNvPicPr/>
          <p:nvPr/>
        </p:nvPicPr>
        <p:blipFill>
          <a:blip r:embed="rId2"/>
          <a:stretch/>
        </p:blipFill>
        <p:spPr>
          <a:xfrm>
            <a:off x="2206800" y="4565520"/>
            <a:ext cx="207324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y Create a Spending Pla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 spending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s a step-by-step plan for meeting expenses in a given period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reduce anx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Gives you a sense of control over you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build as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Fist clinching cash"/>
          <p:cNvPicPr/>
          <p:nvPr/>
        </p:nvPicPr>
        <p:blipFill>
          <a:blip r:embed="rId1"/>
          <a:stretch/>
        </p:blipFill>
        <p:spPr>
          <a:xfrm>
            <a:off x="3809880" y="3995640"/>
            <a:ext cx="1905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pending Plan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track of your daily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Business woman juggling dollar signs and a clock"/>
          <p:cNvPicPr/>
          <p:nvPr/>
        </p:nvPicPr>
        <p:blipFill>
          <a:blip r:embed="rId1"/>
          <a:stretch/>
        </p:blipFill>
        <p:spPr>
          <a:xfrm>
            <a:off x="7238880" y="3581280"/>
            <a:ext cx="12193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rack Daily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know where your money goes each mont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derstand where your money goes by tracking your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a personal spending d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Daily Spending Di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Daily Spending Dia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rd the money you have spent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17:22Z</dcterms:modified>
  <cp:revision>2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4E92F9026AE644C917DF6AE7989ADB5</vt:lpwstr>
  </property>
</Properties>
</file>