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jpeg" ContentType="image/jpeg"/>
  <Override PartName="/ppt/media/image9.wmf" ContentType="image/x-wmf"/>
  <Override PartName="/ppt/media/image11.wmf" ContentType="image/x-wmf"/>
  <Override PartName="/ppt/media/image1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363B-1DD2-4BFF-BFA1-0D30A5B8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7F26-211C-4D1C-85D0-D066B58B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A601-B726-4931-8783-98B6247A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7663-8112-4D0F-B856-1B6AFAEC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D092-9E40-4754-9281-9B41C15F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E2DE-644D-4E9C-80EF-3B86C9DC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730E-34D6-4D4F-9517-4DC37D54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5EA8-6C44-4C74-B028-2ABCCEF0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07A2-5E28-44FA-8353-8D1EBF4B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3580-7EE8-4C27-A22B-7D714A21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2CA8-95CB-49F7-BB31-A8029CEE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3E62-35A3-43A5-BFDB-E9F08C8B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F2E4-27ED-47C5-A6B5-2C2E5E23D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oney Mat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2D1C-0E82-4A62-9A9C-39CF887C9DB0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oney Matters title slide with FDIC Money Smart logo and module logo including a budget, pencil, and dollar sig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76320" y="8380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</a:rPr>
              <a:t>Mon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76320" y="2028960"/>
            <a:ext cx="42670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atters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termine Income and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Arial"/>
                <a:ea typeface="Arial"/>
              </a:rPr>
              <a:t>Income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 is money that comes fro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W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Self-employment in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Public as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hild support or alimo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Interest and divid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Social 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Other sources (e.g., ti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Man in tie holding up cash"/>
          <p:cNvPicPr/>
          <p:nvPr/>
        </p:nvPicPr>
        <p:blipFill>
          <a:blip r:embed="rId1"/>
          <a:stretch/>
        </p:blipFill>
        <p:spPr>
          <a:xfrm>
            <a:off x="6324480" y="2514600"/>
            <a:ext cx="242748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7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ss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t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cial Security income includ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tirement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sability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amily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rvivor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edicare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3505320" y="125244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total inc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3048120" y="1801800"/>
            <a:ext cx="55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total income – deduc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Social Security card"/>
          <p:cNvPicPr/>
          <p:nvPr/>
        </p:nvPicPr>
        <p:blipFill>
          <a:blip r:embed="rId1"/>
          <a:stretch/>
        </p:blipFill>
        <p:spPr>
          <a:xfrm>
            <a:off x="6485040" y="3344760"/>
            <a:ext cx="219384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xed expenses do not change from month to mon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exible expenses often change from month to mon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may have some control over how much you p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hop for the best value before committing to any pay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2: Monthly Income and Expense Worksh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Monthly Income and Expenses workshe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monthly income sources and income amounts to the lef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monthly expenses and amounts to the r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table.PNG"/>
          <p:cNvPicPr/>
          <p:nvPr/>
        </p:nvPicPr>
        <p:blipFill>
          <a:blip r:embed="rId1"/>
          <a:stretch/>
        </p:blipFill>
        <p:spPr>
          <a:xfrm>
            <a:off x="685800" y="963720"/>
            <a:ext cx="7772400" cy="445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TextBox 4"/>
          <p:cNvSpPr/>
          <p:nvPr/>
        </p:nvSpPr>
        <p:spPr>
          <a:xfrm>
            <a:off x="1377000" y="10396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737640" y="14209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3,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650520" y="188748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2,100 + $1,4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3510720" y="1430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3518280" y="188748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s &amp; b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3516480" y="231300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3514320" y="27511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3500640" y="31766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511800" y="36212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3512160" y="405288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3522600" y="449568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5631840" y="49258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6"/>
          <p:cNvSpPr/>
          <p:nvPr/>
        </p:nvSpPr>
        <p:spPr>
          <a:xfrm>
            <a:off x="7232400" y="13716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7729920" y="1878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7630920" y="2317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7630920" y="27432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0"/>
          <p:cNvSpPr/>
          <p:nvPr/>
        </p:nvSpPr>
        <p:spPr>
          <a:xfrm>
            <a:off x="7630920" y="32004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1"/>
          <p:cNvSpPr/>
          <p:nvPr/>
        </p:nvSpPr>
        <p:spPr>
          <a:xfrm>
            <a:off x="7630920" y="3657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2"/>
          <p:cNvSpPr/>
          <p:nvPr/>
        </p:nvSpPr>
        <p:spPr>
          <a:xfrm>
            <a:off x="7630920" y="40734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3"/>
          <p:cNvSpPr/>
          <p:nvPr/>
        </p:nvSpPr>
        <p:spPr>
          <a:xfrm>
            <a:off x="7630920" y="4530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4"/>
          <p:cNvSpPr/>
          <p:nvPr/>
        </p:nvSpPr>
        <p:spPr>
          <a:xfrm>
            <a:off x="7332120" y="49528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,4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4960800" y="10396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crease Spen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creasing spending increases your cash fl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What are some ways you can cut back on your spend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Scissors cutting $100 bill"/>
          <p:cNvPicPr/>
          <p:nvPr/>
        </p:nvPicPr>
        <p:blipFill>
          <a:blip r:embed="rId1"/>
          <a:stretch/>
        </p:blipFill>
        <p:spPr>
          <a:xfrm>
            <a:off x="3352680" y="3581280"/>
            <a:ext cx="2408400" cy="171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crease 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x credits that may help to increase your income inclu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arned Income Tax Credit (EITC or E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hild tax cred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for child and dependent care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ducation cred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x credits for retirement savings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Keep Accurate Reco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Keep records in a safe pl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Organize your files so it is easy to update and find important financial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Keep your tax records for at least 3 ye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Mail bill payments at least 1 week before they are due to avoid late f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Accordian file"/>
          <p:cNvPicPr/>
          <p:nvPr/>
        </p:nvPicPr>
        <p:blipFill>
          <a:blip r:embed="rId1"/>
          <a:stretch/>
        </p:blipFill>
        <p:spPr>
          <a:xfrm>
            <a:off x="7848720" y="533520"/>
            <a:ext cx="1112760" cy="139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3: Monthly Payment Sched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Monthly Payment Schedu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ter the income sources and date receiv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ter the expenses, due dates, and amou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xample Income and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1295280"/>
          <a:ext cx="7925040" cy="3962520"/>
        </p:xfrm>
        <a:graphic>
          <a:graphicData uri="http://schemas.openxmlformats.org/drawingml/2006/table">
            <a:tbl>
              <a:tblPr/>
              <a:tblGrid>
                <a:gridCol w="1295640"/>
                <a:gridCol w="1904760"/>
                <a:gridCol w="2743200"/>
                <a:gridCol w="1981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ount/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en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ount/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050 on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Sav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75 due 4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R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,000 due 4/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F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400 due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050 on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Transpor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ersonal Expen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50 due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hild C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Tele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40 due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hild C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redit Card Pay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40 due 4/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038480" y="987480"/>
            <a:ext cx="46483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4: Monthly Payment Calend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4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omplete the Monthly Payment Calend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Enter the income and expense amounts on the appropriate dat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her Spending Plan Too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1430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pense Envelope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udget Box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uter Spreadsheet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13" descr="Envelopes and pen"/>
          <p:cNvPicPr/>
          <p:nvPr/>
        </p:nvPicPr>
        <p:blipFill>
          <a:blip r:embed="rId1"/>
          <a:srcRect l="0" t="0" r="10667" b="0"/>
          <a:stretch/>
        </p:blipFill>
        <p:spPr>
          <a:xfrm>
            <a:off x="7010280" y="914400"/>
            <a:ext cx="1914480" cy="1444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Files labeled by month"/>
          <p:cNvPicPr/>
          <p:nvPr/>
        </p:nvPicPr>
        <p:blipFill>
          <a:blip r:embed="rId2"/>
          <a:stretch/>
        </p:blipFill>
        <p:spPr>
          <a:xfrm>
            <a:off x="4952880" y="1981080"/>
            <a:ext cx="140832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68" name="Picture 20" descr="Laptop"/>
          <p:cNvPicPr/>
          <p:nvPr/>
        </p:nvPicPr>
        <p:blipFill>
          <a:blip r:embed="rId3"/>
          <a:stretch/>
        </p:blipFill>
        <p:spPr>
          <a:xfrm>
            <a:off x="7010280" y="3505320"/>
            <a:ext cx="1525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en There Are More Expenses Than 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payments should you make first if you cannot pay all of your bill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 your necessary household expenses first (rent, mortgage, foo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ink about the health and safety of your family when prioritizing b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ek assistance to help cover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ying Your Lo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98748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are having trouble paying your loans, consid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ing off the loan with the highest interest rate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lking to your credi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etting credit couns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claring bankruptcy (last resort only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5: Spending Plan Consider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5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Read the scenario careful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Answer the ques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have learn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benefits of budg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create a spending plan to track your daily spending and monthly income and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use the “Monthly Spending Schedule” and the “Monthly Spending Calendar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ther considerations to keep in mind when planning your budg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List the steps for setting financial go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Track daily spending hab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Prepare a personal spending plan to estimate monthly income and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ways to decrease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ways to increase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spending plan tools that will help you manage your bi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Helvetica Neue"/>
              </a:rPr>
              <a:t>managing your money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etting Financial Go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ke them specific to</a:t>
            </a:r>
            <a:r>
              <a:rPr b="1" i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</a:t>
            </a:r>
            <a:r>
              <a:rPr b="1" i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want within a certain time perio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and write down your financial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rganize your financial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ducate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valuate your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Mortar board and diploma"/>
          <p:cNvPicPr/>
          <p:nvPr/>
        </p:nvPicPr>
        <p:blipFill>
          <a:blip r:embed="rId1"/>
          <a:stretch/>
        </p:blipFill>
        <p:spPr>
          <a:xfrm>
            <a:off x="6473880" y="3273480"/>
            <a:ext cx="1914480" cy="1438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House with sold sign in front"/>
          <p:cNvPicPr/>
          <p:nvPr/>
        </p:nvPicPr>
        <p:blipFill>
          <a:blip r:embed="rId2"/>
          <a:stretch/>
        </p:blipFill>
        <p:spPr>
          <a:xfrm>
            <a:off x="2206800" y="4565520"/>
            <a:ext cx="207324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y Create a Spending Pla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A spending pl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Is a step-by-step plan for meeting expenses in a given period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Helps you reduce anx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Gives you a sense of control over your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Helps you build as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Fist clinching cash"/>
          <p:cNvPicPr/>
          <p:nvPr/>
        </p:nvPicPr>
        <p:blipFill>
          <a:blip r:embed="rId1"/>
          <a:stretch/>
        </p:blipFill>
        <p:spPr>
          <a:xfrm>
            <a:off x="3809880" y="3995640"/>
            <a:ext cx="19051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pending Plan Ste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Keep track of your daily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your monthly income and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ways to decrease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ways to increase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Business woman juggling dollar signs and a clock"/>
          <p:cNvPicPr/>
          <p:nvPr/>
        </p:nvPicPr>
        <p:blipFill>
          <a:blip r:embed="rId1"/>
          <a:stretch/>
        </p:blipFill>
        <p:spPr>
          <a:xfrm>
            <a:off x="7238880" y="3581280"/>
            <a:ext cx="12193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rack Daily Spen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know where your money goes each mont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derstand where your money goes by tracking your sp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a personal spending di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1: Daily Spending Di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Daily Spending Diar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rd the money you have spent to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National Technologies Inc.</cp:lastModifiedBy>
  <dcterms:modified xsi:type="dcterms:W3CDTF">2010-11-01T14:17:22Z</dcterms:modified>
  <cp:revision>2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E4E92F9026AE644C917DF6AE7989ADB5</vt:lpwstr>
  </property>
</Properties>
</file>