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.jpeg" ContentType="image/jpeg"/>
  <Override PartName="/ppt/media/image6.wmf" ContentType="image/x-wmf"/>
  <Override PartName="/ppt/media/image7.wmf" ContentType="image/x-wmf"/>
  <Override PartName="/ppt/media/image29.jpeg" ContentType="image/jpeg"/>
  <Override PartName="/ppt/media/image8.jpeg" ContentType="image/jpeg"/>
  <Override PartName="/ppt/media/image10.jpeg" ContentType="image/jpeg"/>
  <Override PartName="/ppt/media/image13.wmf" ContentType="image/x-wmf"/>
  <Override PartName="/ppt/media/image28.wmf" ContentType="image/x-wmf"/>
  <Override PartName="/ppt/media/image3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11.wmf" ContentType="image/x-wmf"/>
  <Override PartName="/ppt/media/image5.jpeg" ContentType="image/jpeg"/>
  <Override PartName="/ppt/media/image9.png" ContentType="image/png"/>
  <Override PartName="/ppt/media/image31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wmf" ContentType="image/x-wmf"/>
  <Override PartName="/ppt/media/image25.jpeg" ContentType="image/jpeg"/>
  <Override PartName="/ppt/media/image26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6AC-384A-44BC-9D98-0C3C0C96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C2D-8246-4383-B3D0-3767FE4B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549-1D61-4779-A703-E8C8E7CA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977-239C-40F2-BDD6-34AAA572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CAD-370F-4727-9506-6CCB995E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1F94-9845-4519-B661-9DC981DB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C32-1CEB-42CB-92BC-2F11ECA1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C85-5618-4C27-8B05-735C3E39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AF4-7948-43EF-A155-80E25000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D92-1960-4D3C-89F5-EEB1238C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27B-9468-46B2-9DA0-E4E29D2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372-9F5F-4F64-80C7-E3EEE0A2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7105-D70A-4D3A-93F6-404063630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</a:t>
            </a:r>
            <a:r>
              <a:rPr b="1" lang="es-E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éstamos Pers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6E62-33BB-408F-B0C0-6308C8C9ACC1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Loan To Own title slide with FDIC Money Smart logo and module logo including images of a car, boat, computer, diploma, and mortar boar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0" y="838080"/>
            <a:ext cx="678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éstamos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2280" y="2027160"/>
            <a:ext cx="5943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Personales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l monto de dólares que costará el préstamo, incluido: intereses, cargos de servicio y costos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3d"/>
                </a:solidFill>
                <a:latin typeface="Helvetica Neue"/>
              </a:rPr>
              <a:t>Respuesta: Cargos de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con tasa de interés que podría cambiar en cualquier momen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3993d"/>
                </a:solidFill>
                <a:latin typeface="Helvetica Neue"/>
              </a:rPr>
              <a:t>Respuesta: Préstamo con tasa variabl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costo de préstamos en cuot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217980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costo de tomar dinero prestado calculado por añ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 con tasa de interés igual a lo largo de la duración d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14400" indent="-406440"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Helvetica Neue"/>
              </a:rPr>
              <a:t>Respuesta: Préstamo con tasa fij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stefanía pide un préstamo para un auto con una tasa de interés del 10% y paga $100 en costos de solicitud del préstamo. ¿Qué término relacionado a los préstamos refleja el interés más el costo de la solicitud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APR</a:t>
            </a:r>
            <a:r>
              <a:rPr b="0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Folded Corner 4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2362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Arial"/>
              </a:rPr>
              <a:t>Miguel pide un préstamo para comprar una computadora. ¿Qué termino relacionado a los préstamos describe mejor este tipo de préstamo</a:t>
            </a:r>
            <a:r>
              <a:rPr b="1" lang="en-US" sz="2800" spc="-1" strike="noStrike">
                <a:solidFill>
                  <a:srgbClr val="132f5a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3993d"/>
                </a:solidFill>
                <a:latin typeface="Arial"/>
              </a:rPr>
              <a:t>Respuesta: Préstamo con tasa fija</a:t>
            </a:r>
            <a:r>
              <a:rPr b="0" lang="en-US" sz="2600" spc="-1" strike="noStrike">
                <a:solidFill>
                  <a:srgbClr val="132f5a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Folded Corner 4"/>
          <p:cNvSpPr/>
          <p:nvPr/>
        </p:nvSpPr>
        <p:spPr>
          <a:xfrm>
            <a:off x="685800" y="1066680"/>
            <a:ext cx="777240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xed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Finance Charges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</a:rPr>
              <a:t>Variable-rate l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dentifique el términ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160" y="2361960"/>
            <a:ext cx="83818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Kevin pide un préstamo para un automóvil. Debe pagar $3,000 en intereses, cargos de servicio y costos de la aplicación. ¿Qué términos relacionados a los préstamos describen estos costo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907920" indent="-450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3993d"/>
                </a:solidFill>
                <a:latin typeface="Helvetica Neue"/>
              </a:rPr>
              <a:t>Respuesta: Préstamo con tasa variable, cargos de financiación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Folded Corner 5"/>
          <p:cNvSpPr/>
          <p:nvPr/>
        </p:nvSpPr>
        <p:spPr>
          <a:xfrm>
            <a:off x="457200" y="1066680"/>
            <a:ext cx="8153280" cy="990720"/>
          </a:xfrm>
          <a:prstGeom prst="foldedCorner">
            <a:avLst>
              <a:gd name="adj" fmla="val 1666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  <a:effectLst>
            <a:outerShdw dist="38183" dir="8100000" blurRad="0" rotWithShape="0">
              <a:srgbClr val="4f6228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           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APR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Préstamo con tasa fij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Cargos de financiación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	</a:t>
            </a:r>
            <a:r>
              <a:rPr b="1" lang="en-US" sz="2500" spc="-1" strike="noStrike">
                <a:solidFill>
                  <a:srgbClr val="ffffff"/>
                </a:solidFill>
                <a:latin typeface="Helvetica Neue"/>
              </a:rPr>
              <a:t>  Préstamo con tasa vari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Por qué prefieren los prestamistas dar préstamos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onto de cada pago mensual y periodo de amortización clar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asas más bajas que las tarjetas de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aldos del préstamo más bajos durante el plazo del préstamo porque el pago incluye el capital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mprar o arrend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uáles son algunas preguntas que debería hacerse cuando busca un aut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comprarme un auto nuevo o usad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Debería comprar o arrend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¿Cuánto puedo pagar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13160" indent="-2743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¿Debería intentar canjearlo por mi auto viejo?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2" name="Picture 11" descr="Blue car"/>
          <p:cNvPicPr/>
          <p:nvPr/>
        </p:nvPicPr>
        <p:blipFill>
          <a:blip r:embed="rId1"/>
          <a:stretch/>
        </p:blipFill>
        <p:spPr>
          <a:xfrm>
            <a:off x="6629400" y="2743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para autos versus arrendamiento de aut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nga en cuenta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potencial de ser propiet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desgaste por u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pagos mensu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 de kilometraj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eguro del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5" name="Picture 2" descr="Couple looking at a sticker on a car in car sales lot"/>
          <p:cNvPicPr/>
          <p:nvPr/>
        </p:nvPicPr>
        <p:blipFill>
          <a:blip r:embed="rId1"/>
          <a:stretch/>
        </p:blipFill>
        <p:spPr>
          <a:xfrm>
            <a:off x="6248520" y="1601640"/>
            <a:ext cx="213336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nanciar un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auto es la garantía para el préstam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 escritura indica quién es el propietario del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do esté pensando en un préstamo de au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pa el costo y cuánto debe tomar prestad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698400" indent="-26856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sque la mejor ofert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8" name="Picture 4" descr="Car and loan paperwork"/>
          <p:cNvPicPr/>
          <p:nvPr/>
        </p:nvPicPr>
        <p:blipFill>
          <a:blip r:embed="rId1"/>
          <a:stretch/>
        </p:blipFill>
        <p:spPr>
          <a:xfrm>
            <a:off x="7318440" y="304920"/>
            <a:ext cx="18255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ónde obtener préstamos de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8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cos/entidades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operativas de crédito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añías financiera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cesion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1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5410080" y="2057400"/>
            <a:ext cx="26672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191120" y="2057400"/>
            <a:ext cx="44956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3049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Arial"/>
              </a:rPr>
              <a:t>Cuando los prestamistas ofrecen 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mejor oferta puede requeri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ucho dinero de entrad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plazo corto para el préstamo (3 años o menos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istorial crediticio excelent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de particip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4" name="Picture 4" descr="Dollar sign"/>
          <p:cNvPicPr/>
          <p:nvPr/>
        </p:nvPicPr>
        <p:blipFill>
          <a:blip r:embed="rId1"/>
          <a:stretch/>
        </p:blipFill>
        <p:spPr>
          <a:xfrm>
            <a:off x="7315200" y="3124080"/>
            <a:ext cx="150012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asas de interés baja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recio de una financiación con tasa baj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as ventajas de pagar con dinero/usar su propia financiación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pago de entrada requerid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límites en la duración del préstam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gos de saldo al vencimien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, si se deben al final d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47" name="Picture 6" descr="Question mark"/>
          <p:cNvPicPr/>
          <p:nvPr/>
        </p:nvPicPr>
        <p:blipFill>
          <a:blip r:embed="rId1"/>
          <a:stretch/>
        </p:blipFill>
        <p:spPr>
          <a:xfrm>
            <a:off x="7323120" y="457200"/>
            <a:ext cx="1515960" cy="1219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omociones espe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gunte por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lor de canjeo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ímites en ofertas especi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ignificado del recibo del concesion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0" name="Picture 7" descr="Car salesman "/>
          <p:cNvPicPr/>
          <p:nvPr/>
        </p:nvPicPr>
        <p:blipFill>
          <a:blip r:embed="rId1"/>
          <a:stretch/>
        </p:blipFill>
        <p:spPr>
          <a:xfrm>
            <a:off x="6781680" y="1447920"/>
            <a:ext cx="1684440" cy="1827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tratos de servicio para vehícul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lnSpc>
                <a:spcPct val="9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a promesa de realizar (o de pagar) ciertas reparaciones o servici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ga preguntas antes de comprar contratos de servicio de vehícul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3" name="Picture 9" descr="Car salesman helping a couple purchase a car"/>
          <p:cNvPicPr/>
          <p:nvPr/>
        </p:nvPicPr>
        <p:blipFill>
          <a:blip r:embed="rId1"/>
          <a:stretch/>
        </p:blipFill>
        <p:spPr>
          <a:xfrm>
            <a:off x="3581280" y="3048120"/>
            <a:ext cx="2132280" cy="2133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Vehículo usado: Protección con garantía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Busque la pegatina en el auto que ponga Buyer's Guide (Guía del Comprador) para averiguar si el vehículo se ven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 garantías implíci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“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al como está”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56" name="Picture 1" descr="Buyer's Guide sticker with As Is-No Warranty or Warranty options"/>
          <p:cNvPicPr/>
          <p:nvPr/>
        </p:nvPicPr>
        <p:blipFill>
          <a:blip r:embed="rId1"/>
          <a:stretch/>
        </p:blipFill>
        <p:spPr>
          <a:xfrm>
            <a:off x="5562720" y="2577960"/>
            <a:ext cx="32004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Hybrid car with cord to charge it"/>
          <p:cNvPicPr/>
          <p:nvPr/>
        </p:nvPicPr>
        <p:blipFill>
          <a:blip r:embed="rId1"/>
          <a:stretch/>
        </p:blipFill>
        <p:spPr>
          <a:xfrm>
            <a:off x="0" y="4513320"/>
            <a:ext cx="2438280" cy="16254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ehículos de combustible alternativ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tes de comprar o arrendar, piense en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tipo de combustible y la disponibilidad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os costos operativos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ndimiento/conveniencia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guridad/energía renovable 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ision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1961c"/>
                </a:solidFill>
                <a:latin typeface="Helvetica Neue"/>
              </a:rPr>
              <a:t>Actividad 1: Cuidado con relaciones entre concesionarios y prestamistas</a:t>
            </a:r>
            <a:endParaRPr b="0" lang="en-US" sz="3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de cerca la situación planteada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criba algunas cosas que Sam podría haber hecho de manera diferente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773720" indent="-498960"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6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rganizar un préstamo de automóvi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Arial"/>
              </a:rPr>
              <a:t>Pague lo más que pueda de entra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en cuenta el costo total del préstam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$15,000 al 4% de interés durante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36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443 </a:t>
            </a:r>
            <a:r>
              <a:rPr b="0" lang="en-US" sz="2800" spc="-1" strike="noStrike">
                <a:solidFill>
                  <a:srgbClr val="252e4e"/>
                </a:solidFill>
                <a:latin typeface="Helvetica Neue"/>
              </a:rPr>
              <a:t>versus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48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meses =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339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l m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 total: </a:t>
            </a:r>
            <a:r>
              <a:rPr b="1" lang="en-US" sz="2800" spc="-1" strike="noStrike">
                <a:solidFill>
                  <a:srgbClr val="0000ff"/>
                </a:solidFill>
                <a:latin typeface="Helvetica Neue"/>
              </a:rPr>
              <a:t>$15,948 versus $16,272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enga cuidado con los préstamos de auto que duren 5 años o má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enga cuidado con los préstamos que usan la escritura  del aut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44792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Se arriesga a perder su auto si no puede pagar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n ser préstamos costoso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132f5a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 mes: préstamo de $500 + $100 en intereses ($500 x 20%) = $6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</a:rPr>
              <a:t>1 año: préstamo de $500 + $1,200 en intereses ($110 x 12) = 240% AP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001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la vivienda menos la deu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 </a:t>
            </a:r>
            <a:r>
              <a:rPr b="1" i="1" lang="en-US" sz="3000" spc="-1" strike="noStrike">
                <a:solidFill>
                  <a:srgbClr val="b08830"/>
                </a:solidFill>
                <a:latin typeface="Helvetica Neue"/>
              </a:rPr>
              <a:t>préstamo sobre el capital de la vivienda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permite tomar dinero prestado contra el valor de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Rounded Rectangle 4"/>
          <p:cNvSpPr/>
          <p:nvPr/>
        </p:nvSpPr>
        <p:spPr>
          <a:xfrm>
            <a:off x="1600200" y="1828800"/>
            <a:ext cx="5943600" cy="167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 de la vivienda $25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nos la deuda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- 180,00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$ 7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520" y="101916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tipos de préstamos en cuot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os factores que usan los prestamistas para tomar decisiones sobre préstamos de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cómo las leyes federales les protegen cuando solicitan un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dentificar las preguntas que se deben hacer cuando se compra un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5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funcionan los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lación préstamo-valor del 80%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x 80% = $200,000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50,000 (valor de la viviend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180,000 (hipoteca)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$20,000 (valor del préstamo sobre el capital de la vivienda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2" name="Picture 2" descr="Person in suit holding a small model of a home"/>
          <p:cNvPicPr/>
          <p:nvPr/>
        </p:nvPicPr>
        <p:blipFill>
          <a:blip r:embed="rId1"/>
          <a:stretch/>
        </p:blipFill>
        <p:spPr>
          <a:xfrm>
            <a:off x="7162920" y="1523880"/>
            <a:ext cx="1828800" cy="26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Straight Connector 5"/>
          <p:cNvSpPr/>
          <p:nvPr/>
        </p:nvSpPr>
        <p:spPr>
          <a:xfrm>
            <a:off x="838080" y="4419720"/>
            <a:ext cx="647712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ipos de préstamos sobre el capital de la viviend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560" y="144792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 préstamo único con una suma específic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Se suele ofrecer a una tasa de interés fija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ínea de crédito sobre el capital de una vivienda (HELOC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Una línea de crédito que funciona como una tarjeta de crédito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as tasas de interés suelen ser variables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6" name="Picture 6" descr="Circle graphic with house icon"/>
          <p:cNvPicPr/>
          <p:nvPr/>
        </p:nvPicPr>
        <p:blipFill>
          <a:blip r:embed="rId1"/>
          <a:stretch/>
        </p:blipFill>
        <p:spPr>
          <a:xfrm>
            <a:off x="7545240" y="2133720"/>
            <a:ext cx="1598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4582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ar dinero prestado contra su cas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Cuáles so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ventajas de obtener un préstamo sobre el capital de una viviend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más baj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tereses desgravab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riesgo tiene tomar dinero prestado contra su cas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erder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20720" indent="-277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er más dinero </a:t>
            </a: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el que vale su cas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8400" indent="-33408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9" name="Picture 5" descr="Icon with a figure and roofline overhead"/>
          <p:cNvPicPr/>
          <p:nvPr/>
        </p:nvPicPr>
        <p:blipFill>
          <a:blip r:embed="rId1"/>
          <a:stretch/>
        </p:blipFill>
        <p:spPr>
          <a:xfrm>
            <a:off x="7467480" y="2133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Derecho de rescindir/derecho de cancelar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 3 días para reconsiderar un acuerdo de préstamo sobre el capital de una vivienda que ha firmado y cancelar el préstamo sin penalidades cuando utiliza su hogar como 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82" name="Picture 5" descr="Person in thought with hand on chin"/>
          <p:cNvPicPr/>
          <p:nvPr/>
        </p:nvPicPr>
        <p:blipFill>
          <a:blip r:embed="rId1"/>
          <a:stretch/>
        </p:blipFill>
        <p:spPr>
          <a:xfrm>
            <a:off x="3736800" y="3797280"/>
            <a:ext cx="15973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Es una buena opción para usted una línea de crédito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puede permitir los pagos mensuales después de terminar el periodo inicial o cuando las tasas de interés aumenten?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Se siente cómodo con un pago hipotecario mensual fluctuante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Va a invertir el capital que tiene en la vivienda en otro bien con valor a largo plaz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en cuotas no asegurados 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éstamos usados para una variedad de gastos personales sin necesidad de una garantí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lazos: 1 a 5 añ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Ventajas: aprobación rápida, tasas de interés más bajas que las tasas de las tarjeta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Inconvenientes: Tasas de interés más altas, requisitos de crédito más estrict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sobre reembols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99072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éstamos a corto plazo asegurados por el reembolso de su declaración de impuest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embolso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 - $3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heque para usted: 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$1,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Tome dinero prestado de sí mismo primer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Abra una </a:t>
            </a: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uenta de ahorro para emergenci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Guarde al menos 6 meses de gastos de vi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Considere hacer cambios pequeños y sencillos en sus hábitos y prácticas bancarias para ahorra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1" name="Picture 4" descr="Coin falling into a piggy bank"/>
          <p:cNvPicPr/>
          <p:nvPr/>
        </p:nvPicPr>
        <p:blipFill>
          <a:blip r:embed="rId1"/>
          <a:stretch/>
        </p:blipFill>
        <p:spPr>
          <a:xfrm>
            <a:off x="3581280" y="4114800"/>
            <a:ext cx="2057400" cy="175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que y compare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ecesita tomar dinero prestado, revise los costos totales de dinero y la tasa AP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: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$75 en intereses sobre un préstamo de $500 durante 2 semanas ¡se traduce a una APR del 391%! 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735480" indent="-28296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Si paga $75 por renovar o traspasar el préstamo de $500, deberá más en costos ($525) en 14 semanas que el préstamo original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345600" indent="-340920"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pciones de dinero de emergenci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ble con su institución financiera para averiguar las opciones de préstamos (por ejemplo, una línea de crédito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tablezca un fondo de ahorr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96" name="Picture 7" descr="Cash"/>
          <p:cNvPicPr/>
          <p:nvPr/>
        </p:nvPicPr>
        <p:blipFill>
          <a:blip r:embed="rId1"/>
          <a:stretch/>
        </p:blipFill>
        <p:spPr>
          <a:xfrm>
            <a:off x="6095880" y="3573360"/>
            <a:ext cx="23623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Objetivos</a:t>
            </a:r>
            <a:r>
              <a:rPr b="1" lang="en-US" sz="3600" spc="-1" strike="noStrike">
                <a:solidFill>
                  <a:srgbClr val="c1961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los préstamos a plazos cuestan menos que los servicios de alquiler con opción a compr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Explicar por qué es importante tener cuidado con los servicios de alquiler con opción a compra, los préstamos del día de pago de sueldo y los préstamos sobre reembols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gerse de las prácticas abusivas de préstamo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  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8" name="Picture 4" descr="Arrow in target bulls eye"/>
          <p:cNvPicPr/>
          <p:nvPr/>
        </p:nvPicPr>
        <p:blipFill>
          <a:blip r:embed="rId1"/>
          <a:stretch/>
        </p:blipFill>
        <p:spPr>
          <a:xfrm>
            <a:off x="8001000" y="371520"/>
            <a:ext cx="993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9907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acidad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us posibilidades presentes y futuras de cumplir con sus obligaciones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Reputación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ómo han pagado sus facturas o deudas en el pas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27960" indent="-323640">
              <a:spcBef>
                <a:spcPts val="751"/>
              </a:spcBef>
              <a:spcAft>
                <a:spcPts val="1800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ey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28600" y="13683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1560" indent="-32724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Igualdad de Oportunidad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Veracidad en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os Informes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s Prácticas de Cobro de Deud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31560" indent="-3272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ey de Equidad en la Facturación de Crédit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1" name="Picture 4" descr="Bank"/>
          <p:cNvPicPr/>
          <p:nvPr/>
        </p:nvPicPr>
        <p:blipFill>
          <a:blip r:embed="rId1"/>
          <a:stretch/>
        </p:blipFill>
        <p:spPr>
          <a:xfrm>
            <a:off x="7370640" y="380880"/>
            <a:ext cx="1621080" cy="1295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2: Qué leyes que rigen los préstamos le proteg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4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solver reclamacion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6440" y="1142640"/>
            <a:ext cx="8494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 la Federal Deposit Insurance Corporation (FDIC)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plique el problem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luya información releva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nvíe copias de documentos que puedan ayudar a explicar su problem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uarde los documentos origina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Firme y feche la cart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7" name="Picture 4" descr="Figure holding a telephone handset listening to someone talk while scratching his head questioning the information received"/>
          <p:cNvPicPr/>
          <p:nvPr/>
        </p:nvPicPr>
        <p:blipFill>
          <a:blip r:embed="rId1"/>
          <a:stretch/>
        </p:blipFill>
        <p:spPr>
          <a:xfrm>
            <a:off x="7650000" y="457200"/>
            <a:ext cx="11224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Leyes adicionales de protección para los consumidor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048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sistencia Civil para Miembros del Servicio Milit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Procedimientos de Liquidación de Bienes Raíc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Equidad en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35160" indent="-330480"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y de Arrendamiento para Consumidor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0" name="Picture 4" descr="Bank, coins, credit cards, and documents"/>
          <p:cNvPicPr/>
          <p:nvPr/>
        </p:nvPicPr>
        <p:blipFill>
          <a:blip r:embed="rId1"/>
          <a:stretch/>
        </p:blipFill>
        <p:spPr>
          <a:xfrm>
            <a:off x="6570720" y="3352680"/>
            <a:ext cx="18874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ácticas de préstamos abusiv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luyen el uso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iertas tácticas de marketing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ácticas de cobro abusiv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érminos de préstamos que engañan al consumidor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curren en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sectores de préstamos de hipotecas, de capital de la vivienda, tarjetas de crédito, automóviles y préstamos del día de pag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con tasas no preferenciale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mplican ofrecer crédito a prestatarios con un historial crediticio negativo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mayoría de los préstamos abusivos se hacen a prestatarios no preferenciales, pero no todos los préstamos no preferenciales son abusivo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2" marL="727920" indent="-28008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Tasas de interés y costos para el préstamo podrían ser más altos para compensar los costos elevados asociados a prestar dinero a estos client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s abusivos del día de pag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equeños adelantos de dinero menos los costos del prestamist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jemplo: Acepta pagar $23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ted recibe $200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stos del prestamista: $30 (una APR del 390%)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7" name="Picture 4" descr="Hand holding cash"/>
          <p:cNvPicPr/>
          <p:nvPr/>
        </p:nvPicPr>
        <p:blipFill>
          <a:blip r:embed="rId1"/>
          <a:stretch/>
        </p:blipFill>
        <p:spPr>
          <a:xfrm>
            <a:off x="76320" y="4162320"/>
            <a:ext cx="198108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ácticas abusivas de préstamos hipotecari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32080"/>
            <a:ext cx="78487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stos exces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enalidades de amortización abusiva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isiones a agentes (como "Yield Spread Premiums")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financiamiento reiterad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ductos innecesari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éstamos basados en activ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rigir y enfocar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ctividad 3: Prácticas abusivas de préstam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la situación planteada cuidadosam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3" marL="1828800" indent="-514440"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préstamos en cuotas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1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3336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5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5680" y="1041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asegurados y no asegurad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l costo de los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de automóvil y financiación de automóvil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éstamos sobre el capital de la vivienda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cuatro factores de decisiones sobre préstam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ácticas de préstamos abusiv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8" name="Picture 4" descr="Cashing being passed from one person's hand to another's"/>
          <p:cNvPicPr/>
          <p:nvPr/>
        </p:nvPicPr>
        <p:blipFill>
          <a:blip r:embed="rId1"/>
          <a:stretch/>
        </p:blipFill>
        <p:spPr>
          <a:xfrm>
            <a:off x="7315200" y="380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¿Qué es un préstamo en cuotas?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Un préstamo que se devuelve en pagos mensuales/cuotas iguales durante un periodo de tiempo específico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3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Qué artículos se pueden comprar con un préstamo en cuota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utomóvile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biliari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utadora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743040" indent="-28584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ectrodomésticos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réstamos en cuotas asegurados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Tienen tasas de interés más bajas que los préstamos no asegurados 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cesitan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jemplos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potecas y préstamos sobre el capital de la viviend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06" name="Picture 8" descr="Home and loan paperwork"/>
          <p:cNvPicPr/>
          <p:nvPr/>
        </p:nvPicPr>
        <p:blipFill>
          <a:blip r:embed="rId1"/>
          <a:stretch/>
        </p:blipFill>
        <p:spPr>
          <a:xfrm>
            <a:off x="3505320" y="3962520"/>
            <a:ext cx="18144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9200" indent="-34920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significa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garantía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 bien que es de su propiedad y promete al prestamista si no puede devolver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 no puede pagar el préstamo y la garantía no es suficiente para cubrir el saldo, usted todavía es responsable d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l saldo pendiente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  <a:p>
            <a:pPr lvl="1" marL="349200" indent="-349200"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ualquier costo e interés asociado con el préstamo</a:t>
            </a:r>
            <a:endParaRPr b="0" lang="en-US" sz="28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réstamo en cuotas no asegurado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No está asegurado por una garantía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estándares de los seguros son más difíciles para préstamos no asegurado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marL="349200" indent="-344520"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jemplos: préstamos personales y préstamos privados para estudiantes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11" name="Picture 4" descr="Computer monitor, morar board, and diploma"/>
          <p:cNvPicPr/>
          <p:nvPr/>
        </p:nvPicPr>
        <p:blipFill>
          <a:blip r:embed="rId1"/>
          <a:stretch/>
        </p:blipFill>
        <p:spPr>
          <a:xfrm>
            <a:off x="3352680" y="3909960"/>
            <a:ext cx="236232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NTI</cp:lastModifiedBy>
  <dcterms:modified xsi:type="dcterms:W3CDTF">2011-03-09T20:32:34Z</dcterms:modified>
  <cp:revision>491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D9D08CBBCD77941A885A384DB484D68</vt:lpwstr>
  </property>
</Properties>
</file>