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6.wmf" ContentType="image/x-wmf"/>
  <Override PartName="/ppt/media/image7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28.wmf" ContentType="image/x-wmf"/>
  <Override PartName="/ppt/media/image3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31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5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CCC-34C1-4830-8441-78ED68BB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476-7B18-4071-B3DB-59F66781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FC6-AACD-47AF-A3B0-6ED93166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582-12AC-460F-9847-61024486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7D5-E5E8-49DF-B1E2-E9C8D1D7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FA8-9791-4013-83E1-B75F7B55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950-82A0-4736-9963-0CD5F0F9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0EE-4D4B-4DCC-97FE-C1540270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C50-6ABA-4E1E-A06F-FD92A069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22C-F111-493F-9D9C-14F39A1D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6A9-3A5C-47D1-9E06-2A6B17A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5BE-7E74-4A0D-975E-C68E8FF4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E37B-39EF-40AB-A012-66C069EC1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</a:t>
            </a:r>
            <a:r>
              <a:rPr b="1" lang="es-E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éstamos Pers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30A-1E2C-44E5-8219-CE5D168B902E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0" y="838080"/>
            <a:ext cx="67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2280" y="2027160"/>
            <a:ext cx="5943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ersonale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l monto de dólares que costará el préstamo, incluido: intereses, cargos de servicio y costos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3d"/>
                </a:solidFill>
                <a:latin typeface="Helvetica Neue"/>
              </a:rPr>
              <a:t>Respuesta: Cargos de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con tasa de interés que podría cambiar en cualquier momen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3993d"/>
                </a:solidFill>
                <a:latin typeface="Helvetica Neue"/>
              </a:rPr>
              <a:t>Respuesta: Préstamo con tasa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costo de tomar dinero prestado calculado por añ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 con tasa de interés igual a lo largo de la duración d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Helvetica Neue"/>
              </a:rPr>
              <a:t>Respuesta: Préstamo con tasa fij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stefanía pide un préstamo para un auto con una tasa de interés del 10% y paga $100 en costos de solicitud del préstamo. ¿Qué término relacionado a los préstamos refleja el interés más el costo de la solicitu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Folded Corner 4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Arial"/>
              </a:rPr>
              <a:t>Miguel pide un préstamo para comprar una computadora. ¿Qué termino relacionado a los préstamos describe mejor este tipo de préstamo</a:t>
            </a: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Arial"/>
              </a:rPr>
              <a:t>Respuesta: Préstamo con tasa fija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160" y="2361960"/>
            <a:ext cx="83818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Kevin pide un préstamo para un automóvil. Debe pagar $3,000 en intereses, cargos de servicio y costos de la aplicación. ¿Qué términos relacionados a los préstamos describen estos costo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Préstamo con tasa variable, cargos de financiació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Por qué prefieren los prestamistas dar préstamos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onto de cada pago mensual y periodo de amortización clar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asas más bajas que las tarjetas de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ldos del préstamo más bajos durante el plazo del préstamo porque el pago incluye el capit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rar o arrend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uáles son algunas preguntas que debería hacerse cuando busca un aut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comprarme un auto nuevo o usad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Debería comprar o arrend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Cuánto puedo pag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intentar canjearlo por mi auto viej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11" descr="Blue car"/>
          <p:cNvPicPr/>
          <p:nvPr/>
        </p:nvPicPr>
        <p:blipFill>
          <a:blip r:embed="rId1"/>
          <a:stretch/>
        </p:blipFill>
        <p:spPr>
          <a:xfrm>
            <a:off x="662940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para autos versus arrendamiento de aut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nga en cuenta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potencial de ser propiet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desgaste por u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pagos mensu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 de kilometraj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eguro del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62485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auto es la garantía para 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escritura indica quién es el propietario del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do esté pensando en un préstamo de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pa el costo y cuánto debe tomar prestad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sque la mejor ofert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ónde obtener préstamos de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cos/entidades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operativas de crédito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añías financiera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cesion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2057400"/>
            <a:ext cx="26672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Arial"/>
              </a:rPr>
              <a:t>Cuando los prestamistas ofrecen 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mejor oferta puede requeri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ucho dinero de entrad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plazo corto para el préstamo (3 años o meno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istorial crediticio excelent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de particip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4" descr="Dollar sign"/>
          <p:cNvPicPr/>
          <p:nvPr/>
        </p:nvPicPr>
        <p:blipFill>
          <a:blip r:embed="rId1"/>
          <a:stretch/>
        </p:blipFill>
        <p:spPr>
          <a:xfrm>
            <a:off x="7315200" y="3124080"/>
            <a:ext cx="15001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recio de una financiación con tasa baj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s ventajas de pagar con dinero/usar su propia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ago de entrada requerid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límites en la duración del préstam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gos de saldo al vencimien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, si se deben al final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mociones espe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lor de canje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s en ofertas especi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ignificado del recibo del concesion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7" descr="Car salesman "/>
          <p:cNvPicPr/>
          <p:nvPr/>
        </p:nvPicPr>
        <p:blipFill>
          <a:blip r:embed="rId1"/>
          <a:stretch/>
        </p:blipFill>
        <p:spPr>
          <a:xfrm>
            <a:off x="6781680" y="1447920"/>
            <a:ext cx="168444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tratos de servicio para vehícul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 promesa de realizar (o de pagar) ciertas reparaciones o servici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ga preguntas antes de comprar contratos de servicio de vehícul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Vehículo usado: Protección con garantía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Busque la pegatina en el auto que ponga Buyer's Guide (Guía del Comprador) para averiguar si el vehículo se ven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garantías implíci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 como está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6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57796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ehículos de combustible alternativ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tes de comprar o arrendar, piense e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tipo de combustible y la disponibilida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costos operativo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ndimiento/convenienci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guridad/energía renovabl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ion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Actividad 1: Cuidado con relaciones entre concesionarios y prestamist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de cerca la situación planteada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criba algunas cosas que Sam podría haber hecho de manera diferente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6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rganizar un préstamo de automóvi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Arial"/>
              </a:rPr>
              <a:t>Pague lo más que pueda de entra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en cuenta el costo total del préstam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$15,000 al 4% de interés durante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l m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total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cuidado con los préstamos de auto que duren 5 años o má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enga cuidado con los préstamos que usan la escritura  del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44792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e arriesga a perder su auto si no puede pagar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n ser préstamos costoso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es: préstamo de $500 + $100 en intereses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año: préstamo de $500 + $1,200 en intereses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la vivienda menos la deu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préstamo sobre el capital de la viviend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permite tomar dinero prestado contra el valor de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Rounded Rectangle 4"/>
          <p:cNvSpPr/>
          <p:nvPr/>
        </p:nvSpPr>
        <p:spPr>
          <a:xfrm>
            <a:off x="1600200" y="1828800"/>
            <a:ext cx="594360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de la vivienda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nos la deuda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01916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tipos de préstamos en cuo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os factores que usan los prestamistas para tomar decisiones sobre préstamos de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cómo las leyes federales les protegen cuando solicitan un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as preguntas que se deben hacer cuando se compra un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5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funcionan los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lación préstamo-valor del 80%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(valor de la viviend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180,000 (hipotec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,000 (valor del préstamo sobre el capital de la vivienda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2" name="Picture 2" descr="Person in suit holding a small model of a home"/>
          <p:cNvPicPr/>
          <p:nvPr/>
        </p:nvPicPr>
        <p:blipFill>
          <a:blip r:embed="rId1"/>
          <a:stretch/>
        </p:blipFill>
        <p:spPr>
          <a:xfrm>
            <a:off x="7162920" y="1523880"/>
            <a:ext cx="182880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Straight Connector 5"/>
          <p:cNvSpPr/>
          <p:nvPr/>
        </p:nvSpPr>
        <p:spPr>
          <a:xfrm>
            <a:off x="838080" y="441972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ipos de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44792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 préstamo único con una suma específic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Se suele ofrecer a una tasa de interés fij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ínea de crédito sobre el capital de una vivienda (HELOC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a línea de crédito que funciona como una tarjeta de crédito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as tasas de interés suelen ser variable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545240" y="213372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ar dinero prestado contra su cas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Cuáles s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ventajas de obtener un 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más baj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es desgravab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riesgo tiene tomar dinero prestado contra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der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er más dinero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el que vale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467480" y="2133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erecho de rescindir/derecho de cancel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 3 días para reconsiderar un acuerdo de préstamo sobre el capital de una vivienda que ha firmado y cancelar el préstamo sin penalidades cuando utiliza su hogar como 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2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79728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Es una buena opción para usted una línea de crédito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puede permitir los pagos mensuales después de terminar el periodo inicial o cuando las tasas de interés aumenten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siente cómodo con un pago hipotecario mensual fluctuant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Va a invertir el capital que tiene en la vivienda en otro bien con valor a largo plaz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en cuotas no asegurados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éstamos usados para una variedad de gastos personales sin necesidad de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zos: 1 a 5 añ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ntajas: aprobación rápida, tasas de interés más bajas que las tasas de las tarjeta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convenientes: Tasas de interés más altas, requisitos de crédito más estrict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sobre reembols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s a corto plazo asegurados por el reembolso de su declaración de impuest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embolso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que para uste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e dinero prestado de sí mismo primer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bra una </a:t>
            </a: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uenta de ahorro para emergenci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Guarde al menos 6 meses de gastos de vi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onsidere hacer cambios pequeños y sencillos en sus hábitos y prácticas bancarias para ahorr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1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que y compar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ecesita tomar dinero prestado, revise los costos totales de dinero y la tasa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$75 en intereses sobre un préstamo de $500 durante 2 semanas ¡se traduce a una APR del 391%!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Si paga $75 por renovar o traspasar el préstamo de $500, deberá más en costos ($525) en 14 semanas que el préstamo original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pciones de dinero de emergenci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ble con su institución financiera para averiguar las opciones de préstamos (por ejemplo, una línea de crédito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ezca un fondo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6" name="Picture 7" descr="Cash"/>
          <p:cNvPicPr/>
          <p:nvPr/>
        </p:nvPicPr>
        <p:blipFill>
          <a:blip r:embed="rId1"/>
          <a:stretch/>
        </p:blipFill>
        <p:spPr>
          <a:xfrm>
            <a:off x="6095880" y="3573360"/>
            <a:ext cx="23623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los préstamos a plazos cuestan menos que los servicios de alquiler con opción a compr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es importante tener cuidado con los servicios de alquiler con opción a compra, los préstamos del día de pago de sueldo y los préstamos sobre reembo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gerse de las prácticas abusivas de préstam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8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dad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us posibilidades presentes y futuras de cumplir con sus obligaciones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Reput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ómo han pagado sus facturas o deudas en el pas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ey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3683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Igualdad de Oportunidad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Veracidad en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os Inform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s Prácticas de Cobro de Deud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 Facturación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Bank"/>
          <p:cNvPicPr/>
          <p:nvPr/>
        </p:nvPicPr>
        <p:blipFill>
          <a:blip r:embed="rId1"/>
          <a:stretch/>
        </p:blipFill>
        <p:spPr>
          <a:xfrm>
            <a:off x="7370640" y="380880"/>
            <a:ext cx="1621080" cy="1295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Qué leyes que rigen los préstamos le prote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er reclamacion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6440" y="1142640"/>
            <a:ext cx="8494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 la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plique el problem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ya información releva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nvíe copias de documentos que puedan ayudar a explicar su problem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uarde los documentos origin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irme y feche la cart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es adicional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sistencia Civil para Miembros del Servicio Milit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Procedimientos de Liquidación de Bienes Raí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Equidad en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rrendamiento para Consumidor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0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570720" y="33526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yen el uso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iertas tácticas de market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ácticas de cobro abusiv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érminos de préstamos que engañan al consumido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urren e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sectores de préstamos de hipotecas, de capital de la vivienda, tarjetas de crédito, automóviles y préstamos del día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con tasas no preferen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mplican ofrecer crédito a prestatarios con un historial crediticio negativo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mayoría de los préstamos abusivos se hacen a prestatarios no preferenciales, pero no todos los préstamos no preferenciales son abusiv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y costos para el préstamo podrían ser más altos para compensar los costos elevados asociados a prestar dinero a estos client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abusivos del día de pag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equeños adelantos de dinero menos los costos del prestamista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Acepta pagar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ted recib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 del prestamista: $30 (una APR del 390%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7" name="Picture 4" descr="Hand holding cash"/>
          <p:cNvPicPr/>
          <p:nvPr/>
        </p:nvPicPr>
        <p:blipFill>
          <a:blip r:embed="rId1"/>
          <a:stretch/>
        </p:blipFill>
        <p:spPr>
          <a:xfrm>
            <a:off x="76320" y="4162320"/>
            <a:ext cx="1981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ácticas abusivas de préstamos hipotecari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320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os exces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alidades de amortización abusiv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isiones a agentes (como "Yield Spread Premiums"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financiamiento reiter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ductos inneces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éstamos basados en act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rigir y enfo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3: Prácticas abusivas de préstam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préstamos en cuota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5680" y="10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asegurados y no asegurad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costo de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de automóvil y financiación de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sobre el capital de la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cuatro factores de decisiones sobre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ácticas de préstamos abusiv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8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un préstamo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n préstamo que se devuelve en pagos mensuales/cuotas iguales durante un periodo de tiempo específic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artículos se pueden comprar con un préstamo en cuot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móvi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bili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ador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ectrodoméstic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en cuotas asegura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n tasas de interés más bajas que los préstamos no asegurado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cesitan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s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potecas y préstamos sobre el capital de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6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significa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 bien que es de su propiedad y promete al prestamista si no puede devolver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 no puede pagar el préstamo y la garantía no es suficiente para cubrir el saldo, usted todavía es responsable 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aldo pendie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alquier costo e interés asociado con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 en cuotas no asegurad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No está asegurado por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estándares de los seguros son más difíciles para préstamos no asegurad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jemplos: préstamos personales y préstamos privados para estudian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11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32:34Z</dcterms:modified>
  <cp:revision>491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