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.jpeg" ContentType="image/jpeg"/>
  <Override PartName="/ppt/media/image6.wmf" ContentType="image/x-wmf"/>
  <Override PartName="/ppt/media/image7.wmf" ContentType="image/x-wmf"/>
  <Override PartName="/ppt/media/image29.jpeg" ContentType="image/jpeg"/>
  <Override PartName="/ppt/media/image8.jpeg" ContentType="image/jpeg"/>
  <Override PartName="/ppt/media/image10.jpeg" ContentType="image/jpeg"/>
  <Override PartName="/ppt/media/image13.wmf" ContentType="image/x-wmf"/>
  <Override PartName="/ppt/media/image28.wmf" ContentType="image/x-wmf"/>
  <Override PartName="/ppt/media/image3.jpeg" ContentType="image/jpeg"/>
  <Override PartName="/ppt/media/image30.png" ContentType="image/png"/>
  <Override PartName="/ppt/media/image12.jpeg" ContentType="image/jpeg"/>
  <Override PartName="/ppt/media/image4.png" ContentType="image/png"/>
  <Override PartName="/ppt/media/image11.wmf" ContentType="image/x-wmf"/>
  <Override PartName="/ppt/media/image5.jpeg" ContentType="image/jpeg"/>
  <Override PartName="/ppt/media/image9.png" ContentType="image/png"/>
  <Override PartName="/ppt/media/image31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16.jpeg" ContentType="image/jpeg"/>
  <Override PartName="/ppt/media/image17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3.wmf" ContentType="image/x-wmf"/>
  <Override PartName="/ppt/media/image25.jpeg" ContentType="image/jpeg"/>
  <Override PartName="/ppt/media/image26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BCA0-8F50-433A-910C-85252BE33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180E-4AD4-4934-AA48-04735B28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6DAC-2EF9-41D4-B18A-E8FD4BEF0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224B-36EA-4659-A8F4-B39E94A31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310D-BD39-41AF-8209-CFF4B0D2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145D-0E07-4825-8BDD-B3EAF218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3909-AEEB-423B-B198-A2C3C74E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33FD-AE1C-4C5A-A3BE-C400A374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CADF-C397-453B-9C50-6684652C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3917-C433-46FD-8168-A803E5D8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B8DF-6BAC-4496-BA81-9C320AB1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9A15-E004-4C36-8129-034022C5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C248-E6DA-4E9B-A9F6-094EE650B9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Pr</a:t>
            </a:r>
            <a:r>
              <a:rPr b="1" lang="es-E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éstamos Person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A4CD-860E-4400-98EB-C9429E6D4065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Loan To Own title slide with FDIC Money Smart logo and module logo including images of a car, boat, computer, diploma, and mortar boar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0" y="838080"/>
            <a:ext cx="6781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éstamos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152280" y="2027160"/>
            <a:ext cx="59436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ersonales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El costo de préstamos en cuota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160" y="2179800"/>
            <a:ext cx="84582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El monto de dólares que costará el préstamo, incluido: intereses, cargos de servicio y costos del préstam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914400" indent="-406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993d"/>
                </a:solidFill>
                <a:latin typeface="Helvetica Neue"/>
              </a:rPr>
              <a:t>Respuesta: Cargos de financiació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réstamo con tasa de interés que podría cambiar en cualquier moment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914400" indent="-406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3993d"/>
                </a:solidFill>
                <a:latin typeface="Helvetica Neue"/>
              </a:rPr>
              <a:t>Respuesta: Préstamo con tasa variabl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Folded Corner 5"/>
          <p:cNvSpPr/>
          <p:nvPr/>
        </p:nvSpPr>
        <p:spPr>
          <a:xfrm>
            <a:off x="457200" y="1066680"/>
            <a:ext cx="815328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           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Préstamo con tasa f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Cargos de financiación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Préstamo con tasa vari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El costo de préstamos en cuota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160" y="2179800"/>
            <a:ext cx="84582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l costo de tomar dinero prestado calculado por añ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914400" indent="-40644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Respuesta: AP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Préstamo con tasa de interés igual a lo largo de la duración del préstam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914400" indent="-40644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3993d"/>
                </a:solidFill>
                <a:latin typeface="Helvetica Neue"/>
              </a:rPr>
              <a:t>Respuesta: Préstamo con tasa fij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Folded Corner 5"/>
          <p:cNvSpPr/>
          <p:nvPr/>
        </p:nvSpPr>
        <p:spPr>
          <a:xfrm>
            <a:off x="457200" y="1066680"/>
            <a:ext cx="815328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           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Préstamo con tasa f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Cargos de financiación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Préstamo con tasa vari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ique el términ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33520" y="23619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Estefanía pide un préstamo para un auto con una tasa de interés del 10% y paga $100 en costos de solicitud del préstamo. ¿Qué término relacionado a los préstamos refleja el interés más el costo de la solicitud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907920" indent="-450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Respuesta: APR</a:t>
            </a:r>
            <a:r>
              <a:rPr b="0" lang="en-US" sz="30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Folded Corner 4"/>
          <p:cNvSpPr/>
          <p:nvPr/>
        </p:nvSpPr>
        <p:spPr>
          <a:xfrm>
            <a:off x="457200" y="1066680"/>
            <a:ext cx="815328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           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Préstamo con tasa f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Cargos de financiación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Préstamo con tasa vari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ique el términ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2362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Arial"/>
              </a:rPr>
              <a:t>Miguel pide un préstamo para comprar una computadora. ¿Qué termino relacionado a los préstamos describe mejor este tipo de préstamo</a:t>
            </a:r>
            <a:r>
              <a:rPr b="1" lang="en-US" sz="2800" spc="-1" strike="noStrike">
                <a:solidFill>
                  <a:srgbClr val="132f5a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907920" indent="-4507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3993d"/>
                </a:solidFill>
                <a:latin typeface="Arial"/>
              </a:rPr>
              <a:t>Respuesta: Préstamo con tasa fija</a:t>
            </a:r>
            <a:r>
              <a:rPr b="0" lang="en-US" sz="2600" spc="-1" strike="noStrike">
                <a:solidFill>
                  <a:srgbClr val="132f5a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Folded Corner 4"/>
          <p:cNvSpPr/>
          <p:nvPr/>
        </p:nvSpPr>
        <p:spPr>
          <a:xfrm>
            <a:off x="685800" y="1066680"/>
            <a:ext cx="777240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xed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nance Charges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Variable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lded Corner 5"/>
          <p:cNvSpPr/>
          <p:nvPr/>
        </p:nvSpPr>
        <p:spPr>
          <a:xfrm>
            <a:off x="457200" y="1066680"/>
            <a:ext cx="815328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           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Préstamo con tasa f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Cargos de financiación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Préstamo con tasa vari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ique el términ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160" y="2361960"/>
            <a:ext cx="83818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Kevin pide un préstamo para un automóvil. Debe pagar $3,000 en intereses, cargos de servicio y costos de la aplicación. ¿Qué términos relacionados a los préstamos describen estos costos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907920" indent="-450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Respuesta: Préstamo con tasa variable, cargos de financiació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Folded Corner 5"/>
          <p:cNvSpPr/>
          <p:nvPr/>
        </p:nvSpPr>
        <p:spPr>
          <a:xfrm>
            <a:off x="457200" y="1066680"/>
            <a:ext cx="815328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           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Préstamo con tasa f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Cargos de financiación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Préstamo con tasa vari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¿Por qué prefieren los prestamistas dar préstamos en cuotas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Monto de cada pago mensual y periodo de amortización clar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Tasas más bajas que las tarjetas de crédit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aldos del préstamo más bajos durante el plazo del préstamo porque el pago incluye el capital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mprar o arrendar un aut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5160" indent="-3304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¿Cuáles son algunas preguntas que debería hacerse cuando busca un auto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13160" indent="-2743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¿Debería comprarme un auto nuevo o usado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13160" indent="-2743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¿Debería comprar o arrendar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13160" indent="-2743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¿Cuánto puedo pagar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13160" indent="-2743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¿Debería intentar canjearlo por mi auto viejo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32" name="Picture 11" descr="Blue car"/>
          <p:cNvPicPr/>
          <p:nvPr/>
        </p:nvPicPr>
        <p:blipFill>
          <a:blip r:embed="rId1"/>
          <a:stretch/>
        </p:blipFill>
        <p:spPr>
          <a:xfrm>
            <a:off x="6629400" y="2743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éstamos para autos versus arrendamiento de aut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nga en cuenta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l potencial de ser propietari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 desgaste por u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os pagos mensual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ímite de kilometraj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 seguro del automóvi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st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35" name="Picture 2" descr="Couple looking at a sticker on a car in car sales lot"/>
          <p:cNvPicPr/>
          <p:nvPr/>
        </p:nvPicPr>
        <p:blipFill>
          <a:blip r:embed="rId1"/>
          <a:stretch/>
        </p:blipFill>
        <p:spPr>
          <a:xfrm>
            <a:off x="6248520" y="1601640"/>
            <a:ext cx="2133360" cy="3198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Financiar un aut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364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l auto es la garantía para el préstam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a escritura indica quién es el propietario del aut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Cuando esté pensando en un préstamo de aut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698400" indent="-26856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epa el costo y cuánto debe tomar prestad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698400" indent="-26856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usque la mejor ofert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38" name="Picture 4" descr="Car and loan paperwork"/>
          <p:cNvPicPr/>
          <p:nvPr/>
        </p:nvPicPr>
        <p:blipFill>
          <a:blip r:embed="rId1"/>
          <a:stretch/>
        </p:blipFill>
        <p:spPr>
          <a:xfrm>
            <a:off x="7318440" y="304920"/>
            <a:ext cx="18255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Dónde obtener préstamos de aut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838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ancos/entidades de ahorr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operativas de crédito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añías financieras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cesionari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41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5410080" y="2057400"/>
            <a:ext cx="266724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191120" y="2057400"/>
            <a:ext cx="44956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rmas básica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2" name="Picture 1" descr="Handshake"/>
          <p:cNvPicPr/>
          <p:nvPr/>
        </p:nvPicPr>
        <p:blipFill>
          <a:blip r:embed="rId1"/>
          <a:stretch/>
        </p:blipFill>
        <p:spPr>
          <a:xfrm>
            <a:off x="3049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Arial"/>
              </a:rPr>
              <a:t>Cuando los prestamistas ofrecen tasas de interés baja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a mejor oferta puede requerir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ucho dinero de entrada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Un plazo corto para el préstamo (3 años o menos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istorial crediticio excelente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sto de participació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44" name="Picture 4" descr="Dollar sign"/>
          <p:cNvPicPr/>
          <p:nvPr/>
        </p:nvPicPr>
        <p:blipFill>
          <a:blip r:embed="rId1"/>
          <a:stretch/>
        </p:blipFill>
        <p:spPr>
          <a:xfrm>
            <a:off x="7315200" y="3124080"/>
            <a:ext cx="150012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Tasas de interés baja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gunte por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 precio de una financiación con tasa baj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as ventajas de pagar con dinero/usar su propia financiació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 pago de entrada requerido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os límites en la duración del préstamo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agos de saldo al vencimient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, si se deben al final del préstam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47" name="Picture 6" descr="Question mark"/>
          <p:cNvPicPr/>
          <p:nvPr/>
        </p:nvPicPr>
        <p:blipFill>
          <a:blip r:embed="rId1"/>
          <a:stretch/>
        </p:blipFill>
        <p:spPr>
          <a:xfrm>
            <a:off x="7323120" y="457200"/>
            <a:ext cx="1515960" cy="1219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omociones especial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gunte por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Valor de canjeo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ímites en ofertas especial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 significado del recibo del concesionari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0" name="Picture 7" descr="Car salesman "/>
          <p:cNvPicPr/>
          <p:nvPr/>
        </p:nvPicPr>
        <p:blipFill>
          <a:blip r:embed="rId1"/>
          <a:stretch/>
        </p:blipFill>
        <p:spPr>
          <a:xfrm>
            <a:off x="6781680" y="1447920"/>
            <a:ext cx="1684440" cy="1827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tratos de servicio para vehícul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lnSpc>
                <a:spcPct val="9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na promesa de realizar (o de pagar) ciertas reparaciones o servicios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lnSpc>
                <a:spcPct val="9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aga preguntas antes de comprar contratos de servicio de vehículos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3" name="Picture 9" descr="Car salesman helping a couple purchase a car"/>
          <p:cNvPicPr/>
          <p:nvPr/>
        </p:nvPicPr>
        <p:blipFill>
          <a:blip r:embed="rId1"/>
          <a:stretch/>
        </p:blipFill>
        <p:spPr>
          <a:xfrm>
            <a:off x="3581280" y="3048120"/>
            <a:ext cx="2132280" cy="2133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</a:rPr>
              <a:t>Vehículo usado: Protección con garantía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Busque la pegatina en el auto que ponga Buyer's Guide (Guía del Comprador) para averiguar si el vehículo se vend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n una garantí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n garantías implícit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al como está”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6" name="Picture 1" descr="Buyer's Guide sticker with As Is-No Warranty or Warranty options"/>
          <p:cNvPicPr/>
          <p:nvPr/>
        </p:nvPicPr>
        <p:blipFill>
          <a:blip r:embed="rId1"/>
          <a:stretch/>
        </p:blipFill>
        <p:spPr>
          <a:xfrm>
            <a:off x="5562720" y="2577960"/>
            <a:ext cx="32004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Hybrid car with cord to charge it"/>
          <p:cNvPicPr/>
          <p:nvPr/>
        </p:nvPicPr>
        <p:blipFill>
          <a:blip r:embed="rId1"/>
          <a:stretch/>
        </p:blipFill>
        <p:spPr>
          <a:xfrm>
            <a:off x="0" y="4513320"/>
            <a:ext cx="2438280" cy="16254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3818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Vehículos de combustible alternativ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2189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ntes de comprar o arrendar, piense en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l tipo de combustible y la disponibilidad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os costos operativos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ndimiento/conveniencia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eguridad/energía renovable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mision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</a:rPr>
              <a:t>Actividad 1: Cuidado con relaciones entre concesionarios y prestamistas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99072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408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alice la Actividad 1 en la Guía para los Participa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3" marL="1773720" indent="-49896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ea de cerca la situación planteada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773720" indent="-49896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scriba algunas cosas que Sam podría haber hecho de manera diferente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773720" indent="-49896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té preparado para explicar sus respuesta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62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rganizar un préstamo de automóvi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063800"/>
            <a:ext cx="8686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4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Arial"/>
              </a:rPr>
              <a:t>Pague lo más que pueda de entrad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Tenga en cuenta el costo total del préstam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: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jemplo: $15,000 al 4% de interés durante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36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 meses =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$443 </a:t>
            </a:r>
            <a:r>
              <a:rPr b="0" lang="en-US" sz="2800" spc="-1" strike="noStrike">
                <a:solidFill>
                  <a:srgbClr val="252e4e"/>
                </a:solidFill>
                <a:latin typeface="Helvetica Neue"/>
              </a:rPr>
              <a:t>versus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48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 meses =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$339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l m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sto total: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$15,948 versus $16,272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Tenga cuidado con los préstamos de auto que duren 5 años o má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Tenga cuidado con los préstamos que usan la escritura  del aut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1447920"/>
            <a:ext cx="85345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5600" indent="-34092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e arriesga a perder su auto si no puede pagar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5600" indent="-34092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ueden ser préstamos costoso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5600" indent="-3409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132f5a"/>
                </a:solidFill>
                <a:latin typeface="Arial"/>
              </a:rPr>
              <a:t>er</a:t>
            </a:r>
            <a:r>
              <a:rPr b="0" lang="en-US" sz="2800" spc="-1" strike="noStrike">
                <a:solidFill>
                  <a:srgbClr val="132f5a"/>
                </a:solidFill>
                <a:latin typeface="Arial"/>
              </a:rPr>
              <a:t> mes: préstamo de $500 + $100 en intereses ($500 x 20%) = $6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</a:rPr>
              <a:t>1 año: préstamo de $500 + $1,200 en intereses ($110 x 12) = 240% AP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5600" indent="-3409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5600" indent="-3409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apita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990720"/>
            <a:ext cx="8001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l valor de la vivienda menos la deud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n </a:t>
            </a:r>
            <a:r>
              <a:rPr b="1" i="1" lang="en-US" sz="3000" spc="-1" strike="noStrike">
                <a:solidFill>
                  <a:srgbClr val="b08830"/>
                </a:solidFill>
                <a:latin typeface="Helvetica Neue"/>
              </a:rPr>
              <a:t>préstamo sobre el capital de la vivienda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 permite tomar dinero prestado contra el valor de su cas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Rounded Rectangle 4"/>
          <p:cNvSpPr/>
          <p:nvPr/>
        </p:nvSpPr>
        <p:spPr>
          <a:xfrm>
            <a:off x="1600200" y="1828800"/>
            <a:ext cx="5943600" cy="1676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 de la vivienda $25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nos la deuda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- 180,00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$ 7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tivos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3520" y="101916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Identificar tipos de préstamos en cuot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Identificar los factores que usan los prestamistas para tomar decisiones sobre préstamos de viviend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Identificar cómo las leyes federales les protegen cuando solicitan un préstam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Identificar las preguntas que se deben hacer cuando se compra un automóvi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5" name="Picture 4" descr="Arrow in target bulls eye"/>
          <p:cNvPicPr/>
          <p:nvPr/>
        </p:nvPicPr>
        <p:blipFill>
          <a:blip r:embed="rId1"/>
          <a:stretch/>
        </p:blipFill>
        <p:spPr>
          <a:xfrm>
            <a:off x="8001000" y="371520"/>
            <a:ext cx="993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ómo funcionan los préstamos sobre el capital de la vivienda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lación préstamo-valor del 80%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$250,000 x 80% = $200,000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$250,000 (valor de la vivienda)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$180,000 (hipoteca)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$20,000 (valor del préstamo sobre el capital de la vivienda)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72" name="Picture 2" descr="Person in suit holding a small model of a home"/>
          <p:cNvPicPr/>
          <p:nvPr/>
        </p:nvPicPr>
        <p:blipFill>
          <a:blip r:embed="rId1"/>
          <a:stretch/>
        </p:blipFill>
        <p:spPr>
          <a:xfrm>
            <a:off x="7162920" y="1523880"/>
            <a:ext cx="1828800" cy="261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73" name="Straight Connector 5"/>
          <p:cNvSpPr/>
          <p:nvPr/>
        </p:nvSpPr>
        <p:spPr>
          <a:xfrm>
            <a:off x="838080" y="4419720"/>
            <a:ext cx="647712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Tipos de préstamos sobre el capital de la vivienda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560" y="1447920"/>
            <a:ext cx="838188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réstamo sobre el capital de una viviend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Un préstamo único con una suma específica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Se suele ofrecer a una tasa de interés fija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ínea de crédito sobre el capital de una vivienda (HELOC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Una línea de crédito que funciona como una tarjeta de crédito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Las tasas de interés suelen ser variables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76" name="Picture 6" descr="Circle graphic with house icon"/>
          <p:cNvPicPr/>
          <p:nvPr/>
        </p:nvPicPr>
        <p:blipFill>
          <a:blip r:embed="rId1"/>
          <a:stretch/>
        </p:blipFill>
        <p:spPr>
          <a:xfrm>
            <a:off x="7545240" y="2133720"/>
            <a:ext cx="159876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4582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Tomar dinero prestado contra su casa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11430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Cuáles son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as ventajas de obtener un préstamo sobre el capital de una viviend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asas de interés más baj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tereses desgravabl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¿Qué riesgo tiene tomar dinero prestado contra su cas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erder su cas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eber más dinero </a:t>
            </a: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del que vale su cas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79" name="Picture 5" descr="Icon with a figure and roofline overhead"/>
          <p:cNvPicPr/>
          <p:nvPr/>
        </p:nvPicPr>
        <p:blipFill>
          <a:blip r:embed="rId1"/>
          <a:stretch/>
        </p:blipFill>
        <p:spPr>
          <a:xfrm>
            <a:off x="7467480" y="21337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Derecho de rescindir/derecho de cancela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Tiene 3 días para reconsiderar un acuerdo de préstamo sobre el capital de una vivienda que ha firmado y cancelar el préstamo sin penalidades cuando utiliza su hogar como garantí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82" name="Picture 5" descr="Person in thought with hand on chin"/>
          <p:cNvPicPr/>
          <p:nvPr/>
        </p:nvPicPr>
        <p:blipFill>
          <a:blip r:embed="rId1"/>
          <a:stretch/>
        </p:blipFill>
        <p:spPr>
          <a:xfrm>
            <a:off x="3736800" y="3797280"/>
            <a:ext cx="15973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¿Es una buena opción para usted una línea de crédito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Se puede permitir los pagos mensuales después de terminar el periodo inicial o cuando las tasas de interés aumenten?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Se siente cómodo con un pago hipotecario mensual fluctuante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¿Va a invertir el capital que tiene en la vivienda en otro bien con valor a largo plaz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réstamos en cuotas no asegurados 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9907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5160" indent="-33048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éstamos usados para una variedad de gastos personales sin necesidad de una garantí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lazos: 1 a 5 añ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Ventajas: aprobación rápida, tasas de interés más bajas que las tasas de las tarjetas de crédit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nconvenientes: Tasas de interés más altas, requisitos de crédito más estrict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éstamos sobre reembols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99072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Préstamos a corto plazo asegurados por el reembolso de su declaración de impuest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jemplo: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embolso: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stos: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 u="sng">
                <a:solidFill>
                  <a:srgbClr val="132f5a"/>
                </a:solidFill>
                <a:uFillTx/>
                <a:latin typeface="Helvetica Neue"/>
              </a:rPr>
              <a:t> - $3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heque para usted: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$1,2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Tome dinero prestado de sí mismo primer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bra una </a:t>
            </a: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cuenta de ahorro para emergenci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Guarde al menos 6 meses de gastos de vid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Considere hacer cambios pequeños y sencillos en sus hábitos y prácticas bancarias para ahorra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91" name="Picture 4" descr="Coin falling into a piggy bank"/>
          <p:cNvPicPr/>
          <p:nvPr/>
        </p:nvPicPr>
        <p:blipFill>
          <a:blip r:embed="rId1"/>
          <a:stretch/>
        </p:blipFill>
        <p:spPr>
          <a:xfrm>
            <a:off x="3581280" y="4114800"/>
            <a:ext cx="2057400" cy="1757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usque y compar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5600" indent="-3409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 necesita tomar dinero prestado, revise los costos totales de dinero y la tasa AP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5600" indent="-3409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jemplo: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35480" indent="-282960"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$75 en intereses sobre un préstamo de $500 durante 2 semanas ¡se traduce a una APR del 391%!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35480" indent="-282960"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Si paga $75 por renovar o traspasar el préstamo de $500, deberá más en costos ($525) en 14 semanas que el préstamo original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45600" indent="-340920"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Opciones de dinero de emergencia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able con su institución financiera para averiguar las opciones de préstamos (por ejemplo, una línea de crédito)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tablezca un fondo de ahorr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96" name="Picture 7" descr="Cash"/>
          <p:cNvPicPr/>
          <p:nvPr/>
        </p:nvPicPr>
        <p:blipFill>
          <a:blip r:embed="rId1"/>
          <a:stretch/>
        </p:blipFill>
        <p:spPr>
          <a:xfrm>
            <a:off x="6095880" y="3573360"/>
            <a:ext cx="236232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Objetivos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520" y="11430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Explicar por qué los préstamos a plazos cuestan menos que los servicios de alquiler con opción a compr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Explicar por qué es importante tener cuidado con los servicios de alquiler con opción a compra, los préstamos del día de pago de sueldo y los préstamos sobre reembol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rotegerse de las prácticas abusivas de préstamos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  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8" name="Picture 4" descr="Arrow in target bulls eye"/>
          <p:cNvPicPr/>
          <p:nvPr/>
        </p:nvPicPr>
        <p:blipFill>
          <a:blip r:embed="rId1"/>
          <a:stretch/>
        </p:blipFill>
        <p:spPr>
          <a:xfrm>
            <a:off x="8001000" y="371520"/>
            <a:ext cx="993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Los cuatro factor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9907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apacidad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sus posibilidades presentes y futuras de cumplir con sus obligaciones de pag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apital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l valor de sus bienes y capital net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Reputación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cómo han pagado sus facturas o deudas en el pasad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Garantía: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propiedad o bienes ofrecidos para garantizar el crédit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Leyes de protección para los consumidor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28600" y="13683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1560" indent="-32724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ey de Igualdad de Oportunidades de Crédit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ey de Veracidad en los Préstam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ey de Equidad en los Informes de Crédit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ey de Equidad en las Prácticas de Cobro de Deud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ey de Equidad en la Facturación de Crédit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1" name="Picture 4" descr="Bank"/>
          <p:cNvPicPr/>
          <p:nvPr/>
        </p:nvPicPr>
        <p:blipFill>
          <a:blip r:embed="rId1"/>
          <a:stretch/>
        </p:blipFill>
        <p:spPr>
          <a:xfrm>
            <a:off x="7370640" y="380880"/>
            <a:ext cx="1621080" cy="1295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Actividad 2: Qué leyes que rigen los préstamos le proteg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alice la Actividad 2 en la Guía para los Participa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ea la situación planteada cuidadosamente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sponda a las pregunta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té preparado para explicar sus respuesta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4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solver reclamacion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96440" y="1142640"/>
            <a:ext cx="8494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criba a la Federal Deposit Insurance Corporation (FDIC)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xplique el problem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cluya información relevant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nvíe copias de documentos que puedan ayudar a explicar su problem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Guarde los documentos original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Firme y feche la cart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7" name="Picture 4" descr="Figure holding a telephone handset listening to someone talk while scratching his head questioning the information received"/>
          <p:cNvPicPr/>
          <p:nvPr/>
        </p:nvPicPr>
        <p:blipFill>
          <a:blip r:embed="rId1"/>
          <a:stretch/>
        </p:blipFill>
        <p:spPr>
          <a:xfrm>
            <a:off x="7650000" y="457200"/>
            <a:ext cx="1122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Leyes adicionales de protección para los consumidor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5160" indent="-3304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y de Asistencia Civil para Miembros del Servicio Milita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y de Procedimientos de Liquidación de Bienes Raíc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y de Equidad en la Viviend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y de Arrendamiento para Consumidor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10" name="Picture 4" descr="Bank, coins, credit cards, and documents"/>
          <p:cNvPicPr/>
          <p:nvPr/>
        </p:nvPicPr>
        <p:blipFill>
          <a:blip r:embed="rId1"/>
          <a:stretch/>
        </p:blipFill>
        <p:spPr>
          <a:xfrm>
            <a:off x="6570720" y="3352680"/>
            <a:ext cx="18874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ácticas de préstamos abusiv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cluyen el uso de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iertas tácticas de market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ácticas de cobro abusiv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érminos de préstamos que engañan al consumido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curren en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os sectores de préstamos de hipotecas, de capital de la vivienda, tarjetas de crédito, automóviles y préstamos del día de pag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réstamos con tasas no preferencial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12193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mplican ofrecer crédito a prestatarios con un historial crediticio negativo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727920" indent="-28008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a mayoría de los préstamos abusivos se hacen a prestatarios no preferenciales, pero no todos los préstamos no preferenciales son abusivo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727920" indent="-28008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asas de interés y costos para el préstamo podrían ser más altos para compensar los costos elevados asociados a prestar dinero a estos cliente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réstamos abusivos del día de pag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33160" y="9907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Pequeños adelantos de dinero menos los costos del prestamista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jemplo: Acepta pagar $23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Usted recibe $2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stos del prestamista: $30 (una APR del 390%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17" name="Picture 4" descr="Hand holding cash"/>
          <p:cNvPicPr/>
          <p:nvPr/>
        </p:nvPicPr>
        <p:blipFill>
          <a:blip r:embed="rId1"/>
          <a:stretch/>
        </p:blipFill>
        <p:spPr>
          <a:xfrm>
            <a:off x="76320" y="4162320"/>
            <a:ext cx="198108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rácticas abusivas de préstamos hipotecari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432080"/>
            <a:ext cx="78487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stos excesiv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enalidades de amortización abusiva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isiones a agentes (como "Yield Spread Premiums")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financiamiento reiterad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oductos innecesari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éstamos basados en activ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irigir y enfoca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9154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Actividad 3: Prácticas abusivas de préstam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alice la Actividad 3 en la Guía para los Participa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ea la situación planteada cuidadosamente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sponda a las pregunta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té preparado para explicar sus respuesta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2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n o quieren aprender sobre los préstamos en cuotas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01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¿Cómo evaluarían el curso de capacitació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5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clusión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55680" y="1041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prendieron acerca de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réstamos asegurados y no asegurad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l costo de los préstam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réstamos de automóvil y financiación de automóvi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réstamos sobre el capital de la viviend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os cuatro factores de decisiones sobre préstam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rácticas de préstamos abusiv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8" name="Picture 4" descr="Cashing being passed from one person's hand to another's"/>
          <p:cNvPicPr/>
          <p:nvPr/>
        </p:nvPicPr>
        <p:blipFill>
          <a:blip r:embed="rId1"/>
          <a:stretch/>
        </p:blipFill>
        <p:spPr>
          <a:xfrm>
            <a:off x="7315200" y="3808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¿Qué es un préstamo en cuotas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9907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Un préstamo que se devuelve en pagos mensuales/cuotas iguales durante un periodo de tiempo específic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3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¿Qué artículos se pueden comprar con un préstamo en cuota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utomóvil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obiliari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mputador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ectrodoméstic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éstamos en cuotas asegurad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Tienen tasas de interés más bajas que los préstamos no asegurados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ecesitan una garantí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jemplos: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hipotecas y préstamos sobre el capital de la viviend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06" name="Picture 8" descr="Home and loan paperwork"/>
          <p:cNvPicPr/>
          <p:nvPr/>
        </p:nvPicPr>
        <p:blipFill>
          <a:blip r:embed="rId1"/>
          <a:stretch/>
        </p:blipFill>
        <p:spPr>
          <a:xfrm>
            <a:off x="3505320" y="3962520"/>
            <a:ext cx="18144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Garantía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98712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significa </a:t>
            </a: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garantí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349200" indent="-349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Un bien que es de su propiedad y promete al prestamista si no puede devolver el préstam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Si no puede pagar el préstamo y la garantía no es suficiente para cubrir el saldo, usted todavía es responsable d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349200" indent="-349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 saldo pendient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349200" indent="-349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Cualquier costo e interés asociado con el préstam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réstamo en cuotas no asegurad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No está asegurado por una garantí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os estándares de los seguros son más difíciles para préstamos no asegurad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jemplos: préstamos personales y préstamos privados para estudiant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11" name="Picture 4" descr="Computer monitor, morar board, and diploma"/>
          <p:cNvPicPr/>
          <p:nvPr/>
        </p:nvPicPr>
        <p:blipFill>
          <a:blip r:embed="rId1"/>
          <a:stretch/>
        </p:blipFill>
        <p:spPr>
          <a:xfrm>
            <a:off x="3352680" y="3909960"/>
            <a:ext cx="236232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8:57:27Z</dcterms:created>
  <dc:creator/>
  <dc:description/>
  <dc:language>en-US</dc:language>
  <cp:lastModifiedBy> NTI</cp:lastModifiedBy>
  <dcterms:modified xsi:type="dcterms:W3CDTF">2011-03-09T20:32:34Z</dcterms:modified>
  <cp:revision>491</cp:revision>
  <dc:subject/>
  <dc:title>MoneySmart Adult Financial Education Curricul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D9D08CBBCD77941A885A384DB484D68</vt:lpwstr>
  </property>
</Properties>
</file>