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4.jpeg" ContentType="image/jpeg"/>
  <Override PartName="/ppt/media/image3.jpeg" ContentType="image/jpeg"/>
  <Override PartName="/ppt/media/image30.png" ContentType="image/png"/>
  <Override PartName="/ppt/media/image8.jpeg" ContentType="image/jpeg"/>
  <Override PartName="/ppt/media/image10.jpeg" ContentType="image/jpeg"/>
  <Override PartName="/ppt/media/image13.wmf" ContentType="image/x-wmf"/>
  <Override PartName="/ppt/media/image6.wmf" ContentType="image/x-wmf"/>
  <Override PartName="/ppt/media/image7.wmf" ContentType="image/x-wmf"/>
  <Override PartName="/ppt/media/image12.jpeg" ContentType="image/jpeg"/>
  <Override PartName="/ppt/media/image4.png" ContentType="image/png"/>
  <Override PartName="/ppt/media/image11.wmf" ContentType="image/x-wmf"/>
  <Override PartName="/ppt/media/image5.jpeg" ContentType="image/jpeg"/>
  <Override PartName="/ppt/media/image9.png" ContentType="image/png"/>
  <Override PartName="/ppt/media/image23.jpeg" ContentType="image/jpeg"/>
  <Override PartName="/ppt/media/image25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29.png" ContentType="image/png"/>
  <Override PartName="/ppt/media/image16.jpeg" ContentType="image/jpeg"/>
  <Override PartName="/ppt/media/image17.png" ContentType="image/png"/>
  <Override PartName="/ppt/media/image18.jpeg" ContentType="image/jpeg"/>
  <Override PartName="/ppt/media/image21.png" ContentType="image/png"/>
  <Override PartName="/ppt/media/image2.jpeg" ContentType="image/jpeg"/>
  <Override PartName="/ppt/media/image20.png" ContentType="image/png"/>
  <Override PartName="/ppt/media/image28.jpeg" ContentType="image/jpeg"/>
  <Override PartName="/ppt/media/image19.png" ContentType="image/png"/>
  <Override PartName="/ppt/media/image22.wmf" ContentType="image/x-wmf"/>
  <Override PartName="/ppt/media/image2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9BF2-D486-4BD7-864F-F06E42D8D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DE09-6CB1-485D-BC21-B9D08B2DD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83A9-265E-41BE-92BB-5B6E5D5EE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EE7E-75E4-4BF4-9170-93C30E5F7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30EC-FD37-4755-A135-FAAA91ECC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BDF2-B8BA-4D15-9184-0EAC549D9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B985-BEBF-451B-9AE9-E4D5BCD9E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CCF2-8251-4FFC-8C38-E5CA9548B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2D32-BC9C-499A-AF44-598AC45B7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F4CA-AEA9-4C32-9EE0-29EFD3F5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6344-82AC-4A57-B87F-5643D0A7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B21F-F7DF-4539-990E-C930D7E0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B0D31-304B-4A50-B656-B33B2B1C89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6781680" y="64008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Loan To Ow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54456-9105-49A5-86AB-63E2BDA50134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Loan To Own title slide with FDIC Money Smart logo and module logo including images of a car, boat, computer, diploma, and mortar boar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4"/>
          <p:cNvSpPr/>
          <p:nvPr/>
        </p:nvSpPr>
        <p:spPr>
          <a:xfrm>
            <a:off x="228600" y="838080"/>
            <a:ext cx="441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Loa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152280" y="2027160"/>
            <a:ext cx="45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To Ow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st of Installment Loan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160" y="2179800"/>
            <a:ext cx="84582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ollar amount the loan will cost, including: interest, service charges, and loan fe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896040" indent="-398160"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3993d"/>
                </a:solidFill>
                <a:latin typeface="Helvetica Neue"/>
              </a:rPr>
              <a:t>Answer: Finance charg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504000" indent="-504000"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oan with interest rate that might change during any period of the loan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896040" indent="-398160"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3993d"/>
                </a:solidFill>
                <a:latin typeface="Helvetica Neue"/>
              </a:rPr>
              <a:t>Answer: Variable-rate loan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504000" indent="-5040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Folded Corner 5"/>
          <p:cNvSpPr/>
          <p:nvPr/>
        </p:nvSpPr>
        <p:spPr>
          <a:xfrm>
            <a:off x="685800" y="1066680"/>
            <a:ext cx="7772400" cy="990720"/>
          </a:xfrm>
          <a:prstGeom prst="foldedCorner">
            <a:avLst>
              <a:gd name="adj" fmla="val 16666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  <a:effectLst>
            <a:outerShdw dist="38183" dir="8100000" blurRad="0" rotWithShape="0">
              <a:srgbClr val="4f622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APR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Fixed-rate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Finance Charges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Variable-rate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st of Installment Loan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160" y="2179800"/>
            <a:ext cx="84582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st of borrowing money on a yearly basis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914400" indent="-406440"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3993d"/>
                </a:solidFill>
                <a:latin typeface="Helvetica Neue"/>
              </a:rPr>
              <a:t>Answer: APR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514440" indent="-514440"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oan with interest rate that stays the same throughout the term of the loan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914400" indent="-406440"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3993d"/>
                </a:solidFill>
                <a:latin typeface="Helvetica Neue"/>
              </a:rPr>
              <a:t>Answer: Fixed-rate loan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Folded Corner 6"/>
          <p:cNvSpPr/>
          <p:nvPr/>
        </p:nvSpPr>
        <p:spPr>
          <a:xfrm>
            <a:off x="685800" y="1066680"/>
            <a:ext cx="7772400" cy="990720"/>
          </a:xfrm>
          <a:prstGeom prst="foldedCorner">
            <a:avLst>
              <a:gd name="adj" fmla="val 16666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  <a:effectLst>
            <a:outerShdw dist="38183" dir="8100000" blurRad="0" rotWithShape="0">
              <a:srgbClr val="4f622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APR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Fixed-rate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Finance Charges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Variable-rate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dentify the Term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33520" y="23619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Stephanie took out a car loan with a 10% interest rate and paid $100 in loan application fees. What lending term reflects the interest plus the application fee?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907920" indent="-450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3993d"/>
                </a:solidFill>
                <a:latin typeface="Helvetica Neue"/>
              </a:rPr>
              <a:t>Answer: APR</a:t>
            </a:r>
            <a:r>
              <a:rPr b="0" lang="en-US" sz="30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8" name="Folded Corner 6"/>
          <p:cNvSpPr/>
          <p:nvPr/>
        </p:nvSpPr>
        <p:spPr>
          <a:xfrm>
            <a:off x="685800" y="1066680"/>
            <a:ext cx="7772400" cy="990720"/>
          </a:xfrm>
          <a:prstGeom prst="foldedCorner">
            <a:avLst>
              <a:gd name="adj" fmla="val 16666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  <a:effectLst>
            <a:outerShdw dist="38183" dir="8100000" blurRad="0" rotWithShape="0">
              <a:srgbClr val="4f622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APR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Fixed-rate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Finance Charges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Variable-rate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dentify the Term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23623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Arial"/>
              </a:rPr>
              <a:t>Michael took out a loan to buy a computer. He must make 24 equal payments over 2 years at 10% interest. Which lending term best describes this type of loan?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907920" indent="-4507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3993d"/>
                </a:solidFill>
                <a:latin typeface="Arial"/>
              </a:rPr>
              <a:t>Answer: Fixed-rate loan</a:t>
            </a:r>
            <a:r>
              <a:rPr b="0" lang="en-US" sz="2600" spc="-1" strike="noStrike">
                <a:solidFill>
                  <a:srgbClr val="132f5a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Folded Corner 4"/>
          <p:cNvSpPr/>
          <p:nvPr/>
        </p:nvSpPr>
        <p:spPr>
          <a:xfrm>
            <a:off x="685800" y="1066680"/>
            <a:ext cx="7772400" cy="990720"/>
          </a:xfrm>
          <a:prstGeom prst="foldedCorner">
            <a:avLst>
              <a:gd name="adj" fmla="val 16666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  <a:effectLst>
            <a:outerShdw dist="38183" dir="8100000" blurRad="0" rotWithShape="0">
              <a:srgbClr val="4f622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APR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Fixed-rate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Finance Charges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Variable-rate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dentify</a:t>
            </a:r>
            <a:r>
              <a:rPr b="1" lang="en-US" sz="3600" spc="-1" strike="noStrike">
                <a:solidFill>
                  <a:srgbClr val="c1961c"/>
                </a:solidFill>
                <a:latin typeface="Arial"/>
              </a:rPr>
              <a:t> the Term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33520" y="2361960"/>
            <a:ext cx="822960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Kevin took out a loan for a car. He must pay $3,000 in interest, service charges, and loan fees. What lending term(s) best describe(s) these costs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907920" indent="-450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3993d"/>
                </a:solidFill>
                <a:latin typeface="Helvetica Neue"/>
              </a:rPr>
              <a:t>Answer: Variable rate loan, Finance charg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Folded Corner 4"/>
          <p:cNvSpPr/>
          <p:nvPr/>
        </p:nvSpPr>
        <p:spPr>
          <a:xfrm>
            <a:off x="685800" y="1066680"/>
            <a:ext cx="7772400" cy="990720"/>
          </a:xfrm>
          <a:prstGeom prst="foldedCorner">
            <a:avLst>
              <a:gd name="adj" fmla="val 16666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  <a:effectLst>
            <a:outerShdw dist="38183" dir="8100000" blurRad="0" rotWithShape="0">
              <a:srgbClr val="4f622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APR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Fixed-rate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Finance Charges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Variable-rate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Why Do Borrowers Prefer Installment Loans?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lear monthly payment amount and repayment period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ower rates than credit card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ower loan balances during loan term because payment includes principal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urchasing or Leasing a Car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are some questions to ask yourself when looking for a car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Should I get a new or used car?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Should I lease or buy?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How much can I afford?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Should I trade in my old car?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29" name="Picture 11" descr="Blue car"/>
          <p:cNvPicPr/>
          <p:nvPr/>
        </p:nvPicPr>
        <p:blipFill>
          <a:blip r:embed="rId1"/>
          <a:stretch/>
        </p:blipFill>
        <p:spPr>
          <a:xfrm>
            <a:off x="6553080" y="35053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ar Loans Versus Car Lease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ider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Ownership potential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Wear and tear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Monthly payment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Mileage limitation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uto insuranc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32" name="Picture 2" descr="Couple looking at a sticker on a car in car sales lot"/>
          <p:cNvPicPr/>
          <p:nvPr/>
        </p:nvPicPr>
        <p:blipFill>
          <a:blip r:embed="rId1"/>
          <a:stretch/>
        </p:blipFill>
        <p:spPr>
          <a:xfrm>
            <a:off x="5791320" y="1601640"/>
            <a:ext cx="2133360" cy="3198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Financing a Car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he car is the collateral for the loan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he title indicates who owns the car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en considering a car loan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Know the costs and how much you need to borrow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Shop for the best deal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35" name="Picture 4" descr="Car and loan paperwork"/>
          <p:cNvPicPr/>
          <p:nvPr/>
        </p:nvPicPr>
        <p:blipFill>
          <a:blip r:embed="rId1"/>
          <a:stretch/>
        </p:blipFill>
        <p:spPr>
          <a:xfrm>
            <a:off x="7318440" y="304920"/>
            <a:ext cx="182556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Where to Obtain Car Loan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8380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anks/thrift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redit union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inance compani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ar dealerships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38" name="Picture 5" descr="Lender reviewing paperwork with a couple"/>
          <p:cNvPicPr/>
          <p:nvPr/>
        </p:nvPicPr>
        <p:blipFill>
          <a:blip r:embed="rId1"/>
          <a:stretch/>
        </p:blipFill>
        <p:spPr>
          <a:xfrm>
            <a:off x="5410080" y="1523880"/>
            <a:ext cx="2667240" cy="26672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Welcome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191120" y="2057400"/>
            <a:ext cx="44956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514440" indent="-514440"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Ground Rul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514440" indent="-514440"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troduction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90" name="Picture 1" descr="Handshake"/>
          <p:cNvPicPr/>
          <p:nvPr/>
        </p:nvPicPr>
        <p:blipFill>
          <a:blip r:embed="rId1"/>
          <a:stretch/>
        </p:blipFill>
        <p:spPr>
          <a:xfrm>
            <a:off x="304920" y="19051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Arial"/>
              </a:rPr>
              <a:t>When Dealers Offer Low Interest Rate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he best deal may require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arge down payment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Short loan term (3 years or less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xcellent credit histor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Participation fe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41" name="Picture 4" descr="Dollar sign"/>
          <p:cNvPicPr/>
          <p:nvPr/>
        </p:nvPicPr>
        <p:blipFill>
          <a:blip r:embed="rId1"/>
          <a:stretch/>
        </p:blipFill>
        <p:spPr>
          <a:xfrm>
            <a:off x="7238880" y="2209680"/>
            <a:ext cx="1500480" cy="15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Low Interest Rate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sk about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Price of low-rate financing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dvantages of paying with cash/using your own financing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Down payment required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imits on the length of the loa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Balloon payments, if due at the end of the loa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44" name="Picture 6" descr="Question mark"/>
          <p:cNvPicPr/>
          <p:nvPr/>
        </p:nvPicPr>
        <p:blipFill>
          <a:blip r:embed="rId1"/>
          <a:stretch/>
        </p:blipFill>
        <p:spPr>
          <a:xfrm>
            <a:off x="7323120" y="457200"/>
            <a:ext cx="1515960" cy="12193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Special Promotion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335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sk about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rade-in allowanc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imits on special offers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Meaning of dealer’s invoic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47" name="Picture 7" descr="Car salesman "/>
          <p:cNvPicPr/>
          <p:nvPr/>
        </p:nvPicPr>
        <p:blipFill>
          <a:blip r:embed="rId1"/>
          <a:stretch/>
        </p:blipFill>
        <p:spPr>
          <a:xfrm>
            <a:off x="6781680" y="2209680"/>
            <a:ext cx="1684440" cy="1827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uto Service Contract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lnSpc>
                <a:spcPct val="9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 promise to perform (or pay for) certain repairs or services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lnSpc>
                <a:spcPct val="9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sk questions before buying auto service contracts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50" name="Picture 9" descr="Car salesman helping a couple purchase a car"/>
          <p:cNvPicPr/>
          <p:nvPr/>
        </p:nvPicPr>
        <p:blipFill>
          <a:blip r:embed="rId1"/>
          <a:stretch/>
        </p:blipFill>
        <p:spPr>
          <a:xfrm>
            <a:off x="3581280" y="3048120"/>
            <a:ext cx="2132280" cy="2133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Used Car: Warranty Protectio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ook for the Buyer’s Guide sticker to indicate whether the vehicle is being sold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With a warrant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With implied warranties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“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s is”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53" name="Picture 1" descr="Buyer's Guide sticker with As Is-No Warranty or Warranty options"/>
          <p:cNvPicPr/>
          <p:nvPr/>
        </p:nvPicPr>
        <p:blipFill>
          <a:blip r:embed="rId1"/>
          <a:stretch/>
        </p:blipFill>
        <p:spPr>
          <a:xfrm>
            <a:off x="5562720" y="2438280"/>
            <a:ext cx="320040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Hybrid car with cord to charge it"/>
          <p:cNvPicPr/>
          <p:nvPr/>
        </p:nvPicPr>
        <p:blipFill>
          <a:blip r:embed="rId1"/>
          <a:stretch/>
        </p:blipFill>
        <p:spPr>
          <a:xfrm>
            <a:off x="0" y="4513320"/>
            <a:ext cx="2438280" cy="16254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lternative Fueled Vehicle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218960"/>
            <a:ext cx="7391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efore buying or leasing, consider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Fuel type and availabilit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Operating cost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Performance/convenienc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nergy security/renewabilit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mission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ctivity 1:  Beware of Dealer-Lender Relationship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mplete Activity 1 in the Participant Guide.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ad the scenario carefully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Write down some things that Sam could have done differently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Be prepared to explain your answers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59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Structuring a Car Loa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6840" y="1063800"/>
            <a:ext cx="853452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8400" indent="-334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</a:rPr>
              <a:t>Make as large a down payment as possible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ider the total cost of the loan:</a:t>
            </a:r>
            <a:r>
              <a:rPr b="1" lang="en-US" sz="3000" spc="-1" strike="noStrike">
                <a:solidFill>
                  <a:srgbClr val="132f5a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xample: $15,000 at 4% interest for </a:t>
            </a:r>
            <a:r>
              <a:rPr b="1" lang="en-US" sz="2800" spc="-1" strike="noStrike">
                <a:solidFill>
                  <a:srgbClr val="0000ff"/>
                </a:solidFill>
                <a:latin typeface="Helvetica Neue"/>
              </a:rPr>
              <a:t>36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 months = </a:t>
            </a:r>
            <a:r>
              <a:rPr b="1" lang="en-US" sz="2800" spc="-1" strike="noStrike">
                <a:solidFill>
                  <a:srgbClr val="0000ff"/>
                </a:solidFill>
                <a:latin typeface="Helvetica Neue"/>
              </a:rPr>
              <a:t>$443 </a:t>
            </a:r>
            <a:r>
              <a:rPr b="0" lang="en-US" sz="2800" spc="-1" strike="noStrike">
                <a:solidFill>
                  <a:srgbClr val="252e4e"/>
                </a:solidFill>
                <a:latin typeface="Helvetica Neue"/>
              </a:rPr>
              <a:t>versus </a:t>
            </a:r>
            <a:r>
              <a:rPr b="1" lang="en-US" sz="2800" spc="-1" strike="noStrike">
                <a:solidFill>
                  <a:srgbClr val="0000ff"/>
                </a:solidFill>
                <a:latin typeface="Helvetica Neue"/>
              </a:rPr>
              <a:t>48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 months = </a:t>
            </a:r>
            <a:r>
              <a:rPr b="1" lang="en-US" sz="2800" spc="-1" strike="noStrike">
                <a:solidFill>
                  <a:srgbClr val="0000ff"/>
                </a:solidFill>
                <a:latin typeface="Helvetica Neue"/>
              </a:rPr>
              <a:t>$339 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 month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otal cost: </a:t>
            </a:r>
            <a:r>
              <a:rPr b="1" lang="en-US" sz="2800" spc="-1" strike="noStrike">
                <a:solidFill>
                  <a:srgbClr val="0000ff"/>
                </a:solidFill>
                <a:latin typeface="Helvetica Neue"/>
              </a:rPr>
              <a:t>$15,948 versus $16,272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e cautious about taking on an auto loan term of 5 years or more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Beware of Car Title Loan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8400" indent="-33408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You risk losing your car if you cannot pay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hey can be costly loans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132f5a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132f5a"/>
                </a:solidFill>
                <a:latin typeface="Arial"/>
              </a:rPr>
              <a:t> month: $500 loan + $100 interest ($500 x 20%) = $600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</a:rPr>
              <a:t>1 year: $500 loan + $1,200 interest ($110 x 12) = 240% APR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Equity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6840" y="990720"/>
            <a:ext cx="80010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he value of the home minus the debt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 </a:t>
            </a:r>
            <a:r>
              <a:rPr b="1" i="1" lang="en-US" sz="3000" spc="-1" strike="noStrike">
                <a:solidFill>
                  <a:srgbClr val="b08830"/>
                </a:solidFill>
                <a:latin typeface="Helvetica Neue"/>
              </a:rPr>
              <a:t>home equity loan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llows you to borrow against the value of your home.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6" name="Rounded Rectangle 4"/>
          <p:cNvSpPr/>
          <p:nvPr/>
        </p:nvSpPr>
        <p:spPr>
          <a:xfrm>
            <a:off x="2133720" y="1828800"/>
            <a:ext cx="4952880" cy="1676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e of ho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$25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inus debt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- 180,00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quit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$ 7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bjectives</a:t>
            </a:r>
            <a:r>
              <a:rPr b="1" lang="en-US" sz="3600" spc="-1" strike="noStrike">
                <a:solidFill>
                  <a:srgbClr val="c1961c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33520" y="129528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dentify various types of installment loan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dentify the factors lenders use to make home loan decision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dentify how federal laws protect you when applying for a loan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dentify the questions to ask when purchasing a car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93" name="Picture 4" descr="Arrow in target bulls eye"/>
          <p:cNvPicPr/>
          <p:nvPr/>
        </p:nvPicPr>
        <p:blipFill>
          <a:blip r:embed="rId1"/>
          <a:stretch/>
        </p:blipFill>
        <p:spPr>
          <a:xfrm>
            <a:off x="8001000" y="371520"/>
            <a:ext cx="993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84120"/>
            <a:ext cx="84582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How Home Equity Loans Work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560" y="129528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2000" indent="-3373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ppraised value of home: $250,000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2000" indent="-3373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ender’s maximum loan-to-value ratio: 80%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2000" indent="-3373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ximum you can borrow against the home: $250,000 x 80% = $200,000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2000" indent="-33732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elvetica Neue"/>
            </a:endParaRPr>
          </a:p>
          <a:p>
            <a:pPr marL="342000" indent="-337320"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 Neue"/>
            </a:endParaRPr>
          </a:p>
          <a:p>
            <a:pPr marL="342000" indent="-3373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ximum value of home equity loan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2000" indent="-337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$200,000 - $180,000 </a:t>
            </a: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(existing mortgage)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2000" indent="-3373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= $20,000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9" name="Straight Connector 5"/>
          <p:cNvSpPr/>
          <p:nvPr/>
        </p:nvSpPr>
        <p:spPr>
          <a:xfrm>
            <a:off x="1371600" y="3581280"/>
            <a:ext cx="647712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9"/>
          <p:cNvSpPr/>
          <p:nvPr/>
        </p:nvSpPr>
        <p:spPr>
          <a:xfrm flipH="1">
            <a:off x="2590920" y="3276720"/>
            <a:ext cx="3124080" cy="1218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Types of Home Equity Loan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447920"/>
            <a:ext cx="822960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ome Equity Loan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One-time loan for a lump sum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ypically at a fixed interest rat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ome Equity Line of Credit (HELOC)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ine of credit that works like a credit card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Interest rates are typically variabl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73" name="Picture 6" descr="Circle graphic with house icon"/>
          <p:cNvPicPr/>
          <p:nvPr/>
        </p:nvPicPr>
        <p:blipFill>
          <a:blip r:embed="rId1"/>
          <a:stretch/>
        </p:blipFill>
        <p:spPr>
          <a:xfrm>
            <a:off x="7467480" y="468360"/>
            <a:ext cx="159876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Borrowing Against Your Home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are the advantages of taking out a home equity loan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ower interest rate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ax-deductible interest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3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is the danger of borrowing against your home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osing your hom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Owing more than your home is worth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76" name="Picture 5" descr="Icon with a figure and roofline overhead"/>
          <p:cNvPicPr/>
          <p:nvPr/>
        </p:nvPicPr>
        <p:blipFill>
          <a:blip r:embed="rId1"/>
          <a:stretch/>
        </p:blipFill>
        <p:spPr>
          <a:xfrm>
            <a:off x="7315200" y="182880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Right to Rescind/Right to Cance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275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You have 3 days to reconsider a signed home equity loan agreement and cancel the loan without a penalty when you use your primary home as collateral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79" name="Picture 5" descr="Person in thought with hand on chin"/>
          <p:cNvPicPr/>
          <p:nvPr/>
        </p:nvPicPr>
        <p:blipFill>
          <a:blip r:embed="rId1"/>
          <a:stretch/>
        </p:blipFill>
        <p:spPr>
          <a:xfrm>
            <a:off x="3736800" y="3657600"/>
            <a:ext cx="159732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s a Line of Credit Right for You?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an you afford the increased monthly payments after the introductory period ends or when interest rates rise?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re you comfortable with fluctuating monthly mortgage payments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ill you be investing your home equity in another asset of long-term value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Unsecured</a:t>
            </a:r>
            <a:r>
              <a:rPr b="1" lang="en-US" sz="3600" spc="-1" strike="noStrike">
                <a:solidFill>
                  <a:srgbClr val="c1961c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nstallment</a:t>
            </a:r>
            <a:r>
              <a:rPr b="1" lang="en-US" sz="3600" spc="-1" strike="noStrike">
                <a:solidFill>
                  <a:srgbClr val="c1961c"/>
                </a:solidFill>
                <a:latin typeface="Arial"/>
              </a:rPr>
              <a:t> Loans</a:t>
            </a:r>
            <a:r>
              <a:rPr b="1" lang="en-US" sz="3600" spc="-1" strike="noStrike">
                <a:solidFill>
                  <a:srgbClr val="c1961c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6840" y="9907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oans used for a variety of personal expenses with no collateral required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erms: 1 to 5 year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enefits: fast approval times, lower interest rates than credit card rat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rawbacks: Higher interest rates, stricter credit requirement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Refund Anticipation Loan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99072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hort-term loans secured by your income tax refund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xample: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fund: 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Fees: 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 u="sng">
                <a:solidFill>
                  <a:srgbClr val="132f5a"/>
                </a:solidFill>
                <a:uFillTx/>
                <a:latin typeface="Helvetica Neue"/>
              </a:rPr>
              <a:t> - $300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heck to you: 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$1,200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Borrow From Yourself Firs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stablish an emergency savings account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ave at least 6 months of living expenses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ider making small, simple changes in your habits or banking practices to save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88" name="Picture 4" descr="Coin falling into a piggy bank"/>
          <p:cNvPicPr/>
          <p:nvPr/>
        </p:nvPicPr>
        <p:blipFill>
          <a:blip r:embed="rId1"/>
          <a:stretch/>
        </p:blipFill>
        <p:spPr>
          <a:xfrm>
            <a:off x="3581280" y="4114800"/>
            <a:ext cx="2057400" cy="1757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mparison Shop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f you must borrow money, look at both total dollar costs and APR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xample: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$75 interest on a $500 loan for 2 weeks translates into 391% APR!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If you pay $75 to renew or roll over the $500 loan, you will owe more in fees ($525) in 14 weeks than the original loan!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Emergency Options for Cash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alk to your financial institution for loan options (e.g., line of credit)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uild a savings fund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93" name="Picture 7" descr="Cash"/>
          <p:cNvPicPr/>
          <p:nvPr/>
        </p:nvPicPr>
        <p:blipFill>
          <a:blip r:embed="rId1"/>
          <a:stretch/>
        </p:blipFill>
        <p:spPr>
          <a:xfrm>
            <a:off x="5791320" y="3276720"/>
            <a:ext cx="266688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Arial"/>
              </a:rPr>
              <a:t>Objectives</a:t>
            </a:r>
            <a:r>
              <a:rPr b="1" lang="en-US" sz="3600" spc="-1" strike="noStrike">
                <a:solidFill>
                  <a:srgbClr val="c1961c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33520" y="129528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xplain why installment loans cost less than rent-to-own servic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xplain why it is important to be wary of rent-to-own, payday loans, and refund anticipation loan servic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Guard against predatory lending practices  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96" name="Picture 4" descr="Arrow in target bulls eye"/>
          <p:cNvPicPr/>
          <p:nvPr/>
        </p:nvPicPr>
        <p:blipFill>
          <a:blip r:embed="rId1"/>
          <a:stretch/>
        </p:blipFill>
        <p:spPr>
          <a:xfrm>
            <a:off x="8001000" y="371520"/>
            <a:ext cx="993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The Four C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1560" indent="-327240">
              <a:spcBef>
                <a:spcPts val="751"/>
              </a:spcBef>
              <a:spcAft>
                <a:spcPts val="1800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Capacity: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your present and future ability to meet your payment obligation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1560" indent="-327240">
              <a:spcBef>
                <a:spcPts val="751"/>
              </a:spcBef>
              <a:spcAft>
                <a:spcPts val="1800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Capital: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the value of your assets and your net worth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1560" indent="-327240">
              <a:spcBef>
                <a:spcPts val="751"/>
              </a:spcBef>
              <a:spcAft>
                <a:spcPts val="1800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Character: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how you have paid bills or debts in the past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1560" indent="-327240">
              <a:spcBef>
                <a:spcPts val="751"/>
              </a:spcBef>
              <a:spcAft>
                <a:spcPts val="1800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Collateral: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roperty or assets offered to secure the loan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nsumer Protection Law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qual Credit Opportunity Act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ruth in Lending Act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air Credit Reporting Act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air Debt Collection Practices Act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air Credit Billing Act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98" name="Picture 4" descr="Bank"/>
          <p:cNvPicPr/>
          <p:nvPr/>
        </p:nvPicPr>
        <p:blipFill>
          <a:blip r:embed="rId1"/>
          <a:stretch/>
        </p:blipFill>
        <p:spPr>
          <a:xfrm>
            <a:off x="6686640" y="1828800"/>
            <a:ext cx="1954080" cy="15620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ctivity 2: How </a:t>
            </a:r>
            <a:r>
              <a:rPr b="1" lang="en-US" sz="3600" spc="-1" strike="noStrike">
                <a:solidFill>
                  <a:srgbClr val="c1961c"/>
                </a:solidFill>
                <a:latin typeface="Arial"/>
              </a:rPr>
              <a:t>Lending Laws Protect You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mplete Activity 2 in the Participant Guide.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ad the scenario carefully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nswer the questions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Be prepared to explain your answers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01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Resolving Complaint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96800" y="114300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7960" indent="-32364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rite to the Federal Deposit Insurance Corporation (FDIC)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698400" indent="-26856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State the problem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698400" indent="-26856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Include pertinent informatio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27960" indent="-32364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end copies of documents that may help explain your problem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698400" indent="-26856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Keep the original document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27960" indent="-32364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ign and date your letter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27960" indent="-32364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04" name="Picture 4" descr="Figure holding a telephone handset listening to someone talk while scratching his head questioning the information received"/>
          <p:cNvPicPr/>
          <p:nvPr/>
        </p:nvPicPr>
        <p:blipFill>
          <a:blip r:embed="rId1"/>
          <a:stretch/>
        </p:blipFill>
        <p:spPr>
          <a:xfrm>
            <a:off x="7650000" y="457200"/>
            <a:ext cx="11224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dditional Consumer Protection Law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ervicemembers Civil Relief Act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al Estate Settlement Procedures Act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air Housing Act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umer Leasing Act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07" name="Picture 4" descr="Bank, coins, credit cards, and documents"/>
          <p:cNvPicPr/>
          <p:nvPr/>
        </p:nvPicPr>
        <p:blipFill>
          <a:blip r:embed="rId1"/>
          <a:stretch/>
        </p:blipFill>
        <p:spPr>
          <a:xfrm>
            <a:off x="6248520" y="3429000"/>
            <a:ext cx="188748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redatory Lending Practice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cludes the use of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ertain marketing tactic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busive collection practice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oan terms that deceive and exploit borrower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Occurs in mortgage, home equity, credit card, auto lending, and payday lending market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Subprime Lending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volves extending credit to borrowers with a poor credit history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2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Most predatory loans are made to subprime borrowers, but not all subprime loans are predatory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2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Interest rates and loan fees may be higher to offset the higher costs associated with lending to these borrowers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redatory Payday Loan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160" y="9907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mall cash advances minus the lender’s fe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xample: You agree to pay $230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You receive $200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ender fees: $30 (which equals 390% APR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14" name="Picture 4" descr="Hand holding cash"/>
          <p:cNvPicPr/>
          <p:nvPr/>
        </p:nvPicPr>
        <p:blipFill>
          <a:blip r:embed="rId1"/>
          <a:stretch/>
        </p:blipFill>
        <p:spPr>
          <a:xfrm>
            <a:off x="0" y="4038480"/>
            <a:ext cx="2049480" cy="20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redatory Mortgage Lending Practice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066680"/>
            <a:ext cx="78487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xcessive fe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busive repayment penalti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Kickback to brokers (yield spread premium)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oan flipping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Unnecessary product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sset-based lending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teering and targeting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384120"/>
            <a:ext cx="89154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ctivity 3: Predatory Lending Practice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mplete Activity 3 in the Participant Guide.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ad the scenario carefully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nswer the questions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Be prepared to explain your answers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19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Do You Know?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819160" y="990360"/>
            <a:ext cx="617220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do you know or want to learn about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stallment loan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99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3336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final questions do you have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3336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3336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have you learned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3336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3336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ow would you evaluate the training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3336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22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nclusion</a:t>
            </a: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You learned about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Secured and unsecured loan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he cost of loan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ar loans and auto financing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Home equity loan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he Four Cs of loan decision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Predatory lending practice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25" name="Picture 4" descr="Cashing being passed from one person's hand to another's"/>
          <p:cNvPicPr/>
          <p:nvPr/>
        </p:nvPicPr>
        <p:blipFill>
          <a:blip r:embed="rId1"/>
          <a:stretch/>
        </p:blipFill>
        <p:spPr>
          <a:xfrm>
            <a:off x="7315200" y="38088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What is an Installment Loan?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9907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 loan that is repaid in equal monthly payments/installments for a specific period of time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3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items can be purchased with an installment loan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ar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Furnitur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omputer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Household appliance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Secured Installment Loan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ave lower interest rates than unsecured loan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quire collateral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xamples: Mortgages and home equity loan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04" name="Picture 8" descr="Home and loan paperwork"/>
          <p:cNvPicPr/>
          <p:nvPr/>
        </p:nvPicPr>
        <p:blipFill>
          <a:blip r:embed="rId1"/>
          <a:stretch/>
        </p:blipFill>
        <p:spPr>
          <a:xfrm>
            <a:off x="3505320" y="3962520"/>
            <a:ext cx="181440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llatera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335160" indent="-33516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does </a:t>
            </a: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collateral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mean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335160" indent="-33516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It is an asset you own and pledge to the lender if you cannot repay the loa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5160" indent="-330480">
              <a:spcBef>
                <a:spcPts val="60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35160" indent="-3304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f you are unable to repay the loan and the collateral is insufficient to cover the balance, you are still responsible for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335160" indent="-33516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he remaining balance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335160" indent="-33516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ny fees and interest associated with the loan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5160" indent="-33048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Unsecured Installment Loa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Not secured by collateral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ougher underwriting standards than secured loan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xamples: personal loans and private student loan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09" name="Picture 4" descr="Computer monitor, morar board, and diploma"/>
          <p:cNvPicPr/>
          <p:nvPr/>
        </p:nvPicPr>
        <p:blipFill>
          <a:blip r:embed="rId1"/>
          <a:stretch/>
        </p:blipFill>
        <p:spPr>
          <a:xfrm>
            <a:off x="3352680" y="3909960"/>
            <a:ext cx="236232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0T18:57:27Z</dcterms:created>
  <dc:creator>jkoehler</dc:creator>
  <dc:description/>
  <dc:language>en-US</dc:language>
  <cp:lastModifiedBy> </cp:lastModifiedBy>
  <dcterms:modified xsi:type="dcterms:W3CDTF">2011-01-05T17:24:56Z</dcterms:modified>
  <cp:revision>477</cp:revision>
  <dc:subject/>
  <dc:title>MoneySmart Adult Financial Education Curriculu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D9D08CBBCD77941A885A384DB484D68</vt:lpwstr>
  </property>
</Properties>
</file>