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2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026-DED0-409C-B3EC-9880FE8A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A83-325E-496A-9776-83180725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584-228F-4E80-AF6F-2BA2CE7B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AFA-4C30-4CAD-A461-7B6CD995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46D-DB99-48F0-B67A-D7D3A329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E83-EB85-4AB9-AAA8-48474F47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187-8443-4577-90F7-587BB64E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23B-F509-4A62-BDD7-6EE41892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EDA-1EF3-4551-9824-06DD471B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141-71CD-4BCE-8C19-D0C1AAE5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F5A-009C-4B96-AC67-C4D103A4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6C5-9554-441F-B1B9-467828D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2631-D2BA-4BE7-8CF2-C88F817CE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oan To 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D897-326D-4038-91DC-B2D7BEB9DB4F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2280" y="20271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 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llar amount the loan will cost, including: interest, service charges, and loan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might change during any period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Folded Corner 5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 of borrowing money on a yearly basi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stays the same throughout the term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xed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tephanie took out a car loan with a 10% interest rate and paid $100 in loan application fees. What lending term reflects the interest plus the application fee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Michael took out a loan to buy a computer. He must make 24 equal payments over 2 years at 10% interest. Which lending term best describes this type of loan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Arial"/>
              </a:rPr>
              <a:t>Answer: Fixed-rate loan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vin took out a loan for a car. He must pay $3,000 in interest, service charges, and loan fees. What lending term(s) best describe(s) these cos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 rate loan,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Do Borrowers Prefer Installment Loan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lear monthly payment amount and repayment perio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rates than credit card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loan balances during loan term because payment includes princip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rchasing or Leas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some questions to ask yourself when looking for a car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get a new or use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lease or buy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can I affor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trade in my ol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9" name="Picture 11" descr="Blue car"/>
          <p:cNvPicPr/>
          <p:nvPr/>
        </p:nvPicPr>
        <p:blipFill>
          <a:blip r:embed="rId1"/>
          <a:stretch/>
        </p:blipFill>
        <p:spPr>
          <a:xfrm>
            <a:off x="6553080" y="350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r Loans Versus Car Leas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potenti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ear and te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thly pay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ileage limitat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57913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car is the collateral for the loa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title indicates who owns the car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en considering a car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now the costs and how much you need to borro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p for the best de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ere to Obtain Car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s/thrif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un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e compan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r dealership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15238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When Dealers Offer 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est deal may requir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rge down pay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rt loan term (3 years or les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cellent credit histor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ticipation fe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4" descr="Dollar sign"/>
          <p:cNvPicPr/>
          <p:nvPr/>
        </p:nvPicPr>
        <p:blipFill>
          <a:blip r:embed="rId1"/>
          <a:stretch/>
        </p:blipFill>
        <p:spPr>
          <a:xfrm>
            <a:off x="7238880" y="2209680"/>
            <a:ext cx="1500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ice of low-rate financing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dvantages of paying with cash/using your own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own payment require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the length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lloon payments, if due at the end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pecial Promotio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ade-in allow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special offer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eaning of dealer’s invoi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7" descr="Car salesman "/>
          <p:cNvPicPr/>
          <p:nvPr/>
        </p:nvPicPr>
        <p:blipFill>
          <a:blip r:embed="rId1"/>
          <a:stretch/>
        </p:blipFill>
        <p:spPr>
          <a:xfrm>
            <a:off x="6781680" y="2209680"/>
            <a:ext cx="1684440" cy="182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uto Service Contrac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promise to perform (or pay for) certain repairs or servic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before buying auto service contract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ed Car: Warranty Protec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ok for the Buyer’s Guide sticker to indicate whether the vehicle is being sold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a warran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implied warrantie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 is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43828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ternative Fueled Vehic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fore buying or leasing, 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el type and avail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perating cos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formance/convenie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nergy security/renew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 Beware of Dealer-Lender Relationship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down some things that Sam could have done different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tructuring a Car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06380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Make as large a down payment as possibl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the total cost of the loan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$15,000 at 4% interest for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month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tal cost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cautious about taking on an auto loan term of 5 years or mor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eware of Car Title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risk losing your car if you cannot pay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y can be costly loa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onth: $500 loan + $100 interest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year: $500 loan + $1,200 interest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quit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value of the home minus the deb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home equity loan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lows you to borrow against the value of your hom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ounded Rectangle 4"/>
          <p:cNvSpPr/>
          <p:nvPr/>
        </p:nvSpPr>
        <p:spPr>
          <a:xfrm>
            <a:off x="2133720" y="1828800"/>
            <a:ext cx="495288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h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us debt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various types of installm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factors lenders use to make home loan decis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how federal laws protect you when applying for a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questions to ask when purchasing a 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3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Home Equity Loans Wor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raised value of home: $25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nder’s maximum loan-to-value ratio: 80%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you can borrow against the home: 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value of 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0,000 - $180,000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(existing mortgage)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$2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Straight Connector 5"/>
          <p:cNvSpPr/>
          <p:nvPr/>
        </p:nvSpPr>
        <p:spPr>
          <a:xfrm>
            <a:off x="1371600" y="358128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590920" y="3276720"/>
            <a:ext cx="312408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Home Equit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e-time loan for a lump su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ically at a fixed interest ra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ine of Credit (HELOC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ne of credit that works like a credit card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re typically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3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467480" y="46836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ing Against Your H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the advantages of taking out a home equity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wer interest rat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x-deductible intere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the danger of borrowing against your hom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ing your hom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ing more than your home is wor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ight to Rescind/Right to Canc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3 days to reconsider a signed home equity loan agreement and cancel the loan without a penalty when you use your primary home as collateral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65760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s a Line of Credit Right for You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n you afford the increased monthly payments after the introductory period ends or when interest rates rise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e you comfortable with fluctuating monthly mortgage paymen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ill you be investing your home equity in another asset of long-term valu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tallment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Loan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s used for a variety of personal expenses with no collateral require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rms: 1 to 5 year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nefits: fast approval times, lower interest rates than credit card ra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awbacks: Higher interest rates, stricter credit requiremen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fund Anticipation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rt-term loans secured by your income tax refun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fun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e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 to you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 From Yourself Firs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ish an emergency savings account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ve at least 6 months of living expens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making small, simple changes in your habits or banking practices to sav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arison Shop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must borrow money, look at both total dollar costs and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75 interest on a $500 loan for 2 weeks translates into 391% APR!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f you pay $75 to renew or roll over the $500 loan, you will owe more in fees ($525) in 14 weeks than the original loa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mergency Options for Cas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your financial institution for loan options (e.g., line of credit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ild a savings fund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3" name="Picture 7" descr="Cash"/>
          <p:cNvPicPr/>
          <p:nvPr/>
        </p:nvPicPr>
        <p:blipFill>
          <a:blip r:embed="rId1"/>
          <a:stretch/>
        </p:blipFill>
        <p:spPr>
          <a:xfrm>
            <a:off x="5791320" y="32767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nstallment loans cost less than rent-to-ow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t is important to be wary of rent-to-own, payday loans, and refund anticipation loa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uard against predatory lending practices  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6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ty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qual Credit Opportunity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ruth in Lend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Report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Debt Collection Practic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Bill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8" name="Picture 4" descr="Bank"/>
          <p:cNvPicPr/>
          <p:nvPr/>
        </p:nvPicPr>
        <p:blipFill>
          <a:blip r:embed="rId1"/>
          <a:stretch/>
        </p:blipFill>
        <p:spPr>
          <a:xfrm>
            <a:off x="6686640" y="1828800"/>
            <a:ext cx="1954080" cy="1562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How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Lending Laws Protect Yo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ing Complain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rite to the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de pertinent inform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nd copies of documents that may help explain your problem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eep the original docu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and date your lette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emembers Civil Relief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 Estate Settlement Procedur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Hou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mer Lea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248520" y="342900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des the use of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ain marketing tactic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ive collection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an terms that deceive and exploit borrow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curs in mortgage, home equity, credit card, auto lending, and payday lending marke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ubprime Lendi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ves extending credit to borrowers with a poor credit history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st predatory loans are made to subprime borrowers, but not all subprime loans are predator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nd loan fees may be higher to offset the higher costs associated with lending to these borro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Payda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mall cash advances minus the lender’s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You agree to pay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You receiv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der fees: $30 (which equals 390% AP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4" name="Picture 4" descr="Hand holding cash"/>
          <p:cNvPicPr/>
          <p:nvPr/>
        </p:nvPicPr>
        <p:blipFill>
          <a:blip r:embed="rId1"/>
          <a:stretch/>
        </p:blipFill>
        <p:spPr>
          <a:xfrm>
            <a:off x="0" y="4038480"/>
            <a:ext cx="2049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Mortgage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busive repayment penalt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ickback to brokers (yield spread premium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flipp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necessary produc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set-based lend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eering and target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tallment loa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cured and unsecured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ost of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 loans and auto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 equity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our Cs of loan deci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datory lending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n Installment Loa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loan that is repaid in equal monthly payments/installments for a specific period of tim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tems can be purchased with an installment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rnitu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usehold applian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ecured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ve lower interest rates than un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quire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Mortgages and home equity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4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35160" indent="-3351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does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e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an asset you own and pledge to the lender if you cannot repay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are unable to repay the loan and the collateral is insufficient to cover the balance, you are still responsible f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remaining balanc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y fees and interest associated with the loan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 Installment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t secured by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ougher underwriting standards than 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personal loans and private stud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9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>jkoehler</dc:creator>
  <dc:description/>
  <dc:language>en-US</dc:language>
  <cp:lastModifiedBy> </cp:lastModifiedBy>
  <dcterms:modified xsi:type="dcterms:W3CDTF">2011-01-05T17:24:56Z</dcterms:modified>
  <cp:revision>47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