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4.jpeg" ContentType="image/jpeg"/>
  <Override PartName="/ppt/media/image3.jpeg" ContentType="image/jpeg"/>
  <Override PartName="/ppt/media/image30.png" ContentType="image/png"/>
  <Override PartName="/ppt/media/image8.jpeg" ContentType="image/jpeg"/>
  <Override PartName="/ppt/media/image10.jpeg" ContentType="image/jpeg"/>
  <Override PartName="/ppt/media/image13.wmf" ContentType="image/x-wmf"/>
  <Override PartName="/ppt/media/image6.wmf" ContentType="image/x-wmf"/>
  <Override PartName="/ppt/media/image7.wmf" ContentType="image/x-wmf"/>
  <Override PartName="/ppt/media/image12.jpeg" ContentType="image/jpeg"/>
  <Override PartName="/ppt/media/image4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23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29.png" ContentType="image/png"/>
  <Override PartName="/ppt/media/image16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2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2D3-B4A9-4031-B276-50AE69D4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C05-7095-40E3-8DDB-B458DC48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762-C4A7-4EB4-AD92-28AD30B6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5D8-EC61-4621-8CBE-1D52FA9D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7FAE-4434-4144-85C2-797D8743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24C-8639-431A-9DED-7F9AD339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DB0-AB1F-4111-B52D-AA183D9E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EB3-A0A9-4F61-992D-CF42B02A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DA7-1CE2-4E72-A689-23F869DA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EFA5-39D5-4DF6-A0AF-F3CC389C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41C-6626-46C6-BEC3-A14C44B1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4A2-2386-4FB6-9C52-7979CABA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26B8-4CBD-406C-AC3B-0054FAD0A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Loan To 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EEC3-25D9-449E-816F-35BA8984A29D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oan To Own title slide with FDIC Money Smart logo and module logo including images of a car, boat, computer, diploma, and mortar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52280" y="20271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o 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st of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llar amount the loan will cost, including: interest, service charges, and loan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896040" indent="-3981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Finance charg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04000" indent="-50400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with interest rate that might change during any period of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896040" indent="-3981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Variable-rat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Folded Corner 5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st of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st of borrowing money on a yearly basi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with interest rate that stays the same throughout the term of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Fixed-rat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Folded Corner 6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tephanie took out a car loan with a 10% interest rate and paid $100 in loan application fees. What lending term reflects the interest plus the application fee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APR</a:t>
            </a:r>
            <a:r>
              <a:rPr b="0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Folded Corner 6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Arial"/>
              </a:rPr>
              <a:t>Michael took out a loan to buy a computer. He must make 24 equal payments over 2 years at 10% interest. Which lending term best describes this type of loan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Arial"/>
              </a:rPr>
              <a:t>Answer: Fixed-rate loan</a:t>
            </a:r>
            <a:r>
              <a:rPr b="0" lang="en-US" sz="2600" spc="-1" strike="noStrike">
                <a:solidFill>
                  <a:srgbClr val="132f5a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520" y="23619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vin took out a loan for a car. He must pay $3,000 in interest, service charges, and loan fees. What lending term(s) best describe(s) these cost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Variable rate loan, Finance charg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y Do Borrowers Prefer Installment Loan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lear monthly payment amount and repayment perio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wer rates than credit card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wer loan balances during loan term because payment includes princip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rchasing or Leasing a C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are some questions to ask yourself when looking for a car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get a new or used c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lease or buy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much can I afford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trade in my old c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29" name="Picture 11" descr="Blue car"/>
          <p:cNvPicPr/>
          <p:nvPr/>
        </p:nvPicPr>
        <p:blipFill>
          <a:blip r:embed="rId1"/>
          <a:stretch/>
        </p:blipFill>
        <p:spPr>
          <a:xfrm>
            <a:off x="6553080" y="3505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ar Loans Versus Car Leas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nership potentia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ear and tea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thly paymen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ileage limitat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uto insura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2" name="Picture 2" descr="Couple looking at a sticker on a car in car sales lot"/>
          <p:cNvPicPr/>
          <p:nvPr/>
        </p:nvPicPr>
        <p:blipFill>
          <a:blip r:embed="rId1"/>
          <a:stretch/>
        </p:blipFill>
        <p:spPr>
          <a:xfrm>
            <a:off x="5791320" y="1601640"/>
            <a:ext cx="213336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nancing a C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car is the collateral for the loan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title indicates who owns the car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en considering a car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Know the costs and how much you need to borro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p for the best dea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5" name="Picture 4" descr="Car and loan paperwork"/>
          <p:cNvPicPr/>
          <p:nvPr/>
        </p:nvPicPr>
        <p:blipFill>
          <a:blip r:embed="rId1"/>
          <a:stretch/>
        </p:blipFill>
        <p:spPr>
          <a:xfrm>
            <a:off x="7318440" y="304920"/>
            <a:ext cx="1825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ere to Obtain Car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838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ks/thrif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un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e compani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r dealership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8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5410080" y="1523880"/>
            <a:ext cx="266724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191120" y="20574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3049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When Dealers Offer Low Interest Rat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best deal may requir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rge down pay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rt loan term (3 years or less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cellent credit histor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ticipation fe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1" name="Picture 4" descr="Dollar sign"/>
          <p:cNvPicPr/>
          <p:nvPr/>
        </p:nvPicPr>
        <p:blipFill>
          <a:blip r:embed="rId1"/>
          <a:stretch/>
        </p:blipFill>
        <p:spPr>
          <a:xfrm>
            <a:off x="7238880" y="2209680"/>
            <a:ext cx="15004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w Interest Rat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ice of low-rate financing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dvantages of paying with cash/using your own financ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own payment required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mits on the length of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lloon payments, if due at the end of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4" name="Picture 6" descr="Question mark"/>
          <p:cNvPicPr/>
          <p:nvPr/>
        </p:nvPicPr>
        <p:blipFill>
          <a:blip r:embed="rId1"/>
          <a:stretch/>
        </p:blipFill>
        <p:spPr>
          <a:xfrm>
            <a:off x="7323120" y="457200"/>
            <a:ext cx="1515960" cy="12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pecial Promotio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rade-in allowa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mits on special offer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eaning of dealer’s invoi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7" name="Picture 7" descr="Car salesman "/>
          <p:cNvPicPr/>
          <p:nvPr/>
        </p:nvPicPr>
        <p:blipFill>
          <a:blip r:embed="rId1"/>
          <a:stretch/>
        </p:blipFill>
        <p:spPr>
          <a:xfrm>
            <a:off x="6781680" y="2209680"/>
            <a:ext cx="1684440" cy="1827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uto Service Contract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lnSpc>
                <a:spcPct val="9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promise to perform (or pay for) certain repairs or service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questions before buying auto service contract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0" name="Picture 9" descr="Car salesman helping a couple purchase a car"/>
          <p:cNvPicPr/>
          <p:nvPr/>
        </p:nvPicPr>
        <p:blipFill>
          <a:blip r:embed="rId1"/>
          <a:stretch/>
        </p:blipFill>
        <p:spPr>
          <a:xfrm>
            <a:off x="3581280" y="3048120"/>
            <a:ext cx="213228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sed Car: Warranty Protec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ok for the Buyer’s Guide sticker to indicate whether the vehicle is being sold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ith a warran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ith implied warrantie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s is”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3" name="Picture 1" descr="Buyer's Guide sticker with As Is-No Warranty or Warranty options"/>
          <p:cNvPicPr/>
          <p:nvPr/>
        </p:nvPicPr>
        <p:blipFill>
          <a:blip r:embed="rId1"/>
          <a:stretch/>
        </p:blipFill>
        <p:spPr>
          <a:xfrm>
            <a:off x="5562720" y="2438280"/>
            <a:ext cx="3200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Hybrid car with cord to charge it"/>
          <p:cNvPicPr/>
          <p:nvPr/>
        </p:nvPicPr>
        <p:blipFill>
          <a:blip r:embed="rId1"/>
          <a:stretch/>
        </p:blipFill>
        <p:spPr>
          <a:xfrm>
            <a:off x="0" y="4513320"/>
            <a:ext cx="2438280" cy="1625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lternative Fueled Vehic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189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fore buying or leasing, conside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uel type and availabili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perating cos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erformance/convenie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nergy security/renewabili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iss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 Beware of Dealer-Lender Relationship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rite down some things that Sam could have done different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tructuring a Car Loa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06380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Make as large a down payment as possibl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the total cost of the loan: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ample: $15,000 at 4% interest for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36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onth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443 </a:t>
            </a:r>
            <a:r>
              <a:rPr b="0" lang="en-US" sz="2800" spc="-1" strike="noStrike">
                <a:solidFill>
                  <a:srgbClr val="252e4e"/>
                </a:solidFill>
                <a:latin typeface="Helvetica Neue"/>
              </a:rPr>
              <a:t>versus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48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onth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339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month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tal cost: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15,948 versus $16,272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cautious about taking on an auto loan term of 5 years or mor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eware of Car Title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risk losing your car if you cannot pay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y can be costly loan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132f5a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 month: $500 loan + $100 interest ($500 x 20%) = $6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 year: $500 loan + $1,200 interest ($110 x 12) = 240% AP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quity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9907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value of the home minus the deb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</a:t>
            </a:r>
            <a:r>
              <a:rPr b="1" i="1" lang="en-US" sz="3000" spc="-1" strike="noStrike">
                <a:solidFill>
                  <a:srgbClr val="b08830"/>
                </a:solidFill>
                <a:latin typeface="Helvetica Neue"/>
              </a:rPr>
              <a:t>home equity loan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llows you to borrow against the value of your hom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ounded Rectangle 4"/>
          <p:cNvSpPr/>
          <p:nvPr/>
        </p:nvSpPr>
        <p:spPr>
          <a:xfrm>
            <a:off x="2133720" y="1828800"/>
            <a:ext cx="495288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of ho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nus debt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18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$ 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various types of installment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the factors lenders use to make home loan decis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how federal laws protect you when applying for a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the questions to ask when purchasing a c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3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Home Equity Loans Wor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560" y="1295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raised value of home: $25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ender’s maximum loan-to-value ratio: 80%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ximum you can borrow against the home: $250,000 x 80% = $20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ximum value of home equity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00,000 - $180,000 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(existing mortgage)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$2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Straight Connector 5"/>
          <p:cNvSpPr/>
          <p:nvPr/>
        </p:nvSpPr>
        <p:spPr>
          <a:xfrm>
            <a:off x="1371600" y="3581280"/>
            <a:ext cx="64771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2590920" y="3276720"/>
            <a:ext cx="3124080" cy="12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ypes of Home Equity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479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Equity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ne-time loan for a lump su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ically at a fixed interest ra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Equity Line of Credit (HELOC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ne of credit that works like a credit card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t rates are typically variab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3" name="Picture 6" descr="Circle graphic with house icon"/>
          <p:cNvPicPr/>
          <p:nvPr/>
        </p:nvPicPr>
        <p:blipFill>
          <a:blip r:embed="rId1"/>
          <a:stretch/>
        </p:blipFill>
        <p:spPr>
          <a:xfrm>
            <a:off x="7467480" y="468360"/>
            <a:ext cx="1598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orrowing Against Your Hom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are the advantages of taking out a home equity lo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wer interest rat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x-deductible intere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s the danger of borrowing against your hom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ing your hom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ing more than your home is wor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6" name="Picture 5" descr="Icon with a figure and roofline overhead"/>
          <p:cNvPicPr/>
          <p:nvPr/>
        </p:nvPicPr>
        <p:blipFill>
          <a:blip r:embed="rId1"/>
          <a:stretch/>
        </p:blipFill>
        <p:spPr>
          <a:xfrm>
            <a:off x="7315200" y="18288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ight to Rescind/Right to Canc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3 days to reconsider a signed home equity loan agreement and cancel the loan without a penalty when you use your primary home as collateral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9" name="Picture 5" descr="Person in thought with hand on chin"/>
          <p:cNvPicPr/>
          <p:nvPr/>
        </p:nvPicPr>
        <p:blipFill>
          <a:blip r:embed="rId1"/>
          <a:stretch/>
        </p:blipFill>
        <p:spPr>
          <a:xfrm>
            <a:off x="3736800" y="3657600"/>
            <a:ext cx="1597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s a Line of Credit Right for You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n you afford the increased monthly payments after the introductory period ends or when interest rates rise?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e you comfortable with fluctuating monthly mortgage payment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ill you be investing your home equity in another asset of long-term valu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nsecured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tallment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Loan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s used for a variety of personal expenses with no collateral require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rms: 1 to 5 year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nefits: fast approval times, lower interest rates than credit card rat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rawbacks: Higher interest rates, stricter credit requiremen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fund Anticipation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907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rt-term loans secured by your income tax refun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fund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ees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 - $3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ck to you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orrow From Yourself Firs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blish an emergency savings account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ve at least 6 months of living expense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making small, simple changes in your habits or banking practices to sav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88" name="Picture 4" descr="Coin falling into a piggy bank"/>
          <p:cNvPicPr/>
          <p:nvPr/>
        </p:nvPicPr>
        <p:blipFill>
          <a:blip r:embed="rId1"/>
          <a:stretch/>
        </p:blipFill>
        <p:spPr>
          <a:xfrm>
            <a:off x="3581280" y="4114800"/>
            <a:ext cx="2057400" cy="175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parison Shop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you must borrow money, look at both total dollar costs and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75 interest on a $500 loan for 2 weeks translates into 391% APR!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f you pay $75 to renew or roll over the $500 loan, you will owe more in fees ($525) in 14 weeks than the original loa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mergency Options for Cas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your financial institution for loan options (e.g., line of credit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uild a savings fund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3" name="Picture 7" descr="Cash"/>
          <p:cNvPicPr/>
          <p:nvPr/>
        </p:nvPicPr>
        <p:blipFill>
          <a:blip r:embed="rId1"/>
          <a:stretch/>
        </p:blipFill>
        <p:spPr>
          <a:xfrm>
            <a:off x="5791320" y="3276720"/>
            <a:ext cx="2666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Objective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installment loans cost less than rent-to-own servi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it is important to be wary of rent-to-own, payday loans, and refund anticipation loan servi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uard against predatory lending practices  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6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he Four C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acity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your present and future ability to meet your payment obligat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the value of your assets and your net worth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haracter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how you have paid bills or debts in the pas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ollateral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perty or assets offered to secure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umer Protection Law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qual Credit Opportunity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ruth in Lend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Credit Report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Debt Collection Practices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Credit Bill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8" name="Picture 4" descr="Bank"/>
          <p:cNvPicPr/>
          <p:nvPr/>
        </p:nvPicPr>
        <p:blipFill>
          <a:blip r:embed="rId1"/>
          <a:stretch/>
        </p:blipFill>
        <p:spPr>
          <a:xfrm>
            <a:off x="6686640" y="1828800"/>
            <a:ext cx="1954080" cy="1562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How 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Lending Laws Protect Yo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solving Complaint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6800" y="11430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rite to the Federal Deposit Insurance Corporation (FDIC)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te the probl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lude pertinent inform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nd copies of documents that may help explain your problem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Keep the original documen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and date your lette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4" name="Picture 4" descr="Figure holding a telephone handset listening to someone talk while scratching his head questioning the information received"/>
          <p:cNvPicPr/>
          <p:nvPr/>
        </p:nvPicPr>
        <p:blipFill>
          <a:blip r:embed="rId1"/>
          <a:stretch/>
        </p:blipFill>
        <p:spPr>
          <a:xfrm>
            <a:off x="7650000" y="457200"/>
            <a:ext cx="112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dditional Consumer Protection Law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rvicemembers Civil Relief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l Estate Settlement Procedures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Hous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mer Leas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7" name="Picture 4" descr="Bank, coins, credit cards, and documents"/>
          <p:cNvPicPr/>
          <p:nvPr/>
        </p:nvPicPr>
        <p:blipFill>
          <a:blip r:embed="rId1"/>
          <a:stretch/>
        </p:blipFill>
        <p:spPr>
          <a:xfrm>
            <a:off x="6248520" y="342900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ludes the use of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ertain marketing tactic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busive collection practi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an terms that deceive and exploit borrowe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ccurs in mortgage, home equity, credit card, auto lending, and payday lending marke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ubprime Lendi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olves extending credit to borrowers with a poor credit history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st predatory loans are made to subprime borrowers, but not all subprime loans are predator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t rates and loan fees may be higher to offset the higher costs associated with lending to these borro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Payday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mall cash advances minus the lender’s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ample: You agree to pay $23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You receive $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nder fees: $30 (which equals 390% AP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4" name="Picture 4" descr="Hand holding cash"/>
          <p:cNvPicPr/>
          <p:nvPr/>
        </p:nvPicPr>
        <p:blipFill>
          <a:blip r:embed="rId1"/>
          <a:stretch/>
        </p:blipFill>
        <p:spPr>
          <a:xfrm>
            <a:off x="0" y="4038480"/>
            <a:ext cx="20494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Mortgage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66680"/>
            <a:ext cx="7848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cessive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busive repayment penalti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ickback to brokers (yield spread premium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flipp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necessary produc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set-based lend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eering and target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Predatory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tallment loan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cured and unsecured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cost of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r loans and auto financ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me equity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Four Cs of loan decis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edatory lending practi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5" name="Picture 4" descr="Cashing being passed from one person's hand to another's"/>
          <p:cNvPicPr/>
          <p:nvPr/>
        </p:nvPicPr>
        <p:blipFill>
          <a:blip r:embed="rId1"/>
          <a:stretch/>
        </p:blipFill>
        <p:spPr>
          <a:xfrm>
            <a:off x="7315200" y="380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an Installment Loan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loan that is repaid in equal monthly payments/installments for a specific period of tim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tems can be purchased with an installment lo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urnitu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ute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usehold applian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ecured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ve lower interest rates than unsecured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quire collater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s: Mortgages and home equity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4" name="Picture 8" descr="Home and loan paperwork"/>
          <p:cNvPicPr/>
          <p:nvPr/>
        </p:nvPicPr>
        <p:blipFill>
          <a:blip r:embed="rId1"/>
          <a:stretch/>
        </p:blipFill>
        <p:spPr>
          <a:xfrm>
            <a:off x="3505320" y="39625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lla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35160" indent="-3351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does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ollater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me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an asset you own and pledge to the lender if you cannot repay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you are unable to repay the loan and the collateral is insufficient to cover the balance, you are still responsible f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remaining balanc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y fees and interest associated with the loan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nsecured Installment Loa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t secured by collater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ougher underwriting standards than secured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s: personal loans and private student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9" name="Picture 4" descr="Computer monitor, morar board, and diploma"/>
          <p:cNvPicPr/>
          <p:nvPr/>
        </p:nvPicPr>
        <p:blipFill>
          <a:blip r:embed="rId1"/>
          <a:stretch/>
        </p:blipFill>
        <p:spPr>
          <a:xfrm>
            <a:off x="3352680" y="390996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>jkoehler</dc:creator>
  <dc:description/>
  <dc:language>en-US</dc:language>
  <cp:lastModifiedBy> </cp:lastModifiedBy>
  <dcterms:modified xsi:type="dcterms:W3CDTF">2011-01-05T17:24:56Z</dcterms:modified>
  <cp:revision>477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D9D08CBBCD77941A885A384DB484D68</vt:lpwstr>
  </property>
</Properties>
</file>