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5AA0-7038-4344-8E9F-CF900CFC0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FE2-864E-40A2-B47F-D6BCE5AB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8FE-BB67-4402-8C51-C686E84B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7A2-72C1-4DB1-AE8D-98E47EF4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62D-BD50-4E5F-BE44-13866DC8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F2A-30F6-4EFB-8551-6FB3C39A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625A-AC79-4E67-947B-24B05AF0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6A33-648B-48C4-8E13-5E45438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8691-DBBE-4044-A2B5-759CDBC6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5EB8-F7CC-43F0-A0A6-B7C851F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02C-2099-4214-B2A2-9A1DF45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FD1-EC11-49BF-BF30-019D116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0A4-D62C-4888-9CA8-AA3FC2F8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ABD0-3EDB-400A-BEC7-E77E525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AAD-B32C-417E-BF14-3E2CE97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D2B-00CF-47C0-BC28-B97761CA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13A2-472F-480C-A912-213557D7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B38-0F8F-4767-A60E-4632CD5F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959-A40F-4BD1-A403-341622F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7DC-27C8-4C43-85C2-1AC2AC2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081-2FFF-405F-9615-48703B6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5C6-AAD7-44A6-8B64-618420A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DAF-5DA7-4114-8D58-FEF08D8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8F8-F4AE-412F-9A35-D6D0D01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D4B-39D5-424F-AC81-275CA33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C20-9CCE-4B70-BD4F-59F49F37C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EFA7-EF60-48E5-BC80-BBCAE6198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nozca sus Der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B854-86F9-45F4-9E29-7E91CCB09283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</a:rPr>
              <a:t>Conoz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52280" y="19051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s             Derech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proteger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FDIC asegura los fondos en cuentas de depósito, incluidas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corr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de ahor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entas de depósito del mercado monetario (M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32f5a"/>
                </a:solidFill>
                <a:latin typeface="Helvetica Neue"/>
              </a:rPr>
              <a:t>Certificados de Depósito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l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cobertura está basada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tegoría de titular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individu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mancomu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iertas cuenta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Monto mínimo estándar del seguro de depósitos (SMDIA), en la actualidad $250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6858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dicional sobre la cobertura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: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 representante del ban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ce la Herramienta Electrónica de Cálculo de Seguro de Depósitos: </a:t>
            </a:r>
            <a:r>
              <a:rPr b="1" lang="es-E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myfdicinsurance.gov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individ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de una persona y en la que sólo el nombre de esa persona aparece como 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mancomun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iedad de dos o más person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nombres de los cotitulares aparecen como tit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 para cada co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iertas cuentas de jubil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ólo las siguientes están aseguradas bajo esta categoría de titularida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de compensación diferida Sección 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auto dirigidas del plan de contribución defin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Keogh auto dirigidas (o plan HR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de depósito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como una cuenta pagadera al fallecer (POD) o en fideicomiso para (IT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a nombre de un fideicomiso revocable formal (cuenta de fideicomiso activo o famil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 seguro para cuentas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otorga al titular del fideicom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el número de beneficiarios y los intereses designados a cada uno, hasta el límite del seg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todos los depósitos del fideicomiso establecidos por el mismo titular en el mism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Freda Roam tiene $1,400 en una cuenta de ahorro en la entidad de ahorro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omer Stead contribuye $50 al mes a una cuenta IRA a través de su empl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990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rey y Josie depositaron $500 en una cuenta de ahorro juntos para empezar un fondo universitario para su bebé. La abuela de Marcus abrió una cuenta de ahorro con $2,500 de la cual Marcus recibirá los fondos si la abuela fall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472428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ductos de inversión no aptos para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240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FDIC no asegura los productos de inversión no aptos para depós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tiene un CD con $10,000 e invirtió $10,000 en un fondo mutuo en un banco que ha cer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s $10,000 (+ interés) para el CD están cubiertos por la FDIC, pero no los $10,000 que invirtió en el fondo mut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visos de privac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8748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exigen por ley para explicar cómo la compañía trata y compart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avis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en las pol?íticas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derecho de optar por no compartir parte d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optar por no compartir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ell phone"/>
          <p:cNvPicPr/>
          <p:nvPr/>
        </p:nvPicPr>
        <p:blipFill>
          <a:blip r:embed="rId1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el robo de identida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ladrones le roban su información personal y se hacen pasar por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no lo descubre pronto, podría enfrentarse a meses o años tratando de reparar el daño a su reputación y a su puntaje creditici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172200" y="1676520"/>
            <a:ext cx="2743200" cy="3504960"/>
            <a:chOff x="6172200" y="1676520"/>
            <a:chExt cx="2743200" cy="3504960"/>
          </a:xfrm>
        </p:grpSpPr>
        <p:sp>
          <p:nvSpPr>
            <p:cNvPr id="209" name="TextBox 4"/>
            <p:cNvSpPr/>
            <p:nvPr/>
          </p:nvSpPr>
          <p:spPr>
            <a:xfrm>
              <a:off x="6172200" y="426708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alibri"/>
                </a:rPr>
                <a:t>El robo de identidad es un grave proble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Formas comunes de robar la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856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rreos electrónicos no solicitados que parecen provenir de una fuente leg?í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itios Web falsos que buscan información personal o privada aparentando ser leg?íti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dispositivo especial de almacenaje usado para obtener números de tarjetas de crédito/déb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sobre 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isión Federal de Comercio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Computer"/>
          <p:cNvPicPr/>
          <p:nvPr/>
        </p:nvPicPr>
        <p:blipFill>
          <a:blip r:embed="rId1"/>
          <a:stretch/>
        </p:blipFill>
        <p:spPr>
          <a:xfrm>
            <a:off x="506520" y="1554120"/>
            <a:ext cx="2286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Auto evaluación de robo de identida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cada cu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cule su pun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5572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s-ES" sz="27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tc.gov/idthef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reclamación con la F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olice badge"/>
          <p:cNvPicPr/>
          <p:nvPr/>
        </p:nvPicPr>
        <p:blipFill>
          <a:blip r:embed="rId1"/>
          <a:stretch/>
        </p:blipFill>
        <p:spPr>
          <a:xfrm>
            <a:off x="7467480" y="609480"/>
            <a:ext cx="1279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erta de frau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inicial - 90 d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extendida - 7 a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osibles prestamistas deben ponerse en contacto con usted para autorizar cualquier cuenta nueva en su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loqueo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be autorizar cualquier acceso a su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Si pierde o le roban la billetera o el bolso: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87480"/>
            <a:ext cx="85345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ncele inmediatamente sus tarjetas de crédit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nga una alerta de fraude en su informe creditici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l suceso a su ban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 las compañías principales de verificación de che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btenga una nueva tarjeta de cajero automático con un número y contraseña nuev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791480" y="838080"/>
            <a:ext cx="119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l seguro federal de depósito protege los depósi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vitar el abuso financiero de may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¿Qué es el abuso financiero de mayores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zar el dinero o los activos de una persona mayor en contra de sus deseos, necesidades o intereses, y del cual se beneficia personalmente la persona que realiza el abu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Ejemplos de abuso financiero de mayor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Quitar dinero o propie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alsificar una firma o utilizar tácticas engañosas para hacer que personas mayores firmen documentos leg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propiedad o bienes sin permi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meter asistencia a cambio de dinero o propiedad y no cumplir la prome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el tele marketing para engañar a personas mayor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sibles autores de abu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ia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problemas de abuso de sustancias, apuestas o de otr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yan a hered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man que se gast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mala relación con la persona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sentimientos negativos hacia otros benefic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 marke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ién está en peligr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rsonas mayo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n aislados o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yan sufrido la pérdida de un cónyuge, animal doméstico 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enfermedad (física o 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No estén familiarizados con asun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familiares en desempleo o con problemas de abuso de sust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Cómo puede hacer que las personas mayores no estén tan expuest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bserve su estilo de vida y protéjalos donde vea que es necesari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ga preguntas para determinar su vulne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me medidas para protege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¿Qué puedo hacer para tener cuidado al contratar a un asistente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59696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uebe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 agencia de contratación tiene buena reput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s referencias del asistente han sido comprob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os cheques, tarjetas de crédito y demás de la persona mayor están seguro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ne un acuerdo por escrito de los servicios prestados y un registro de los empleados, horarios, pagos de sueldo y gast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cerca del abuso financiero de may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ervicios de Protección de Adultos de su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alud y Servicios Humanos de EE.UU. y su Localizador de Asistencia para May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Seguro: ¿Por qué es necesar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tección para usted (y su familia) de pérdidas de dinero si ocurre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tener que usar los fondos que ha reservado para otros objetivos financieros o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que tenga que acumular más deudas y tener qu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pos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vienda/alqu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au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discapac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a tercer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ar sus necesidad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 depende de ciertas circunstancia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 podría ser obligatorio en algunas situacion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miembros del servicio militar y sus famili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cómo va a tratar la compañía los temas relacionados al servicio militar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los diferentes tipos de seguro les ayudarán a manejar riesg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la necesidad de prepararse para una muerte o discapacidad inesper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ir qué pueden hacer para estar preparados para un desast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Por qué estar preparado para eventos inesperad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69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r preparad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d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duce el estrés a la hora de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ahorrar dinero y a evitar una crisis o dificult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sistencia a largo pl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finiría la asistencia a largo plaz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ito o verdad: La asistencia a largo plazo es una preocupación para personas mayor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to. La necesidad de recibir asistencia a largo plazo puede llegar a cualquier 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sastres potenci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desastres naturales o provocados por el hombre ocurren sin avisar y le pueden ocurrir a cualquiera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asos puede dar para estar preparado financieramente en caso de que ocurra un desastr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tener prepar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560" y="987120"/>
            <a:ext cx="8839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identific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quera con cheques en blanco y boletas de depósito para durarle al menos un 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ATM, débito y crédito, y efec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 de teléfono de sus institu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s de cu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ve de su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5" descr="checkbook, pen, and cash"/>
          <p:cNvPicPr/>
          <p:nvPr/>
        </p:nvPicPr>
        <p:blipFill>
          <a:blip r:embed="rId1"/>
          <a:stretch/>
        </p:blipFill>
        <p:spPr>
          <a:xfrm>
            <a:off x="7053120" y="4495680"/>
            <a:ext cx="1481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guardar y dónde guardarlo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que copias de sus documentos important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ida qué guardar en casa y qué guardar en una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los documentos importantes en bolsas de plástico o contenedores/bolsas al vacío e impermeabl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0" descr="Safe"/>
          <p:cNvPicPr/>
          <p:nvPr/>
        </p:nvPicPr>
        <p:blipFill>
          <a:blip r:embed="rId1"/>
          <a:stretch/>
        </p:blipFill>
        <p:spPr>
          <a:xfrm>
            <a:off x="6094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considera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el depósito direc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el pago automático de factur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los servicios de banca por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cobertura de segur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934320" y="609480"/>
            <a:ext cx="190476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¿Cómo de preparado está financieramente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 situación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 pre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yes y regulaciones que protegen sus depósi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obo de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o financiero de may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ipos de seguro que ayudan a controlar los 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para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19160" y="990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acerca de las leyes y regulaciones de protección al consumido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Veracidad en los Ahorr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ige a las instituciones financieras que informen de las condiciones de las cuentas de depósito (corrientes y de 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ayuda a tomar decisiones infor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Transferencia Electrónica de Fon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su responsabilidad con respecto al uso no autorizado de su tarjeta de cajero automático (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 contra errores de transferencia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ras regul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y de Disponibilidad Acelerada de Fon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el tiempo que un banco puede retener un cheque depositado en su cuenta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gulaciones del seguro de depósito de la 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 los fondos en sus cuentas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1: Leyes y regulaciones de las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é listo para explicar su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28:17Z</dcterms:modified>
  <cp:revision>64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