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6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7.jpeg" ContentType="image/jpeg"/>
  <Override PartName="/ppt/media/image5.wmf" ContentType="image/x-wmf"/>
  <Override PartName="/ppt/media/image27.jpeg" ContentType="image/jpeg"/>
  <Override PartName="/ppt/media/image7.jpeg" ContentType="image/jpeg"/>
  <Override PartName="/ppt/media/image28.jpeg" ContentType="image/jpeg"/>
  <Override PartName="/ppt/media/image18.png" ContentType="image/png"/>
  <Override PartName="/ppt/media/image19.jpeg" ContentType="image/jpeg"/>
  <Override PartName="/ppt/media/image6.wmf" ContentType="image/x-wmf"/>
  <Override PartName="/ppt/media/image29.wmf" ContentType="image/x-wmf"/>
  <Override PartName="/ppt/media/image10.jpeg" ContentType="image/jpeg"/>
  <Override PartName="/ppt/media/image8.jpeg" ContentType="image/jpeg"/>
  <Override PartName="/ppt/media/image11.jpeg" ContentType="image/jpeg"/>
  <Override PartName="/ppt/media/image31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5.wmf" ContentType="image/x-wmf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22.jpeg" ContentType="image/jpeg"/>
  <Override PartName="/ppt/media/image9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2BD4-7A18-4E5E-A22E-3DABB34E6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BC57-190A-401C-97BF-C2E850F4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DDF1-4453-4DAE-8753-367991A3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E8DE-249C-481D-8A17-3BE3CD1E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1AA-9E72-4EF3-BFE5-F2041096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88CE-A27E-4506-B300-19B17F6E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FA19-8645-4A38-9F86-05330BEB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CD4E-78FB-49F3-A8D0-A79E57B1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1AE6-73F9-44CF-91A8-EABDA8AC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F338-5DDD-49E9-9231-1016E2BD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E9E2-236C-40E7-97DF-6BC09BBB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700C-068B-44FA-B27D-454D6620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5DD8-AA9D-4D74-9ACF-A26A9AEF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3645-C404-4E3D-8429-2F3875E6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03EC-2314-46B3-B673-DA920C1E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A258-7E4D-45E5-B394-12F4FEBA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07FF-C7BF-465C-BAB3-3BE5DAE1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D6A6-C830-49F9-8889-4EA7EBDB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D70-B1AA-472C-99A9-1D8F323A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DF48-DA41-468C-AEF2-9C19A2C3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3466-93FC-455D-ADB1-14BB1D9F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DE2-E4CE-4000-8679-9DD0A2A4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F71-ED2C-4DA0-8052-0693944C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6D75-2221-4814-ABA6-30A0DFDC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3FC3-C27A-4546-ACA1-9CC3DF9F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B729-1C47-4AEF-AD73-75677A67A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CC74-B2E1-44F6-8048-8659C5CDE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onozca sus Dere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88F8-AE35-434A-94CD-0185C4C04797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Keep It Safe title slide with FDIC Money Smart logo and module logo of a sa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</a:rPr>
              <a:t>Conoz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152280" y="190512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us             Derech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ómo proteger cuentas de depós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560" y="987480"/>
            <a:ext cx="70102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876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 FDIC asegura los fondos en cuentas de depósito, incluidas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entas corri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entas de ahor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uentas de depósito del mercado monetario (MM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32f5a"/>
                </a:solidFill>
                <a:latin typeface="Helvetica Neue"/>
              </a:rPr>
              <a:t>Certificados de Depósito (C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Person filling out a check"/>
          <p:cNvPicPr/>
          <p:nvPr/>
        </p:nvPicPr>
        <p:blipFill>
          <a:blip r:embed="rId1"/>
          <a:stretch/>
        </p:blipFill>
        <p:spPr>
          <a:xfrm>
            <a:off x="6594480" y="1905120"/>
            <a:ext cx="23209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bertura del segur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cobertura está basada e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tegoría de titulari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52360" indent="-2822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individu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52360" indent="-2822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mancomun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52360" indent="-2822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 fideicomiso revo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52360" indent="-2822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iertas cuenta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Monto mínimo estándar del seguro de depósitos (SMDIA), en la actualidad $250,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7" descr="Older couple reviewing information on a laptop"/>
          <p:cNvPicPr/>
          <p:nvPr/>
        </p:nvPicPr>
        <p:blipFill>
          <a:blip r:embed="rId1"/>
          <a:stretch/>
        </p:blipFill>
        <p:spPr>
          <a:xfrm>
            <a:off x="6781680" y="685800"/>
            <a:ext cx="16765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Información adicional sobre la cobertura de segur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e: 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fdic.gov/deposit/deposi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: 1-877-ASK-FD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ble con su representante del ban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Utilice la Herramienta Electrónica de Cálculo de Seguro de Depósitos: </a:t>
            </a:r>
            <a:r>
              <a:rPr b="1" lang="es-ES" sz="3000" spc="-1" strike="noStrike" u="sng">
                <a:solidFill>
                  <a:srgbClr val="132f5a"/>
                </a:solidFill>
                <a:uFillTx/>
                <a:latin typeface="Helvetica Neue"/>
              </a:rPr>
              <a:t>www.myfdicinsurance.gov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uenta individ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87480"/>
            <a:ext cx="6477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opiedad de una persona y en la que sólo el nombre de esa persona aparece como titula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e asegura hasta el SMD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Man using ATM"/>
          <p:cNvPicPr/>
          <p:nvPr/>
        </p:nvPicPr>
        <p:blipFill>
          <a:blip r:embed="rId1"/>
          <a:stretch/>
        </p:blipFill>
        <p:spPr>
          <a:xfrm>
            <a:off x="7062840" y="1603440"/>
            <a:ext cx="1776240" cy="266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uenta mancomuna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piedad de dos o más persona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nombres de los cotitulares aparecen como titula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e asegura hasta el SMDIA para cada cotitula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A couple reviews financial information with a financial professional "/>
          <p:cNvPicPr/>
          <p:nvPr/>
        </p:nvPicPr>
        <p:blipFill>
          <a:blip r:embed="rId1"/>
          <a:stretch/>
        </p:blipFill>
        <p:spPr>
          <a:xfrm>
            <a:off x="3200400" y="3809880"/>
            <a:ext cx="2587680" cy="1722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iertas cuentas de jubilaci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ólo las siguientes están aseguradas bajo esta categoría de titularidad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 jubilación individuales (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l plan de compensación diferida Sección 4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auto dirigidas del plan de contribución defin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l plan Keogh auto dirigidas (o plan HR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uenta de fideicomiso revocabl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987480"/>
            <a:ext cx="66294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64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7760" indent="-6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de depósito qu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establece como una cuenta pagadera al fallecer (POD) o en fideicomiso para (IT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establece a nombre de un fideicomiso revocable formal (cuenta de fideicomiso activo o famil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Man pushing his daughter in a swing"/>
          <p:cNvPicPr/>
          <p:nvPr/>
        </p:nvPicPr>
        <p:blipFill>
          <a:blip r:embed="rId1"/>
          <a:stretch/>
        </p:blipFill>
        <p:spPr>
          <a:xfrm>
            <a:off x="7086600" y="1905120"/>
            <a:ext cx="18288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bertura de seguro para cuentas de fideicomiso revocabl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9356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obertura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otorga al titular del fideicomi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basa en el número de beneficiarios y los intereses designados a cada uno, hasta el límite del segu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basa en todos los depósitos del fideicomiso establecidos por el mismo titular en el mismo b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la cuen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4176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Freda Roam tiene $1,400 en una cuenta de ahorro en la entidad de ahorro Sawmill Savings &amp; Lo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Homer Stead contribuye $50 al mes a una cuenta IRA a través de su emple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arallelogram 3"/>
          <p:cNvSpPr/>
          <p:nvPr/>
        </p:nvSpPr>
        <p:spPr>
          <a:xfrm>
            <a:off x="533520" y="990720"/>
            <a:ext cx="7924680" cy="1523880"/>
          </a:xfrm>
          <a:prstGeom prst="parallelogram">
            <a:avLst>
              <a:gd name="adj" fmla="val -23769"/>
            </a:avLst>
          </a:prstGeom>
          <a:solidFill>
            <a:srgbClr val="447e32"/>
          </a:solidFill>
          <a:ln w="25560">
            <a:solidFill>
              <a:srgbClr val="3d712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Notched Right Arrow 4"/>
          <p:cNvSpPr/>
          <p:nvPr/>
        </p:nvSpPr>
        <p:spPr>
          <a:xfrm rot="19931400">
            <a:off x="27000" y="2230560"/>
            <a:ext cx="1676520" cy="53316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5800 h 533160"/>
              <a:gd name="textAreaBottom" fmla="*/ 3873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1905120" y="14479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ierta cuenta de jubilación (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281952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ideicomiso revo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1447920" y="990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4724280" y="9907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mancomu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la cuen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4176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rey y Josie depositaron $500 en una cuenta de ahorro juntos para empezar un fondo universitario para su bebé. La abuela de Marcus abrió una cuenta de ahorro con $2,500 de la cual Marcus recibirá los fondos si la abuela falle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arallelogram 5"/>
          <p:cNvSpPr/>
          <p:nvPr/>
        </p:nvSpPr>
        <p:spPr>
          <a:xfrm>
            <a:off x="533520" y="990720"/>
            <a:ext cx="7924680" cy="1523880"/>
          </a:xfrm>
          <a:prstGeom prst="parallelogram">
            <a:avLst>
              <a:gd name="adj" fmla="val -23769"/>
            </a:avLst>
          </a:prstGeom>
          <a:solidFill>
            <a:srgbClr val="447e32"/>
          </a:solidFill>
          <a:ln w="25560">
            <a:solidFill>
              <a:srgbClr val="3d712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Notched Right Arrow 6"/>
          <p:cNvSpPr/>
          <p:nvPr/>
        </p:nvSpPr>
        <p:spPr>
          <a:xfrm rot="19931400">
            <a:off x="27000" y="2230560"/>
            <a:ext cx="1676520" cy="53316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5800 h 533160"/>
              <a:gd name="textAreaBottom" fmla="*/ 3873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1905120" y="14479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ierta cuenta de jubilación (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281952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ideicomiso revo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9"/>
          <p:cNvSpPr/>
          <p:nvPr/>
        </p:nvSpPr>
        <p:spPr>
          <a:xfrm>
            <a:off x="1447920" y="990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4724280" y="9907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mancomu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ienv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oductos de inversión no aptos para depós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292400"/>
            <a:ext cx="81532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FDIC no asegura los productos de inversión no aptos para depós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obert tiene un CD con $10,000 e invirtió $10,000 en un fondo mutuo en un banco que ha cer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s $10,000 (+ interés) para el CD están cubiertos por la FDIC, pero no los $10,000 que invirtió en el fondo mutu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visos de privac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987480"/>
            <a:ext cx="84582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1480" indent="-3204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 exigen por ley para explicar cómo la compañía trata y comparte su información financiera personal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pos de aviso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iso de privacidad in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iso de privacidad 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iso de cambios en las pol?íticas de priv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9" descr="Notice and envelop"/>
          <p:cNvPicPr/>
          <p:nvPr/>
        </p:nvPicPr>
        <p:blipFill>
          <a:blip r:embed="rId1"/>
          <a:stretch/>
        </p:blipFill>
        <p:spPr>
          <a:xfrm>
            <a:off x="6095880" y="3124080"/>
            <a:ext cx="184464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ar por no compartir información pers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ene derecho de optar por no compartir parte de su información financiera personal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ra optar por no compartir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e 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Cell phone"/>
          <p:cNvPicPr/>
          <p:nvPr/>
        </p:nvPicPr>
        <p:blipFill>
          <a:blip r:embed="rId1"/>
          <a:stretch/>
        </p:blipFill>
        <p:spPr>
          <a:xfrm>
            <a:off x="7086600" y="2819520"/>
            <a:ext cx="14000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¿Qué es el robo de identida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21932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ladrones le roban su información personal y se hacen pasar por 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no lo descubre pronto, podría enfrentarse a meses o años tratando de reparar el daño a su reputación y a su puntaje crediticio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6172200" y="1676520"/>
            <a:ext cx="2743200" cy="3504960"/>
            <a:chOff x="6172200" y="1676520"/>
            <a:chExt cx="2743200" cy="3504960"/>
          </a:xfrm>
        </p:grpSpPr>
        <p:sp>
          <p:nvSpPr>
            <p:cNvPr id="209" name="TextBox 4"/>
            <p:cNvSpPr/>
            <p:nvPr/>
          </p:nvSpPr>
          <p:spPr>
            <a:xfrm>
              <a:off x="6172200" y="4267080"/>
              <a:ext cx="2743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2060"/>
                  </a:solidFill>
                  <a:latin typeface="Calibri"/>
                </a:rPr>
                <a:t>El robo de identidad es un grave problem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6172200" y="1676520"/>
              <a:ext cx="2590920" cy="3504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Picture 10" descr="Theif holding cash and credit card"/>
          <p:cNvPicPr/>
          <p:nvPr/>
        </p:nvPicPr>
        <p:blipFill>
          <a:blip r:embed="rId1"/>
          <a:stretch/>
        </p:blipFill>
        <p:spPr>
          <a:xfrm>
            <a:off x="6607080" y="1841400"/>
            <a:ext cx="1752840" cy="2401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25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Formas comunes de robar la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88560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5520" indent="-334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ish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rreos electrónicos no solicitados que parecen provenir de una fuente leg?íti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520" indent="-334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arm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itios Web falsos que buscan información personal o privada aparentando ser leg?ítim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520" indent="-334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kimm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dispositivo especial de almacenaje usado para obtener números de tarjetas de crédito/déb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Información sobre 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819520" y="1874520"/>
            <a:ext cx="5943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8320" indent="-327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isión Federal de Comercio (FTC)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ww.ftc.gov/id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3272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Computer"/>
          <p:cNvPicPr/>
          <p:nvPr/>
        </p:nvPicPr>
        <p:blipFill>
          <a:blip r:embed="rId1"/>
          <a:stretch/>
        </p:blipFill>
        <p:spPr>
          <a:xfrm>
            <a:off x="506520" y="1554120"/>
            <a:ext cx="22860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ctividad 2: Auto evaluación de robo de identidad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cada cu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lcule su punt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Víctimas d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8240" y="85572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ome medidas inmediata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policí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con sus acreedo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Haga un seguimiento por escri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la Declaración de Robo de Identidad en </a:t>
            </a:r>
            <a:r>
              <a:rPr b="0" lang="es-ES" sz="27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ftc.gov/idthef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reclamación con la FT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Pida un comprobante de que las cuentas disputadas han sido cerradas y que las deudas fraudulentas se han liquidad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Police badge"/>
          <p:cNvPicPr/>
          <p:nvPr/>
        </p:nvPicPr>
        <p:blipFill>
          <a:blip r:embed="rId1"/>
          <a:stretch/>
        </p:blipFill>
        <p:spPr>
          <a:xfrm>
            <a:off x="7467480" y="609480"/>
            <a:ext cx="12798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010280" y="457200"/>
            <a:ext cx="2013120" cy="14479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lerta de frau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erta de fraude inicial - 90 dí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erta de fraude extendida - 7 añ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posibles prestamistas deben ponerse en contacto con usted para autorizar cualquier cuenta nueva en su no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loqueo de segur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debe autorizar cualquier acceso a su informe credit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</a:rPr>
              <a:t>Si pierde o le roban la billetera o el bolso: 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987480"/>
            <a:ext cx="853452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8760" indent="-3373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policí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ncele inmediatamente sus tarjetas de crédito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onga una alerta de fraude en su informe crediticio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Informe del suceso a su banc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mun?íquese con las compañías principales de verificación de che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Obtenga una nueva tarjeta de cajero automático con un número y contraseña nuev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Wallet with cash and cards"/>
          <p:cNvPicPr/>
          <p:nvPr/>
        </p:nvPicPr>
        <p:blipFill>
          <a:blip r:embed="rId1"/>
          <a:stretch/>
        </p:blipFill>
        <p:spPr>
          <a:xfrm>
            <a:off x="7791480" y="838080"/>
            <a:ext cx="1193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el seguro federal de depósito protege los depósit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protegerse del robo de ident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evitar el abuso financiero de mayo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2" descr="Figure of a person holding a bag of money"/>
          <p:cNvPicPr/>
          <p:nvPr/>
        </p:nvPicPr>
        <p:blipFill>
          <a:blip r:embed="rId1"/>
          <a:stretch/>
        </p:blipFill>
        <p:spPr>
          <a:xfrm>
            <a:off x="8305920" y="366840"/>
            <a:ext cx="6858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</a:rPr>
              <a:t>¿Qué es el abuso financiero de mayores?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76360" y="141768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1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tilizar el dinero o los activos de una persona mayor en contra de sus deseos, necesidades o intereses, y del cual se beneficia personalmente la persona que realiza el abus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1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Elderly couple looking at their finances"/>
          <p:cNvPicPr/>
          <p:nvPr/>
        </p:nvPicPr>
        <p:blipFill>
          <a:blip r:embed="rId1"/>
          <a:stretch/>
        </p:blipFill>
        <p:spPr>
          <a:xfrm>
            <a:off x="533520" y="1600200"/>
            <a:ext cx="2581200" cy="3333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8390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</a:rPr>
              <a:t>Ejemplos de abuso financiero de mayore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Quitar dinero o propie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Falsificar una firma o utilizar tácticas engañosas para hacer que personas mayores firmen documentos lega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Utilizar propiedad o bienes sin permis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ometer asistencia a cambio de dinero o propiedad y no cumplir la promes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Utilizar el tele marketing para engañar a personas mayor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osibles autores de abus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iares que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ngan problemas de abuso de sustancias, apuestas o de otro 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yan a heredar d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man que se gaste la h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ngan una mala relación con la persona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ngan sentimientos negativos hacia otros benefici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 marke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Quién está en peligr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rsonas mayores que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tén aislados o s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Hayan sufrido la pérdida de un cónyuge, animal doméstico o 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ngan una enfermedad (física o me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No estén familiarizados con asunt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ngan familiares en desempleo o con problemas de abuso de susta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Older gentleman "/>
          <p:cNvPicPr/>
          <p:nvPr/>
        </p:nvPicPr>
        <p:blipFill>
          <a:blip r:embed="rId1"/>
          <a:stretch/>
        </p:blipFill>
        <p:spPr>
          <a:xfrm>
            <a:off x="6705720" y="457200"/>
            <a:ext cx="19666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¿Cómo puede hacer que las personas mayores no estén tan expuesta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bserve su estilo de vida y protéjalos donde vea que es necesario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Haga preguntas para determinar su vulnerabil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me medidas para proteger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11" descr="Younger person holding the hand of an elderly person"/>
          <p:cNvPicPr/>
          <p:nvPr/>
        </p:nvPicPr>
        <p:blipFill>
          <a:blip r:embed="rId1"/>
          <a:stretch/>
        </p:blipFill>
        <p:spPr>
          <a:xfrm>
            <a:off x="3276720" y="4267080"/>
            <a:ext cx="2398680" cy="1598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</a:rPr>
              <a:t>¿Qué puedo hacer para tener cuidado al contratar a un asistente?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596960"/>
            <a:ext cx="84582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ruebe qu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330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La agencia de contratación tiene buena reput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330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Las referencias del asistente han sido comprob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Los cheques, tarjetas de crédito y demás de la persona mayor están seguro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Tiene un acuerdo por escrito de los servicios prestados y un registro de los empleados, horarios, pagos de sueldo y gast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Información acerca del abuso financiero de may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00960" indent="-299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0960" indent="-299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un?íquese con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departamento de Servicios de Protección de Adultos de su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Departamento de Salud y Servicios Humanos de EE.UU. y su Localizador de Asistencia para Mayor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eldercare.gov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1-800-677-11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Seguro: ¿Por qué es necesari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-61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6120" indent="-6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seguro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protección para usted (y su familia) de pérdidas de dinero si ocurre lo inesp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ita tener que usar los fondos que ha reservado para otros objetivos financieros o emerg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ita que tenga que acumular más deudas y tener que tomar dinero pr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ipos de segur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2924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de vi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médi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de vivienda/alqui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de au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de discapac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a tercer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Determinar sus necesidad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obertura depende de ciertas circunstancia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seguro podría ser obligatorio en algunas situacion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miembros del servicio militar y sus familia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cómo va a tratar la compañía los temas relacionados al servicio militar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los diferentes tipos de seguro les ayudarán a manejar riesg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la necesidad de prepararse para una muerte o discapacidad inesperada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ir qué pueden hacer para estar preparados para un desast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2" descr="Figure of a person holding a bag of money"/>
          <p:cNvPicPr/>
          <p:nvPr/>
        </p:nvPicPr>
        <p:blipFill>
          <a:blip r:embed="rId1"/>
          <a:stretch/>
        </p:blipFill>
        <p:spPr>
          <a:xfrm>
            <a:off x="8305920" y="366840"/>
            <a:ext cx="6858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Por qué estar preparado para eventos inesperado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5969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ar preparado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da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duce el estrés a la hora de tomar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yuda a ahorrar dinero y a evitar una crisis o dificultad financi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Woman looking ahead"/>
          <p:cNvPicPr/>
          <p:nvPr/>
        </p:nvPicPr>
        <p:blipFill>
          <a:blip r:embed="rId1"/>
          <a:stretch/>
        </p:blipFill>
        <p:spPr>
          <a:xfrm>
            <a:off x="7086600" y="1447920"/>
            <a:ext cx="16700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sistencia a largo plaz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98748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definiría la asistencia a largo plaz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ito o verdad: La asistencia a largo plazo es una preocupación para personas mayor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ito. La necesidad de recibir asistencia a largo plazo puede llegar a cualquier ed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Woman helping an elderly woman with her medication"/>
          <p:cNvPicPr/>
          <p:nvPr/>
        </p:nvPicPr>
        <p:blipFill>
          <a:blip r:embed="rId1"/>
          <a:stretch/>
        </p:blipFill>
        <p:spPr>
          <a:xfrm>
            <a:off x="3276720" y="4191120"/>
            <a:ext cx="24318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Desastres potenci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987480"/>
            <a:ext cx="61722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8320" indent="-32724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8320" indent="-3272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desastres naturales o provocados por el hombre ocurren sin avisar y le pueden ocurrir a cualquiera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8320" indent="-3272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asos puede dar para estar preparado financieramente en caso de que ocurra un desastr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Flood water around a sign stating &quot;Danger end of storm drain&quot;"/>
          <p:cNvPicPr/>
          <p:nvPr/>
        </p:nvPicPr>
        <p:blipFill>
          <a:blip r:embed="rId1"/>
          <a:stretch/>
        </p:blipFill>
        <p:spPr>
          <a:xfrm>
            <a:off x="6934320" y="1600200"/>
            <a:ext cx="175572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Qué debe tener prepara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560" y="987120"/>
            <a:ext cx="88390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pos de identifica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hequera con cheques en blanco y boletas de depósito para durarle al menos un m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ATM, débito y crédito, y efectiv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úmero de teléfono de sus institucion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úmeros de cuent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ve de su caja de segur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15" descr="checkbook, pen, and cash"/>
          <p:cNvPicPr/>
          <p:nvPr/>
        </p:nvPicPr>
        <p:blipFill>
          <a:blip r:embed="rId1"/>
          <a:stretch/>
        </p:blipFill>
        <p:spPr>
          <a:xfrm>
            <a:off x="7053120" y="4495680"/>
            <a:ext cx="14814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Qué debe guardar y dónde guardarlo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880" y="12193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aque copias de sus documentos important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cida qué guardar en casa y qué guardar en una caja de segur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los documentos importantes en bolsas de plástico o contenedores/bolsas al vacío e impermeabl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0" descr="Safe"/>
          <p:cNvPicPr/>
          <p:nvPr/>
        </p:nvPicPr>
        <p:blipFill>
          <a:blip r:embed="rId1"/>
          <a:stretch/>
        </p:blipFill>
        <p:spPr>
          <a:xfrm>
            <a:off x="609480" y="50292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Qué debe considerar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2360" indent="-34092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scríbase en el depósito direc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zca el pago automático de factur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scríbase en los servicios de banca por Inter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vise su cobertura de seguro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8" descr="Beginning of url address &quot;http://www&quot;"/>
          <p:cNvPicPr/>
          <p:nvPr/>
        </p:nvPicPr>
        <p:blipFill>
          <a:blip r:embed="rId1"/>
          <a:stretch/>
        </p:blipFill>
        <p:spPr>
          <a:xfrm>
            <a:off x="6934320" y="609480"/>
            <a:ext cx="1904760" cy="1251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3: ¿Cómo de preparado está financieramente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3 en la Guía para los Participant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su situación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ponda a la pregu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preguntas adicionales tiene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han aprendid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¿Cómo evaluarían el curso de capacitació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n aprendido acerca 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yes y regulaciones que protegen sus depósi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obo de ident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buso financiero de may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ipos de seguro que ayudan a controlar los riesg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eparación financ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Money being passed from one hand to another's"/>
          <p:cNvPicPr/>
          <p:nvPr/>
        </p:nvPicPr>
        <p:blipFill>
          <a:blip r:embed="rId1"/>
          <a:stretch/>
        </p:blipFill>
        <p:spPr>
          <a:xfrm>
            <a:off x="7238880" y="3808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819160" y="990360"/>
            <a:ext cx="556236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acerca de las leyes y regulaciones de protección al consumidor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Ley de Veracidad en los Ahorr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7616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ige a las instituciones financieras que informen de las condiciones de las cuentas de depósito (corrientes y de ahor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ayuda a tomar decisiones infor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Terms and conditions document with eye glasses and a pen"/>
          <p:cNvPicPr/>
          <p:nvPr/>
        </p:nvPicPr>
        <p:blipFill>
          <a:blip r:embed="rId1"/>
          <a:stretch/>
        </p:blipFill>
        <p:spPr>
          <a:xfrm>
            <a:off x="5638680" y="1676520"/>
            <a:ext cx="2895840" cy="2689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Ley de Transferencia Electrónica de Fon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520" y="182880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85560" indent="-27432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mita su responsabilidad con respecto al uso no autorizado de su tarjeta de cajero automático (A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tege contra errores de transferencia electró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Person placing card in ATM"/>
          <p:cNvPicPr/>
          <p:nvPr/>
        </p:nvPicPr>
        <p:blipFill>
          <a:blip r:embed="rId1"/>
          <a:stretch/>
        </p:blipFill>
        <p:spPr>
          <a:xfrm>
            <a:off x="990720" y="1676520"/>
            <a:ext cx="2286000" cy="3120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tras regulacion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4640" indent="-313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4640" indent="-313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y de Disponibilidad Acelerada de Fond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676080" indent="-255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mita el tiempo que un banco puede retener un cheque depositado en su cuenta corr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640" indent="-313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gulaciones del seguro de depósito de la FD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676080" indent="-255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egura los fondos en sus cuentas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640" indent="-313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ctividad 1: Leyes y regulaciones de las cuentas de depós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a cada situación plante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é listo para explicar su respu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 NTI</cp:lastModifiedBy>
  <dcterms:modified xsi:type="dcterms:W3CDTF">2011-03-09T20:28:17Z</dcterms:modified>
  <cp:revision>647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