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6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6.jpeg" ContentType="image/jpeg"/>
  <Override PartName="/ppt/media/image21.jpeg" ContentType="image/jpeg"/>
  <Override PartName="/ppt/media/image20.jpeg" ContentType="image/jpeg"/>
  <Override PartName="/ppt/media/image17.jpeg" ContentType="image/jpeg"/>
  <Override PartName="/ppt/media/image5.wmf" ContentType="image/x-wmf"/>
  <Override PartName="/ppt/media/image27.jpeg" ContentType="image/jpeg"/>
  <Override PartName="/ppt/media/image7.jpeg" ContentType="image/jpeg"/>
  <Override PartName="/ppt/media/image28.jpeg" ContentType="image/jpeg"/>
  <Override PartName="/ppt/media/image18.png" ContentType="image/png"/>
  <Override PartName="/ppt/media/image19.jpeg" ContentType="image/jpeg"/>
  <Override PartName="/ppt/media/image6.wmf" ContentType="image/x-wmf"/>
  <Override PartName="/ppt/media/image29.wmf" ContentType="image/x-wmf"/>
  <Override PartName="/ppt/media/image10.jpeg" ContentType="image/jpeg"/>
  <Override PartName="/ppt/media/image8.jpeg" ContentType="image/jpeg"/>
  <Override PartName="/ppt/media/image11.jpeg" ContentType="image/jpeg"/>
  <Override PartName="/ppt/media/image31.jpeg" ContentType="image/jpeg"/>
  <Override PartName="/ppt/media/image32.png" ContentType="image/png"/>
  <Override PartName="/ppt/media/image1.jpeg" ContentType="image/jpeg"/>
  <Override PartName="/ppt/media/image33.png" ContentType="image/png"/>
  <Override PartName="/ppt/media/image15.wmf" ContentType="image/x-wmf"/>
  <Override PartName="/ppt/media/image14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22.jpeg" ContentType="image/jpeg"/>
  <Override PartName="/ppt/media/image9.png" ContentType="image/pn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1EFC5-A9B0-4E18-8187-3BB2FC095B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E5C3D-1EBF-4F34-B726-3A5D87F65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FAA46-71E9-49FD-A5EB-A60101132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EB8F2-1070-4DE8-A709-E34D42066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1BBE4-A38E-43DA-8514-ED7DDFF4D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869AE-05A0-4F20-A56A-63D682E25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FF61E-3CF2-40FC-BE1E-FB42C8B9D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F62D7-9FAA-4319-B602-1CD300AC3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AE593-6707-4C0A-9864-7ABBFCEE7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0F1C-CE79-4E66-84AC-758E6973C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A4BB-A837-4AD1-9C49-8724D1B7A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1060-2700-4832-8F4E-449539081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17AC-E955-435C-A5D3-0B841941F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30473-CF16-4808-AC56-CB046D6FD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5DA39-F928-4B33-B186-D1A1F212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F9E27-59E1-4F24-ADA7-E5B7E9E06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EDA48-FE98-4C9E-8E81-D7504598F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76AC9-8169-4F97-8A4B-19BA2CF97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89ACD-0FDE-4010-8E05-2E44106B0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59BDB-FC48-4EFE-B412-601EFFEA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EF82-1042-47B2-BFF2-B6EDB4CE4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83CA7-6BFA-491C-B09F-0268488E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8DBB6-0904-43D0-A805-CD7F17FE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ADE67-6E36-43E0-B818-0CE8107FD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71915-3BED-428C-9B85-E6E42FD1C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1D7E2-CF82-42DD-9F78-D190F41CB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9F01-9BED-44C8-A4A9-BFF539215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493E-045D-4AC0-AF2F-2333D8570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3F21-CB29-4E10-AF4D-12055FBA5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BF93-B809-4CC0-A7A7-0D28EBE6C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3157-2D1D-4A56-BF61-A94881AE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D49C-7D85-4CD3-8AA0-E2ADDCAE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62A1-0534-4845-9D9B-F8A11CB3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91D85-2661-4204-BE38-DFD2A03C86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6DA4D-367A-4606-803A-C7972CB989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Box 7"/>
          <p:cNvSpPr/>
          <p:nvPr/>
        </p:nvSpPr>
        <p:spPr>
          <a:xfrm>
            <a:off x="6781680" y="64008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Keep It Saf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5E6FE-29BE-4773-A6EE-E6B28F82C420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fdic.gov/deposit/deposits" TargetMode="External"/><Relationship Id="rId2" Type="http://schemas.openxmlformats.org/officeDocument/2006/relationships/hyperlink" Target="http://www.myfdicinsurance.gov/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optoutprescreen.com/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ftc.gov/idtheft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ftc.gov/idtheft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eldercare.gov/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Keep It Safe title slide with FDIC Money Smart logo and module logo of a saf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TextBox 5"/>
          <p:cNvSpPr/>
          <p:nvPr/>
        </p:nvSpPr>
        <p:spPr>
          <a:xfrm>
            <a:off x="228600" y="838080"/>
            <a:ext cx="4419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c1961c"/>
                </a:solidFill>
                <a:latin typeface="Helvetica Neue"/>
              </a:rPr>
              <a:t>Keep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219240" y="2057400"/>
            <a:ext cx="426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It Safe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rotecting Deposit Accou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6840" y="987480"/>
            <a:ext cx="701028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8760" indent="-3373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8760" indent="-337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DIC insures funds in deposit accounts, including: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heck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Savin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Money Market Deposit Accounts (MMD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ertificates of Deposit (C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Person filling out a check"/>
          <p:cNvPicPr/>
          <p:nvPr/>
        </p:nvPicPr>
        <p:blipFill>
          <a:blip r:embed="rId1"/>
          <a:stretch/>
        </p:blipFill>
        <p:spPr>
          <a:xfrm>
            <a:off x="6594480" y="1905120"/>
            <a:ext cx="2320920" cy="2514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nsurance Coverag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verage is based on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Ownership catego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87520" indent="-2826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ingle accou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87520" indent="-2826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Joint ac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87520" indent="-2826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vocable trust ac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87520" indent="-2826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ertain retirement ac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Standard Maximum Deposit Insurance Amount (SMDIA), currently $25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7" descr="Older couple reviewing information on a laptop"/>
          <p:cNvPicPr/>
          <p:nvPr/>
        </p:nvPicPr>
        <p:blipFill>
          <a:blip r:embed="rId1"/>
          <a:stretch/>
        </p:blipFill>
        <p:spPr>
          <a:xfrm>
            <a:off x="6781680" y="1371600"/>
            <a:ext cx="1676520" cy="2514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dditional Insurance Coverage Inform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Visit: </a:t>
            </a:r>
            <a:r>
              <a:rPr b="1" lang="en-US" sz="3000" spc="-1" strike="noStrike" u="sng">
                <a:solidFill>
                  <a:srgbClr val="0000ff"/>
                </a:solidFill>
                <a:uFillTx/>
                <a:latin typeface="Helvetica Neue"/>
                <a:ea typeface="Arial"/>
                <a:hlinkClick r:id="rId1"/>
              </a:rPr>
              <a:t>www.fdic.gov/deposit/deposit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all: 1-877-ASK-FDIC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alk to your bank representativ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Use the Electronic Deposit Insurance Estimator: </a:t>
            </a:r>
            <a:r>
              <a:rPr b="1" lang="en-US" sz="3000" spc="-1" strike="noStrike" u="sng">
                <a:solidFill>
                  <a:srgbClr val="0000ff"/>
                </a:solidFill>
                <a:uFillTx/>
                <a:latin typeface="Helvetica Neue"/>
                <a:hlinkClick r:id="rId2"/>
              </a:rPr>
              <a:t>www.myfdicinsurance.gov</a:t>
            </a:r>
            <a:r>
              <a:rPr b="1" lang="en-US" sz="3000" spc="-1" strike="noStrike" u="sng">
                <a:solidFill>
                  <a:srgbClr val="132f5a"/>
                </a:solidFill>
                <a:uFillTx/>
                <a:latin typeface="Helvetica Neue"/>
              </a:rPr>
              <a:t>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Single Accou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987480"/>
            <a:ext cx="647712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Owned by one person and titled in that person’s name onl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sured up to the SMDI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4" descr="Man using ATM"/>
          <p:cNvPicPr/>
          <p:nvPr/>
        </p:nvPicPr>
        <p:blipFill>
          <a:blip r:embed="rId1"/>
          <a:stretch/>
        </p:blipFill>
        <p:spPr>
          <a:xfrm>
            <a:off x="7062840" y="1603440"/>
            <a:ext cx="1776240" cy="26636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Joint Accou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Owned by two or more people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itled jointly in the co-owners’ nam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sured up to the SMDIA for each co-own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5" descr="A couple reviews financial information with a financial professional "/>
          <p:cNvPicPr/>
          <p:nvPr/>
        </p:nvPicPr>
        <p:blipFill>
          <a:blip r:embed="rId1"/>
          <a:stretch/>
        </p:blipFill>
        <p:spPr>
          <a:xfrm>
            <a:off x="3200400" y="3809880"/>
            <a:ext cx="2587680" cy="1722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ertain Retirement Accou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0666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Only the following are insured in this ownership category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dividual Retirement Accounts (IR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ction 457 deferred compensation plan accou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lf-directed, defined contribution plan ac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lf-directed Keogh plan (or HR 10 plan) ac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Revocable Trust Account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6840" y="987480"/>
            <a:ext cx="662940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648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7760" indent="-6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 deposit account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eld as a payable on death (POD) or in trust for (ITF) accou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stablished in the name of a formal revocable trust (living or family trust accou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5" descr="Man pushing his daughter in a swing"/>
          <p:cNvPicPr/>
          <p:nvPr/>
        </p:nvPicPr>
        <p:blipFill>
          <a:blip r:embed="rId1"/>
          <a:stretch/>
        </p:blipFill>
        <p:spPr>
          <a:xfrm>
            <a:off x="7086600" y="1905120"/>
            <a:ext cx="182880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nsurance Coverage for Revocable Trust Accounts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9356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verage is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rovided to the owner of the tru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ased on the number of beneficiaries and the interests allocated to those beneficiaries, up to the insurance lim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ased on all revocable trust deposits held by the same owner at the same b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dentify the Accou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41768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Freda Roam has $1,400 in a savings account at Sawmill Savings &amp; Lo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Homer Stead contributes $50 a month to an IRA through his employ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arallelogram 3"/>
          <p:cNvSpPr/>
          <p:nvPr/>
        </p:nvSpPr>
        <p:spPr>
          <a:xfrm>
            <a:off x="533520" y="990720"/>
            <a:ext cx="7924680" cy="1523880"/>
          </a:xfrm>
          <a:prstGeom prst="parallelogram">
            <a:avLst>
              <a:gd name="adj" fmla="val -23769"/>
            </a:avLst>
          </a:prstGeom>
          <a:solidFill>
            <a:srgbClr val="447e32"/>
          </a:solidFill>
          <a:ln w="25560">
            <a:solidFill>
              <a:srgbClr val="3d712d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Notched Right Arrow 4"/>
          <p:cNvSpPr/>
          <p:nvPr/>
        </p:nvSpPr>
        <p:spPr>
          <a:xfrm rot="19931400">
            <a:off x="27000" y="2230560"/>
            <a:ext cx="1676520" cy="53316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5800 h 533160"/>
              <a:gd name="textAreaBottom" fmla="*/ 3873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oose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5"/>
          <p:cNvSpPr/>
          <p:nvPr/>
        </p:nvSpPr>
        <p:spPr>
          <a:xfrm>
            <a:off x="1905120" y="144792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ertain Retirement Account (IR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3200400" y="19051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Revocable Tr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7"/>
          <p:cNvSpPr/>
          <p:nvPr/>
        </p:nvSpPr>
        <p:spPr>
          <a:xfrm>
            <a:off x="2057400" y="9907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ingle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8"/>
          <p:cNvSpPr/>
          <p:nvPr/>
        </p:nvSpPr>
        <p:spPr>
          <a:xfrm>
            <a:off x="4724280" y="99072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Joint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dentify the Accou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41768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rey and Josie deposited $500 in a savings account together to start a college fund for their new bab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Marcus’s grandmother opened a savings account with $2,500, from which Marcus will receive the proceeds in the event of her dea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arallelogram 5"/>
          <p:cNvSpPr/>
          <p:nvPr/>
        </p:nvSpPr>
        <p:spPr>
          <a:xfrm>
            <a:off x="533520" y="990720"/>
            <a:ext cx="7924680" cy="1523880"/>
          </a:xfrm>
          <a:prstGeom prst="parallelogram">
            <a:avLst>
              <a:gd name="adj" fmla="val -23769"/>
            </a:avLst>
          </a:prstGeom>
          <a:solidFill>
            <a:srgbClr val="447e32"/>
          </a:solidFill>
          <a:ln w="25560">
            <a:solidFill>
              <a:srgbClr val="3d712d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Notched Right Arrow 6"/>
          <p:cNvSpPr/>
          <p:nvPr/>
        </p:nvSpPr>
        <p:spPr>
          <a:xfrm rot="19931400">
            <a:off x="27000" y="2230560"/>
            <a:ext cx="1676520" cy="53316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5800 h 533160"/>
              <a:gd name="textAreaBottom" fmla="*/ 3873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oose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7"/>
          <p:cNvSpPr/>
          <p:nvPr/>
        </p:nvSpPr>
        <p:spPr>
          <a:xfrm>
            <a:off x="1905120" y="144792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ertain Retirement Account (IR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8"/>
          <p:cNvSpPr/>
          <p:nvPr/>
        </p:nvSpPr>
        <p:spPr>
          <a:xfrm>
            <a:off x="3200400" y="19051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Revocable Tr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9"/>
          <p:cNvSpPr/>
          <p:nvPr/>
        </p:nvSpPr>
        <p:spPr>
          <a:xfrm>
            <a:off x="2057400" y="9907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ingle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0"/>
          <p:cNvSpPr/>
          <p:nvPr/>
        </p:nvSpPr>
        <p:spPr>
          <a:xfrm>
            <a:off x="4724280" y="99072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Joint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Welcom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343040" y="1904760"/>
            <a:ext cx="43434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gend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round Rul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roducti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1" descr="Handshake"/>
          <p:cNvPicPr/>
          <p:nvPr/>
        </p:nvPicPr>
        <p:blipFill>
          <a:blip r:embed="rId1"/>
          <a:stretch/>
        </p:blipFill>
        <p:spPr>
          <a:xfrm>
            <a:off x="762120" y="19051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Non-Deposit Investment Produc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987480"/>
            <a:ext cx="815328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DIC does not insure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non-deposit investment products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obert has a $10,000 CD and invested $10,000 in a mutual fund at a bank that fai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is $10,000 (+ interest) for the CD is covered by FDIC, but not the $10,000 he invested in the mutual f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rivacy Notic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quired by law to explain how the company handles and shares your personal financial information.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ypes of notices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itial Privacy No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nnual Privacy No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Notice of Changes in Privacy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9" descr="Notice and envelop"/>
          <p:cNvPicPr/>
          <p:nvPr/>
        </p:nvPicPr>
        <p:blipFill>
          <a:blip r:embed="rId1"/>
          <a:stretch/>
        </p:blipFill>
        <p:spPr>
          <a:xfrm>
            <a:off x="6095880" y="3124080"/>
            <a:ext cx="1844640" cy="12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pting Ou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 have the right to stop or “opt out” of some sharing of your personal financial information.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o opt out: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all 1-888-5-OPTOUT (567-8688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Visit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Arial"/>
                <a:hlinkClick r:id="rId1"/>
              </a:rPr>
              <a:t>www.optoutprescreen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5" descr="Cell phone"/>
          <p:cNvPicPr/>
          <p:nvPr/>
        </p:nvPicPr>
        <p:blipFill>
          <a:blip r:embed="rId2"/>
          <a:stretch/>
        </p:blipFill>
        <p:spPr>
          <a:xfrm>
            <a:off x="7086600" y="2819520"/>
            <a:ext cx="140004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What is Identity Theft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21932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When thieves steal your personal information and pretend to be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f not detected early, you may face months or years cleaning up the damage to your reputation and credit rating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6" name="Group 7"/>
          <p:cNvGrpSpPr/>
          <p:nvPr/>
        </p:nvGrpSpPr>
        <p:grpSpPr>
          <a:xfrm>
            <a:off x="6172200" y="1676520"/>
            <a:ext cx="2590920" cy="3504960"/>
            <a:chOff x="6172200" y="1676520"/>
            <a:chExt cx="2590920" cy="3504960"/>
          </a:xfrm>
        </p:grpSpPr>
        <p:sp>
          <p:nvSpPr>
            <p:cNvPr id="207" name="TextBox 4"/>
            <p:cNvSpPr/>
            <p:nvPr/>
          </p:nvSpPr>
          <p:spPr>
            <a:xfrm>
              <a:off x="6248160" y="4267080"/>
              <a:ext cx="2438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060"/>
                  </a:solidFill>
                  <a:latin typeface="Calibri"/>
                </a:rPr>
                <a:t>Identity theft is a serious problem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6"/>
            <p:cNvSpPr/>
            <p:nvPr/>
          </p:nvSpPr>
          <p:spPr>
            <a:xfrm>
              <a:off x="6172200" y="1676520"/>
              <a:ext cx="2590920" cy="35049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9" name="Picture 10" descr="Theif holding cash and credit card"/>
          <p:cNvPicPr/>
          <p:nvPr/>
        </p:nvPicPr>
        <p:blipFill>
          <a:blip r:embed="rId1"/>
          <a:stretch/>
        </p:blipFill>
        <p:spPr>
          <a:xfrm>
            <a:off x="6607080" y="1841400"/>
            <a:ext cx="1752840" cy="2401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" dur="250" autoRev="1" fill="hold"/>
                                        <p:tgtEl>
                                          <p:spTgt spid="2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250" autoRev="1" fill="hold"/>
                                        <p:tgtEl>
                                          <p:spTgt spid="2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mmon Forms of Identity Thef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hish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nsolicited emails that appear to be from a legitimate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harm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Fake websites seeking personal or private information by appearing legi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kimm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pecial storage device used to obtain credit/debit card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dentity Theft Inform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819520" y="1874520"/>
            <a:ext cx="5943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21480" indent="-320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ederal Trade Commission (FTC)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Arial"/>
                <a:hlinkClick r:id="rId1"/>
              </a:rPr>
              <a:t>www.ftc.gov/idth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1-877-IDTHEFT (438-433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480" indent="-32040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5" descr="Computer"/>
          <p:cNvPicPr/>
          <p:nvPr/>
        </p:nvPicPr>
        <p:blipFill>
          <a:blip r:embed="rId2"/>
          <a:stretch/>
        </p:blipFill>
        <p:spPr>
          <a:xfrm>
            <a:off x="506520" y="1554120"/>
            <a:ext cx="2279520" cy="33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ctivity 2: Identity Theft Self-Check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2 in the Participant Guide.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spond to each stat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ally your sco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Victims of Identity Thef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87080" y="9903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21480" indent="-3204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ake action immediately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File a police rep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ntact your credi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Follow up 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se the ID Theft Affidavit at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Arial"/>
                <a:hlinkClick r:id="rId1"/>
              </a:rPr>
              <a:t>www.ftc.gov/idth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File a complaint with the F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sk for verification that disputed accounts have been closed and fraudulent debts dischar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Police badge"/>
          <p:cNvPicPr/>
          <p:nvPr/>
        </p:nvPicPr>
        <p:blipFill>
          <a:blip r:embed="rId2"/>
          <a:stretch/>
        </p:blipFill>
        <p:spPr>
          <a:xfrm>
            <a:off x="6934320" y="1219320"/>
            <a:ext cx="1279440" cy="1600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Cell phone with grid and circles representing communication and alerts"/>
          <p:cNvPicPr/>
          <p:nvPr/>
        </p:nvPicPr>
        <p:blipFill>
          <a:blip r:embed="rId1"/>
          <a:stretch/>
        </p:blipFill>
        <p:spPr>
          <a:xfrm>
            <a:off x="7010280" y="457200"/>
            <a:ext cx="2013120" cy="14479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Fraud Aler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itial fraud alert – 90 day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xtended fraud alert – 7 year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rospective lenders must contact you to authorize any new account in your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curity freez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You must authorize any access to your credit repo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f Your Wallet/Purse is Lost or Stolen: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8240" indent="-31680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18240" indent="-316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ile a police report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240" indent="-316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ancel your credit cards immediately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240" indent="-316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lace a fraud alert on your credit report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240" indent="-316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port the loss to your bank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240" indent="-316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ntact major check verification compani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240" indent="-316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et a new ATM card with a new number and passwor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240" indent="-316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5" descr="Wallet with cash and cards"/>
          <p:cNvPicPr/>
          <p:nvPr/>
        </p:nvPicPr>
        <p:blipFill>
          <a:blip r:embed="rId1"/>
          <a:stretch/>
        </p:blipFill>
        <p:spPr>
          <a:xfrm>
            <a:off x="7632720" y="990720"/>
            <a:ext cx="13525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bjectiv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2160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cognize how federal deposit insurance protects deposit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cognize how to guard against identity thef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cognize how to prevent elder financial abus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12" descr="Figure of a person holding a bag of money"/>
          <p:cNvPicPr/>
          <p:nvPr/>
        </p:nvPicPr>
        <p:blipFill>
          <a:blip r:embed="rId1"/>
          <a:stretch/>
        </p:blipFill>
        <p:spPr>
          <a:xfrm>
            <a:off x="8305920" y="366840"/>
            <a:ext cx="685800" cy="11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What is Elder Financial Abuse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276360" y="1417680"/>
            <a:ext cx="56386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sing an elder’s money or assets contrary to his or her wishes, needs, or best interests for the abuser’s personal gai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2" descr="Elderly couple looking at their finances"/>
          <p:cNvPicPr/>
          <p:nvPr/>
        </p:nvPicPr>
        <p:blipFill>
          <a:blip r:embed="rId1"/>
          <a:stretch/>
        </p:blipFill>
        <p:spPr>
          <a:xfrm>
            <a:off x="533520" y="1600200"/>
            <a:ext cx="2581200" cy="3333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Examples of Elder Financial Abus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5520" indent="-335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aking money or propert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orging a signature or using deception to get the elderly to sign legal document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Using property or possessions without permiss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romising care in exchange for money or property, and not following through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Using telemarketing to commit scams against older people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otential Perpetrator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6840" y="10666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amily members that may: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Have substance abuse, gambling, or other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Stand to inherit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Fear inheritance will be used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Have had a negative relationship with the e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Have negative feelings towards other benefici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elemarketer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Who is at Risk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lders who: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re isolated or lon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Have recently suffered a loss of spouse, pet, or family m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re ill (physically or mental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Unfamiliar with financial ma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Have unemployed or substance-abusing family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5" descr="Older gentleman "/>
          <p:cNvPicPr/>
          <p:nvPr/>
        </p:nvPicPr>
        <p:blipFill>
          <a:blip r:embed="rId1"/>
          <a:stretch/>
        </p:blipFill>
        <p:spPr>
          <a:xfrm>
            <a:off x="6705720" y="457200"/>
            <a:ext cx="196668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How Can Elders Be Made Less of a Target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xamine their lifestyle and protect them where needed: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sk questions to determine their vulnerabi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ake steps to protect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11" descr="Younger person holding the hand of an elderly person"/>
          <p:cNvPicPr/>
          <p:nvPr/>
        </p:nvPicPr>
        <p:blipFill>
          <a:blip r:embed="rId1"/>
          <a:stretch/>
        </p:blipFill>
        <p:spPr>
          <a:xfrm>
            <a:off x="3276720" y="4267080"/>
            <a:ext cx="2398680" cy="15987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How Can I Be More Careful in Employing Elderly Caregivers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596960"/>
            <a:ext cx="86868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nsure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he employment agency is rep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he caregiver’s references/background have been chec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he elder’s checks, credit cards, etc. are sec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here is a written service agreement and log of workers, hours, salary payments, and caregiver expe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nformation About Elder Financial Abus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8320" indent="-3272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8320" indent="-3272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ntact: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Your state’s Adult Protective Services depar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he U.S. Department of Health and Human Services’ Elder Care Locator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Arial"/>
                <a:hlinkClick r:id="rId1"/>
              </a:rPr>
              <a:t>www.eldercare.gov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1-800-677-11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nsurance: Why the Need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120" indent="-612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6120" indent="-6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surance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3600" indent="-2757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rotects you (and your family) from financial loss if the unexpected happ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3600" indent="-2757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revents you from having to use funds set aside for other financial goals or emer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3600" indent="-2757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revents you from going further into debt by having to borrow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5" descr="Computer, car, and house being protected from the rain by an umbrella"/>
          <p:cNvPicPr/>
          <p:nvPr/>
        </p:nvPicPr>
        <p:blipFill>
          <a:blip r:embed="rId1"/>
          <a:stretch/>
        </p:blipFill>
        <p:spPr>
          <a:xfrm>
            <a:off x="7772400" y="228600"/>
            <a:ext cx="12412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Types of Insuranc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2924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ife insuran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ealth insuran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omeowner’s/renter’s insuran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uto insuran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isability insuran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iability insuran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5" descr="Computer, car, and house being protected from the rain by an umbrella"/>
          <p:cNvPicPr/>
          <p:nvPr/>
        </p:nvPicPr>
        <p:blipFill>
          <a:blip r:embed="rId1"/>
          <a:stretch/>
        </p:blipFill>
        <p:spPr>
          <a:xfrm>
            <a:off x="7772400" y="228600"/>
            <a:ext cx="12412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Determining Your Need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verage depends on your circumstances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surance may be required in some circumstances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rvice members and their family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sk how the company handles deplo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hop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5" descr="Computer, car, and house being protected from the rain by an umbrella"/>
          <p:cNvPicPr/>
          <p:nvPr/>
        </p:nvPicPr>
        <p:blipFill>
          <a:blip r:embed="rId1"/>
          <a:stretch/>
        </p:blipFill>
        <p:spPr>
          <a:xfrm>
            <a:off x="7772400" y="228600"/>
            <a:ext cx="12412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bjectiv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2160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cognize how the various types of insurance will help you manage risk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cognize the need to plan for unexpected death or disability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escribe the ways you need to be financially prepared for disaster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12" descr="Figure of a person holding a bag of money"/>
          <p:cNvPicPr/>
          <p:nvPr/>
        </p:nvPicPr>
        <p:blipFill>
          <a:blip r:embed="rId1"/>
          <a:stretch/>
        </p:blipFill>
        <p:spPr>
          <a:xfrm>
            <a:off x="8305920" y="366840"/>
            <a:ext cx="685800" cy="11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Why Plan for Unexpected Life Events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lanning ahead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Gives you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lieves stress of decision m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aves money and helps you avoid financial disaster or setbac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7" descr="Woman looking ahead"/>
          <p:cNvPicPr/>
          <p:nvPr/>
        </p:nvPicPr>
        <p:blipFill>
          <a:blip r:embed="rId1"/>
          <a:stretch/>
        </p:blipFill>
        <p:spPr>
          <a:xfrm>
            <a:off x="7086600" y="1447920"/>
            <a:ext cx="1670040" cy="1600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Long-Term Car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w would you define long-term care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yth or fact: Long-term care is only a concern for the elderly.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yth. The need for long-term care can come at any a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5" descr="Woman helping an elderly woman with her medication"/>
          <p:cNvPicPr/>
          <p:nvPr/>
        </p:nvPicPr>
        <p:blipFill>
          <a:blip r:embed="rId1"/>
          <a:stretch/>
        </p:blipFill>
        <p:spPr>
          <a:xfrm>
            <a:off x="3276720" y="4191120"/>
            <a:ext cx="2431800" cy="1600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otential Disaster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6840" y="987480"/>
            <a:ext cx="61722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Natural or man-made disasters strike without warning and can happen to anyone.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at steps can you take to be financially prepared for potential disasters?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5" descr="Flood water around a sign stating &quot;Danger end of storm drain&quot;"/>
          <p:cNvPicPr/>
          <p:nvPr/>
        </p:nvPicPr>
        <p:blipFill>
          <a:blip r:embed="rId1"/>
          <a:stretch/>
        </p:blipFill>
        <p:spPr>
          <a:xfrm>
            <a:off x="6934320" y="1600200"/>
            <a:ext cx="1755720" cy="2630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What To Have Read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21480" indent="-32040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orms of identific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1480" indent="-32040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r checkbook with blank checks and deposit slips to last at least a month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1480" indent="-32040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TM, debit and credit cards, and cash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1480" indent="-32040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hone numbers for financial instituti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1480" indent="-32040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ccount number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1480" indent="-32040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Key to your safe deposit box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1480" indent="-320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15" descr="checkbook, pen, and cash"/>
          <p:cNvPicPr/>
          <p:nvPr/>
        </p:nvPicPr>
        <p:blipFill>
          <a:blip r:embed="rId1"/>
          <a:stretch/>
        </p:blipFill>
        <p:spPr>
          <a:xfrm>
            <a:off x="6629400" y="4191120"/>
            <a:ext cx="19051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What To Keep and Where To Keep It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80880" y="121932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ake copies of important documents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what to keep at home and what to store in a safe deposit box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al important documents in airtight and waterproof plastic bags/containers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10" descr="Safe"/>
          <p:cNvPicPr/>
          <p:nvPr/>
        </p:nvPicPr>
        <p:blipFill>
          <a:blip r:embed="rId1"/>
          <a:stretch/>
        </p:blipFill>
        <p:spPr>
          <a:xfrm>
            <a:off x="609480" y="4572000"/>
            <a:ext cx="19814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What Else To Consider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275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ign up for direct deposi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rrange for automatic bill payment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ign up for Internet banking servic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view your insurance coverage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Picture 8" descr="Beginning of url address &quot;http://www&quot;"/>
          <p:cNvPicPr/>
          <p:nvPr/>
        </p:nvPicPr>
        <p:blipFill>
          <a:blip r:embed="rId1"/>
          <a:stretch/>
        </p:blipFill>
        <p:spPr>
          <a:xfrm>
            <a:off x="6553080" y="762120"/>
            <a:ext cx="1905120" cy="1251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ctivity 3: How Financially Prepared Are You?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3 in the Participant Guide.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nsider your sit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nswer the ques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ummar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779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final questions do you have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82600" indent="-2779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82600" indent="-2779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have you learned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82600" indent="-2779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82600" indent="-2779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ow would you evaluate the training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82600" indent="-2779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nclus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You learned about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aws and regulations that protect your depos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Identity th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lder financial ab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ypes of insurance to help you manage ri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Financial prepared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9" descr="Money being passed from one hand to another's"/>
          <p:cNvPicPr/>
          <p:nvPr/>
        </p:nvPicPr>
        <p:blipFill>
          <a:blip r:embed="rId1"/>
          <a:stretch/>
        </p:blipFill>
        <p:spPr>
          <a:xfrm>
            <a:off x="7238880" y="38088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Do You Know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819160" y="990360"/>
            <a:ext cx="617220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do you know or want to learn about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nsumer protection laws and regulation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Truth in Savings Ac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76160"/>
            <a:ext cx="5029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01760" indent="-2858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quires financial institutions to tell you the terms of deposit accounts (such as checking or savings accou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2858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elps you make informed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Terms and conditions document with eye glasses and a pen"/>
          <p:cNvPicPr/>
          <p:nvPr/>
        </p:nvPicPr>
        <p:blipFill>
          <a:blip r:embed="rId1"/>
          <a:stretch/>
        </p:blipFill>
        <p:spPr>
          <a:xfrm>
            <a:off x="5638680" y="1676520"/>
            <a:ext cx="2895840" cy="2689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Electronic Funds Transfer Ac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809520" y="1828800"/>
            <a:ext cx="4876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01760" indent="-2858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imits your liability against unauthorized use of your Automated Teller Machine (ATM) c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2858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rotects against electronic transfer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Person placing card in ATM"/>
          <p:cNvPicPr/>
          <p:nvPr/>
        </p:nvPicPr>
        <p:blipFill>
          <a:blip r:embed="rId1"/>
          <a:stretch/>
        </p:blipFill>
        <p:spPr>
          <a:xfrm>
            <a:off x="990720" y="1676520"/>
            <a:ext cx="2286000" cy="31208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ther Regulat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xpedited Funds Availability Ac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743040" indent="-2811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imits the time a bank can a check deposited into your checking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DIC Deposit Insurance Regulati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743040" indent="-2811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sures the funds in your deposit ac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ctivity 1: Deposit Accounts Laws and Regulat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1 in the Participant Guide.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ad each scenar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nswer the ques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e prepared to explain your ans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0T18:57:27Z</dcterms:created>
  <dc:creator/>
  <dc:description/>
  <dc:language>en-US</dc:language>
  <cp:lastModifiedBy>National Technologies Inc.</cp:lastModifiedBy>
  <dcterms:modified xsi:type="dcterms:W3CDTF">2010-11-01T14:24:48Z</dcterms:modified>
  <cp:revision>626</cp:revision>
  <dc:subject/>
  <dc:title>MoneySmart Adult Financial Education Curriculu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F39A119390EE2E43A4E19FA973347658</vt:lpwstr>
  </property>
</Properties>
</file>