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9.jpeg" ContentType="image/jpeg"/>
  <Override PartName="/ppt/media/image6.wmf" ContentType="image/x-wmf"/>
  <Override PartName="/ppt/media/image29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AC9F-5A7C-4D03-96C2-15764257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1764-47A4-4E07-9DC7-75A4EA27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B0BB-FD22-4A80-89F5-277D9F34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4F3F-BCD1-4057-8677-0714229F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0293-AAD7-419F-BBC9-738A0F5FD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A109-06F1-4B83-87D2-A95B60DE3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3302-CB50-4BFD-9FD9-5465A19F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8325-D560-48EA-80F9-4D4DB2A1B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EDAA-6604-434D-8AB8-02274437C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418-368D-4CD4-AAA6-06FB8153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BD4-C6B0-41A7-B2F2-38FEE5B6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3C6-11A1-4922-84F4-C95C469D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3B2-14DB-439E-B33C-096A73D6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F0DF-2918-4B1C-A1C8-90D7AD06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A423-A548-4D85-AFEE-6588B9A9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4E06-35FC-421C-9EE7-4FC6B9E4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5385-6A46-4EFC-8B18-E68F49FD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4E4F-744F-460A-A6CE-82125C2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CBBA-C39E-4DB6-910D-67E1D0EC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AD8A-E36D-47D1-BFC5-599300C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2E8-D061-40FF-8D2D-FF0CD771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4C0C-B277-407C-ACC5-9EC3B7F6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6B11-85CC-4A64-87C9-9AE1FEFA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8AF4-735C-488F-8F05-4219561B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4C00-798B-4707-832A-46D87158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AD4E-44F5-4C4E-933C-75042D7A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63A-5E7C-45D3-AE64-33BE8388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EA1-405B-4AE1-A888-442389C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A4E-0326-4C96-8DFD-B9FAA3E6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361-B5B1-4D73-804C-D4D0F49C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431-F8EE-4A39-9392-F28A45E1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598-52EC-4BD8-9654-4392F345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022-492B-4278-835C-9CE6CBD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705A-4DC0-4DBF-8427-31E7F0683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7905-35D1-4D36-8987-665332CF4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Keep It Sa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AB7F-64DF-40EF-8C99-CEDAA8BEADC3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dic.gov/deposit/deposits" TargetMode="External"/><Relationship Id="rId2" Type="http://schemas.openxmlformats.org/officeDocument/2006/relationships/hyperlink" Target="http://www.myfdicinsurance.gov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Keep It Safe title slide with FDIC Money Smart logo and module logo of a s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228600" y="8380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Keep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19240" y="205740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Saf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tecting Deposi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87480"/>
            <a:ext cx="701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DIC insures funds in deposit accounts, including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av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Market Deposit Accounts (MM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ificates of Deposit (C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erson filling out a check"/>
          <p:cNvPicPr/>
          <p:nvPr/>
        </p:nvPicPr>
        <p:blipFill>
          <a:blip r:embed="rId1"/>
          <a:stretch/>
        </p:blipFill>
        <p:spPr>
          <a:xfrm>
            <a:off x="6594480" y="190512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verag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categ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gle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Joi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ocable trus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ertain retireme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ard Maximum Deposit Insurance Amount (SMDIA), currently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Older couple reviewing information on a laptop"/>
          <p:cNvPicPr/>
          <p:nvPr/>
        </p:nvPicPr>
        <p:blipFill>
          <a:blip r:embed="rId1"/>
          <a:stretch/>
        </p:blipFill>
        <p:spPr>
          <a:xfrm>
            <a:off x="6781680" y="1371600"/>
            <a:ext cx="16765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Insurance Coverag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dic.gov/deposit/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1-877-ASK-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 your bank representativ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Electronic Deposit Insurance Estimator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www.myfdicinsurance.gov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ingl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87480"/>
            <a:ext cx="6477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one person and titled in that person’s name on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an using ATM"/>
          <p:cNvPicPr/>
          <p:nvPr/>
        </p:nvPicPr>
        <p:blipFill>
          <a:blip r:embed="rId1"/>
          <a:stretch/>
        </p:blipFill>
        <p:spPr>
          <a:xfrm>
            <a:off x="7062840" y="1603440"/>
            <a:ext cx="177624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Joint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two or more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tled jointly in the co-owners’ na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 for each co-own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A couple reviews financial information with a financial professional "/>
          <p:cNvPicPr/>
          <p:nvPr/>
        </p:nvPicPr>
        <p:blipFill>
          <a:blip r:embed="rId1"/>
          <a:stretch/>
        </p:blipFill>
        <p:spPr>
          <a:xfrm>
            <a:off x="3200400" y="3809880"/>
            <a:ext cx="2587680" cy="172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ertain Retiremen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ly the following are insured in this ownership categor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Retirement Accounts (I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ction 457 deferred compensation plan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, defined contribution plan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 Keogh plan (or HR 10 plan)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vocable Trust Accoun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987480"/>
            <a:ext cx="66294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64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7760" indent="-6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posit accoun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d as a payable on death (POD) or in trust for (ITF) acco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in the name of a formal revocable trust (living or family trust ac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an pushing his daughter in a swing"/>
          <p:cNvPicPr/>
          <p:nvPr/>
        </p:nvPicPr>
        <p:blipFill>
          <a:blip r:embed="rId1"/>
          <a:stretch/>
        </p:blipFill>
        <p:spPr>
          <a:xfrm>
            <a:off x="7086600" y="190512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 for Revocable Trust Account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935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vided to the owner of the 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number of beneficiaries and the interests allocated to those beneficiaries, up to the insurance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all revocable trust deposits held by the same owner at the sam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reda Roam has $1,400 in a savings account at Sawmill Savings &amp;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r Stead contributes $50 a month to an IRA through his emplo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arallelogram 3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Notched Right Arrow 4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ey and Josie deposited $500 in a savings account together to start a college fund for their new ba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rcus’s grandmother opened a savings account with $2,500, from which Marcus will receive the proceeds in the event of her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arallelogram 5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Notched Right Arrow 6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Non-Deposit Investment 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153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oes not insur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n-deposit investment product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obert has a $10,000 CD and invested $10,000 in a mutual fund at a bank that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s $10,000 (+ interest) for the CD is covered by FDIC, but not the $10,000 he invested in the mutual f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ivacy Not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law to explain how the company handles and shares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 of notic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Changes in Privac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9" descr="Notice and envelop"/>
          <p:cNvPicPr/>
          <p:nvPr/>
        </p:nvPicPr>
        <p:blipFill>
          <a:blip r:embed="rId1"/>
          <a:stretch/>
        </p:blipFill>
        <p:spPr>
          <a:xfrm>
            <a:off x="6095880" y="3124080"/>
            <a:ext cx="1844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stop or “opt out” of some sharing of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o opt ou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Cell phone"/>
          <p:cNvPicPr/>
          <p:nvPr/>
        </p:nvPicPr>
        <p:blipFill>
          <a:blip r:embed="rId2"/>
          <a:stretch/>
        </p:blipFill>
        <p:spPr>
          <a:xfrm>
            <a:off x="7086600" y="281952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Identity Thef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193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n thieves steal your personal information and pretend to b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not detected early, you may face months or years cleaning up the damage to your reputation and credit rating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6172200" y="1676520"/>
            <a:ext cx="2590920" cy="3504960"/>
            <a:chOff x="6172200" y="1676520"/>
            <a:chExt cx="2590920" cy="3504960"/>
          </a:xfrm>
        </p:grpSpPr>
        <p:sp>
          <p:nvSpPr>
            <p:cNvPr id="207" name="TextBox 4"/>
            <p:cNvSpPr/>
            <p:nvPr/>
          </p:nvSpPr>
          <p:spPr>
            <a:xfrm>
              <a:off x="6248160" y="426708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Calibri"/>
                </a:rPr>
                <a:t>Identity theft is a serious problem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6172200" y="1676520"/>
              <a:ext cx="2590920" cy="3504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10" descr="Theif holding cash and credit card"/>
          <p:cNvPicPr/>
          <p:nvPr/>
        </p:nvPicPr>
        <p:blipFill>
          <a:blip r:embed="rId1"/>
          <a:stretch/>
        </p:blipFill>
        <p:spPr>
          <a:xfrm>
            <a:off x="6607080" y="1841400"/>
            <a:ext cx="175284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mon For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solicited emails that appear to be from a legitimat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ar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ke websites seeking personal or private information by appearing legi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kim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pecial storage device used to obtain credit/debit car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ty Thef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19520" y="1874520"/>
            <a:ext cx="5943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Trade Commission (FTC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Computer"/>
          <p:cNvPicPr/>
          <p:nvPr/>
        </p:nvPicPr>
        <p:blipFill>
          <a:blip r:embed="rId2"/>
          <a:stretch/>
        </p:blipFill>
        <p:spPr>
          <a:xfrm>
            <a:off x="506520" y="1554120"/>
            <a:ext cx="22795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Identity Theft Self-Check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 to each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ly your 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87080" y="990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Police badge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010280" y="457200"/>
            <a:ext cx="2013120" cy="1447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aud Ale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fraud alert – 90 d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tended fraud alert – 7 yea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spective lenders must contact you to authorize any new account in you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ity freez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authorize any access to your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f Your Wallet/Purse is Lost or Stolen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68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cel your credit cards immediatel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ce a fraud alert on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the loss to your ban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major check verification compan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a new ATM card with a new number and passw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Wallet with cash and cards"/>
          <p:cNvPicPr/>
          <p:nvPr/>
        </p:nvPicPr>
        <p:blipFill>
          <a:blip r:embed="rId1"/>
          <a:stretch/>
        </p:blipFill>
        <p:spPr>
          <a:xfrm>
            <a:off x="7632720" y="990720"/>
            <a:ext cx="1352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federal deposit insurance protects 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prevent elder financial abu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Elder Financial Abus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360" y="141768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ing an elder’s money or assets contrary to his or her wishes, needs, or best interests for the abuser’s personal ga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Elderly couple looking at their finances"/>
          <p:cNvPicPr/>
          <p:nvPr/>
        </p:nvPicPr>
        <p:blipFill>
          <a:blip r:embed="rId1"/>
          <a:stretch/>
        </p:blipFill>
        <p:spPr>
          <a:xfrm>
            <a:off x="533520" y="1600200"/>
            <a:ext cx="25812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xamples of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ing money or proper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ging a signature or using deception to get the elderly to sign legal docu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property or possessions without permi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mising care in exchange for money or property, and not following throug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telemarketing to commit scams against older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Perpetrat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that may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substance abuse, gambling, or oth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 to inherit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ar inheritance will be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had a negative relationship with the e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negative feelings towards other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marke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o is a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ders wh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solated or lon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recently suffered a loss of spouse, pet, or family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ll (physically or ment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familiar with financia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unemployed or substance-abusing 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Older gentleman "/>
          <p:cNvPicPr/>
          <p:nvPr/>
        </p:nvPicPr>
        <p:blipFill>
          <a:blip r:embed="rId1"/>
          <a:stretch/>
        </p:blipFill>
        <p:spPr>
          <a:xfrm>
            <a:off x="6705720" y="457200"/>
            <a:ext cx="19666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Elders Be Made Less of a Targe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ine their lifestyle and protect them where neede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k questions to determine their vulner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ke steps to prote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1" descr="Younger person holding the hand of an elderly person"/>
          <p:cNvPicPr/>
          <p:nvPr/>
        </p:nvPicPr>
        <p:blipFill>
          <a:blip r:embed="rId1"/>
          <a:stretch/>
        </p:blipFill>
        <p:spPr>
          <a:xfrm>
            <a:off x="3276720" y="4267080"/>
            <a:ext cx="239868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I Be More Careful in Employing Elderly Caregiver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696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nsur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mployment agency is rep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aregiver’s references/background have been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lder’s checks, credit cards, etc. ar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re is a written service agreement and log of workers, hours, salary payments, and caregiver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tion About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state’s Adult Protective Services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U.S. Department of Health and Human Services’ Elder Care Loc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eldercare.gov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00-677-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: Why the Ne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-61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120" indent="-6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you (and your family) from financial loss if the unexpected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having to use funds set aside for other financial goals or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going further into debt by having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Insu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24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fe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alth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owner’s/renter’s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s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termining Your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depends on your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 may be required in some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vice members and their fami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how the company handles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he various types of insurance will help you manage ris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the need to plan for unexpected death or disabilit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ways you need to be financially prepared for disas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Plan for Unexpected Life Event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ning ahea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ives you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lieves stress of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ves money and helps you avoid financial disaster or set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Woman looking ahead"/>
          <p:cNvPicPr/>
          <p:nvPr/>
        </p:nvPicPr>
        <p:blipFill>
          <a:blip r:embed="rId1"/>
          <a:stretch/>
        </p:blipFill>
        <p:spPr>
          <a:xfrm>
            <a:off x="7086600" y="1447920"/>
            <a:ext cx="1670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ng-Term C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define long-term ca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yth or fact: Long-term care is only a concern for the elderly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yth. The need for long-term care can come at any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Woman helping an elderly woman with her medication"/>
          <p:cNvPicPr/>
          <p:nvPr/>
        </p:nvPicPr>
        <p:blipFill>
          <a:blip r:embed="rId1"/>
          <a:stretch/>
        </p:blipFill>
        <p:spPr>
          <a:xfrm>
            <a:off x="3276720" y="4191120"/>
            <a:ext cx="2431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Disast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987480"/>
            <a:ext cx="6172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atural or man-made disasters strike without warning and can happen to anyon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steps can you take to be financially prepared for potential disasters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Flood water around a sign stating &quot;Danger end of storm drain&quot;"/>
          <p:cNvPicPr/>
          <p:nvPr/>
        </p:nvPicPr>
        <p:blipFill>
          <a:blip r:embed="rId1"/>
          <a:stretch/>
        </p:blipFill>
        <p:spPr>
          <a:xfrm>
            <a:off x="6934320" y="1600200"/>
            <a:ext cx="175572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Have Rea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ms of ident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heckbook with blank checks and deposit slips to last at least a mon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M, debit and credit cards, and cas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one numbers for financial institu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numb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y to your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5" descr="checkbook, pen, and cash"/>
          <p:cNvPicPr/>
          <p:nvPr/>
        </p:nvPicPr>
        <p:blipFill>
          <a:blip r:embed="rId1"/>
          <a:stretch/>
        </p:blipFill>
        <p:spPr>
          <a:xfrm>
            <a:off x="6629400" y="4191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Keep and Where To Keep I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2193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copies of important document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to keep at home and what to store in a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al important documents in airtight and waterproof plastic bags/container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0" descr="Safe"/>
          <p:cNvPicPr/>
          <p:nvPr/>
        </p:nvPicPr>
        <p:blipFill>
          <a:blip r:embed="rId1"/>
          <a:stretch/>
        </p:blipFill>
        <p:spPr>
          <a:xfrm>
            <a:off x="609480" y="45720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Else To Consid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range for automatic bill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Internet banking servi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iew your insurance coverag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8" descr="Beginning of url address &quot;http://www&quot;"/>
          <p:cNvPicPr/>
          <p:nvPr/>
        </p:nvPicPr>
        <p:blipFill>
          <a:blip r:embed="rId1"/>
          <a:stretch/>
        </p:blipFill>
        <p:spPr>
          <a:xfrm>
            <a:off x="6553080" y="762120"/>
            <a:ext cx="190512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How Financially Prepared Are You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your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ws and regulations that protect your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der financial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insurance to help you manag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inancial prepar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Money being passed from one hand to another's"/>
          <p:cNvPicPr/>
          <p:nvPr/>
        </p:nvPicPr>
        <p:blipFill>
          <a:blip r:embed="rId1"/>
          <a:stretch/>
        </p:blipFill>
        <p:spPr>
          <a:xfrm>
            <a:off x="723888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mer protection laws and regulatio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ruth in Savings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financial institutions to tell you the terms of deposit accounts (such as checking or savings accou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you make inform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Terms and conditions document with eye glasses and a pen"/>
          <p:cNvPicPr/>
          <p:nvPr/>
        </p:nvPicPr>
        <p:blipFill>
          <a:blip r:embed="rId1"/>
          <a:stretch/>
        </p:blipFill>
        <p:spPr>
          <a:xfrm>
            <a:off x="5638680" y="1676520"/>
            <a:ext cx="28958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lectronic Funds Transfer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952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your liability against unauthorized use of your Automated Teller Machine (ATM)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against electronic transfer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erson placing card in ATM"/>
          <p:cNvPicPr/>
          <p:nvPr/>
        </p:nvPicPr>
        <p:blipFill>
          <a:blip r:embed="rId1"/>
          <a:stretch/>
        </p:blipFill>
        <p:spPr>
          <a:xfrm>
            <a:off x="990720" y="1676520"/>
            <a:ext cx="22860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dited Funds Availability 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the time a bank can a check deposited into your checking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eposit Insurance Regul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sures the funds in your deposi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Deposit Accounts Laws and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24:48Z</dcterms:modified>
  <cp:revision>62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