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51A52A-9D9E-498E-99A2-BD5CD31C7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12410D-A116-4FD2-8EA5-A99196B9B4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2ACF5E-E167-4451-8C5C-A115112477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D93D21-5305-4487-A9B1-5E8A41F10D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D20B71-8FF2-40F8-B9BC-C3ADEA9D70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D8A831-9425-4963-A548-67198E626D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92CB91-A92C-407B-B968-8C5D33287C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BC0A62-7E1F-4525-9A9B-8CD35C8600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420272-B75D-4F2E-83BD-CE3B5C2207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6017F7-E096-493F-AF41-DD5332B9DD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AD60F3-547A-4E5B-9859-FC5FC82D9B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7B82290-AA15-42FB-8B58-B78FE45439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0F45A9-C716-4494-B72D-7A79411AF5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E00-6C9F-44CB-82E0-3821F64A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8F5-FF6F-4FDA-A4C2-2BFF0EF7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BC3-4D18-4D21-9694-A136756B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9C2-080A-46E2-BA49-C4B0F87E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2DB-297B-4AD2-89C6-924BD6EE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0A2-C079-4B2C-8A82-B13CC2A7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372-8E70-4E59-A7DA-79014782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092-3EC3-4C36-A4DB-B3965004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4CC8-F72E-4592-A3C0-11F8D6C6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D95-E9F2-46B7-8454-CCA39C3A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4B6-5645-4AD4-A59E-264DFD64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9F1-39CB-4994-BEE2-1E2728D8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7F0F-74FB-499F-8F1A-B5B4104A32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7785-D8EC-4E5B-A7A4-CA2BF0571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24852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Smart for Older Ad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ED84-4B20-428A-9580-DEF19EC1C8B8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857F-91CE-4851-BD34-D7832A9353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2.fdic.gov/starsmail/index.asp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mpresource.org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askcfpb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" TargetMode="External"/><Relationship Id="rId2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MS_OlderAdultsLogo.jpg"/>
          <p:cNvPicPr/>
          <p:nvPr/>
        </p:nvPicPr>
        <p:blipFill>
          <a:blip r:embed="rId4"/>
          <a:stretch/>
        </p:blipFill>
        <p:spPr>
          <a:xfrm>
            <a:off x="232416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power of attorney (POA) or fiduciary ab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ft of money or property by caregivers and in-home help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estment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ttery and sweepstakes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xamples of Financial Exploitation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uter/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erse mortgage proceeds fra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ractor fraud and home improvemen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14040" y="9903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and caregi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iends, neighbors or acquaint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ephone and mail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advis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net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repair contr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re scam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ould Be an Abus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Don’t Older Adults Report Exploit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hame and embarra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oyalty to a family member or careg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Fear of retaliation or not being bel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pendence on the ab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en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elf-bl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dult Protective Ser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4"/>
          <p:cNvSpPr/>
          <p:nvPr/>
        </p:nvSpPr>
        <p:spPr>
          <a:xfrm>
            <a:off x="1104840" y="16002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contact information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5720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1104840" y="389880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ederal Deposit Insurance Corp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4"/>
          <p:cNvSpPr/>
          <p:nvPr/>
        </p:nvSpPr>
        <p:spPr>
          <a:xfrm>
            <a:off x="457200" y="4114800"/>
            <a:ext cx="8381880" cy="10159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911 if the situation is threatening or the person is in danger. If you believe a crime has been committed, file a polic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5"/>
          <p:cNvSpPr/>
          <p:nvPr/>
        </p:nvSpPr>
        <p:spPr>
          <a:xfrm>
            <a:off x="457200" y="1676520"/>
            <a:ext cx="8381880" cy="1752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cerns about an FDIC-supervised financial institution, complete a customer assistance form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cal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legal document that allows someone else to handle your finances on your beha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ppoints a substitute decision-maker if you are unable to act on you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oids the need for a court-appointed guar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s relatively inexpensive; using a lawyer is advi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a Power of Attorne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sure to grant more authority than you wis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isuse of your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uthorized actions – gifts, changes to beneficia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urable – remains effective even if maker becomes physically or mentally incapacit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an attorney for help in making a POA that is appropriate for your circumstance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ust but ver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anyone with substance abuse, gambling, or who mismanages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ell others about your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f needed, change, cancel, or revoke the PO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oid appointing hired caregivers/help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ware of new “best friends” who offer to manage your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: Plan Ahea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durable power of attorney is a very important tool in planning for financial incapacity due to Alzheimer’s disease, another form of dementia, or other health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wer of Attorney: If You Are a Victi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 financial exploitation immediately to Adult Protective Services or your local law enforcement agenc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2565000" y="2792160"/>
            <a:ext cx="12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e by Caregivers and In-Home Help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members and caregivers are common perpetrators of elder financial exploi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your valuables, such as jewel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 private financial documents (checks, financial statements, credit cards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receipts f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itor bank accounts and telephone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setting up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utomatic bill pa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nsaction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egiver: Safeguard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let hired caregivers/helpers open your mail, pay your bills, manage your fina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promise money or assets after you die in exchange for care n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ver lend money or personal prope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n’t put persons other than your spouse/life-partner on the title to your h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Fraud and Ab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isleading senior certifications/desig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zi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missory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nscrupulous financial advi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ffinity fr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ternet fraud – the “Dot-C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appropriate or fraudulent annu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out the financial advis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base your trust on appearances or the sound of a vo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ake time to understand your cho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ay “no” to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wary of salespeople who prey on fears or promise returns that seem “too good to be tru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for a written explan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p around and get a second opin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“no” to financial advisers who tell you to leave everything in their c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ay in charge of your money or enlist a trusted third par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checks payable to a company or financial institution, never an individu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tain and maintain account statements and confirm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cument all conversations with financial advis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When Problems Occ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ke immediate action if you detect a proble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n’t let embarrassment or fear stop you from reporting exploitation or frau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2286000" y="386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Timing is critic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and reduce the risk of elder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 against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for unexpected loss of the ability to manage your fina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114800"/>
            <a:ext cx="220968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stments: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Have at least six-months living expenses readily available before you inv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your investment.  Attend classes, seminars, or check business references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ome “free seminars” are marketing techniq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derstand the ris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sure your financial adviser understands your objectives and risk toler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76520"/>
          <a:ext cx="8229600" cy="317016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C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It Does Not C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ing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cks or B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vings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und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Market Deposit Accounts (MMD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Insurance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es of Depos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 Deposit Accou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al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nderstanding FDIC Insurance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verage – generally $250,000 per person pe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Single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Joi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Revocable trus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</a:rPr>
              <a:t>Certain retirement acc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257800" y="1981080"/>
            <a:ext cx="34290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precise inform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toll-fre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 your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ttery and Sweepstakes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won…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Telephone calls, emails, or letters regarding lotteries, drawings, or sweepstak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s for upfront processing fees or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uthentic looking claims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weepstakes recovery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ello, Grandpa. I’m in trouble. Please don’t tell Mom.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s for Avoiding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“pay to play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You cannot win a contest you didn’t e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suspicious of pressure to wire funds or send pre-paid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ay attention to warnings from your financial instit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If the caller claims an emergency, check it out at a number you know to be val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wary of requests for secre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Telephone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874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h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uthentic looking emails, text messages, and Web pages to trick unsuspecting users into revealing personal financi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poof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mail address disguised to look like that of someone you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ll-tale Langu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e suspect an unauthorized transaction on your account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uring our regular verification of accounts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ur records indicate your account was overcharged..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…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lick the link below to verify your ident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lease call the number below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 need to send my niece money right away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trusted security software and make sure it is updated frequen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email financial information or account numb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Be cautious about opening attachments and downloading files, regardless of the sou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passwords that are hard to gu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hut down your PC when not using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e financially for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other helpful resources on managing money and reporting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er/Internet: Safeguard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 not open messages from an unfamiliar sen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open a suspicious message, delete it; do not click on links or call telephone numbers listed in such mess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lete email and text messages that ask you to confirm or provide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are concerned about an account, call the telephone number on your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ieves steal your personal financial information and use your identity to commit fraud and other cri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cial Security Numb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irth d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card and other account nu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Ns and pass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your person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ct incoming and outgoing 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ign up for direct depos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Use a shredder to destroy “financial trash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onitor bank accounts and credit card b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identity theft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view your credit record annually and report any fraudulent acti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dentity Theft: If You Are a Victi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ce an initial fraud alert with one of the major credit reporting compa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est copies of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Make an identity thef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 placing a security freeze on your credit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Can Hel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60948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ty Th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74720" y="1901880"/>
            <a:ext cx="777240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ederal Trade Commission (F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5"/>
          <p:cNvSpPr/>
          <p:nvPr/>
        </p:nvSpPr>
        <p:spPr>
          <a:xfrm>
            <a:off x="1092240" y="2590920"/>
            <a:ext cx="69343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ases of identity theft, contact the FTC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1117440" y="4059360"/>
            <a:ext cx="6934320" cy="12189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"When Social Security beneficiaries become aware that they are victims of identity theft, they can block electronic access to their information in SSA's records, a service availabl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"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hat It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omeone steals your personal information — such as your name and Medicare number — and uses it to get medical treatment, prescription drugs, surgery or other services and then bills Medicare for i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4080" y="3270240"/>
            <a:ext cx="17967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is costly to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be denied a service or equip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t can affect your medical and insurance records – change your blood type or record a diagnosis for a disease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You could receive wrong, perhaps harmful,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Warning Sig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 bill for services you did not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tact from a collection agency for money you do not 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Notification from insurance company that you have reached your limit for medical benef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enial of insurance for a medical condition you don’t 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Safegu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Protect your Medicare and insurance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eview Medicare Summary Notices (MSN),  insurance Explanation of Benefits (EOB) statements, and medical b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careful about sharing personal information (see those listed in your Participant Guid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ware of offers for free equipment, services or goods in exchange for your Medicare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hred papers with your medical identity and destroy prescription labels before throwing in the tra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dical Identity Theft: How to Respo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your medical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rite to your health plan or provider for corr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port your concerns to your Senior Medicare Pa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your state SMP contact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mpresour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is elder financial exploitation and who is at ris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Identity The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ew each response on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cate how often you perform each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lly your score to see how well you are taking measures to avoid ID th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ning for the Unexpec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ing for future health problems or disa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Gives you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lieves stress of decision-making for you and family members or careta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ves money and helps avoid financial setbac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s time to gather information and compar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pare a Plan: review income and expen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trusted family members know where to find necessary docum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t up direct deposit for income and benefit chec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utomatic payment of important recurring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or Future Health Problem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a Durable Power of Attor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sure you are properly insu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ntain a healthy lifesty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eiving Social Security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ocial Security and Supplemental Security Income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Depos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rect Express® Deb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ing Financially for a Disas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you may ne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orms of iden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river’s license or government-issued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suran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ocial Security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as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irth certif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Items You May N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book (blank checks and deposit slips to last at least a mon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TM cards, debit cards,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hone numbers for financial services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mportant accoun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Key to safety deposi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cting Your Doc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9903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backup copies of important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n electronic image for easy stor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Give a copy to loved ones or tell them where to find documents in an emerg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Store backups at a distance from home in case disaster affects entire commun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Make a record of all credit/debit cards with the account and contact numbers to report lost/stolen c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to Keep; Where to Keep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afety deposit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irth certificate and originals of important contr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, preferably in fireproof sa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ssport, medical care directives, wi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eal important documents in airtight, waterproof bags or contai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258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pare emergency evacuation bag(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Else to Consi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range for automatic bill payment from your bank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Internet banking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insurance co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is elder financial exploitation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is the theft of money, property or belongings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swers for many questions can be found 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CFP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consumerfinance.gov/askcfpb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also contact the FDIC at:</a:t>
            </a: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01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Financially Prepared Are Yo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ink about what you have learned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the documents you will gather and where you will keep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Pencil"/>
          <p:cNvPicPr/>
          <p:nvPr/>
        </p:nvPicPr>
        <p:blipFill>
          <a:blip r:embed="rId1"/>
          <a:stretch/>
        </p:blipFill>
        <p:spPr>
          <a:xfrm>
            <a:off x="0" y="2362320"/>
            <a:ext cx="1619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llow homeowners 62 and older to borrow against equity in their ho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onthly interest charges are added to loan amou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vailable as a line of credit, in regular monthly installments, or as a lump su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payable when you no longer live in the ho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ust maintain the home and pay property taxes and insur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: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mily members pressure a homeowner to get a reverse mortgage so they can “borrow” the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 requires borrower to sign a Power of Attorney or otherwise sign over proce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rokers pressure borrowers to purchase other financial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Assistance Relief S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ware of anyone who promises you can stay in your home or who asks for a lot of money to help y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cammers might promise guaranteed or immediate relief from foreclosure, and  might charge you very high fees for few or no services.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ny homeowners are targeted by scam artists who use high pressure tactics to sell unneeded and overpriced contracts for "home improvements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ractor/Home Improvement Fra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mall firm or individual, often going door-to-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mises for quick work at below market pr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ubstandard, unnecessary, or damag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</a:t>
            </a: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essures to pay through threats or intimi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ossibly impersonation of government offic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rify the identity of anyone claiming to be a government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Obtain written bids from local contr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void contractors </a:t>
            </a:r>
            <a:r>
              <a:rPr b="1" i="1" lang="en-US" sz="2800" spc="-1" strike="noStrike">
                <a:solidFill>
                  <a:srgbClr val="132f5a"/>
                </a:solidFill>
                <a:latin typeface="Helvetica Neue"/>
              </a:rPr>
              <a:t>who approach you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for licenses and compla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heck refer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Require a clearly written contr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ay in advance; never pay c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Don’t provide personal financial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f you need a loan, don’t let the contractor steer you to a l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Withhold final payment until you are satisfied and all required inspections are comple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Contractor Fraud: Tip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838080" y="4191120"/>
            <a:ext cx="7162920" cy="10666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me Sweet Home Impr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ailable at the FTC website,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</a:t>
            </a:r>
            <a:r>
              <a:rPr b="0" lang="en-US" sz="2400" spc="-1" strike="noStrike">
                <a:solidFill>
                  <a:srgbClr val="132f5a"/>
                </a:solidFill>
                <a:latin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by phoning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cams that Target Veterans Benef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sion Benefit Filing Sc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arketing of financial and estate planning services to help veterans qualif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arging substantial fees to help veteran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ump-sum Payment for Future Benef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3"/>
          <p:cNvSpPr/>
          <p:nvPr/>
        </p:nvSpPr>
        <p:spPr>
          <a:xfrm>
            <a:off x="990720" y="39625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formation on VA benefit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al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o i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yone can be the victim of financial exploit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lder financial exploitation crosses all social, educational, and economic boundarie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VA Pension Filing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0663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Know that VA must accredit individuals who help you prepare and file a clai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heck accreditation at www.va.gov/ogc/apps/accreditation/index.as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Never pay a fee for help in filing your initial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Avoid attorneys or claims agents who try to market investments in connection with your cla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Be aware that shifting assets into certain types of investments may affect your Medicaid/Medicare benef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voiding Lump-Sum Payment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aware that these arrangements are very cost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y no to arrangements that allow the lump-sum payment provider access to your accou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member that VA benefits cannot be garnished by a credi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ek advice of a trusted financial expe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ypes of financial exploi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ps for recognizing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rategies for avoiding identity theft, including medical identity the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to prepare financially for future health problems and disa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1219320"/>
            <a:ext cx="586728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regular income and accumulated asse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trusting and pol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lonely and socially isola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vulnerable due to grief from the loss of a spouse, family member, friend, or p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y are older adults at ris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35360" y="1189080"/>
            <a:ext cx="586728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lder adults ma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familiar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ith managing financial ma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unprepared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r retirement and the potential loss of financial decision-making capacity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ave cognitive impairm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Helvetica Neue"/>
                <a:ea typeface="Helvetica Neue"/>
              </a:rPr>
              <a:t>Be receiving </a:t>
            </a: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re from a person with substance abuse, gambling or financial problems, or mental health iss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dependent on a family member, caregiver or another person who may pressure them for money or control of their finan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Karama Neal</cp:lastModifiedBy>
  <cp:lastPrinted>2013-05-21T13:29:21Z</cp:lastPrinted>
  <dcterms:modified xsi:type="dcterms:W3CDTF">2016-08-16T17:26:39Z</dcterms:modified>
  <cp:revision>4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