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7832460-A8AC-48C0-A6A4-6D223120C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FB9F3D1-AE34-42CC-A11B-426C6D1146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BDDAB4F-C4E4-42B7-A283-06DD864FFE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C98DDB8-A630-4947-809C-5A3E04753C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CB45B1C-3A7F-45E9-B885-0F31ACDBF9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683CA38-F888-4C5A-90A9-F4D32A3BEB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5882CCE-C7D3-43AD-AA7D-844751417C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7B03B87-0FAE-400D-862E-A6A95F0BB9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52564E1-EA2F-433D-9178-FECBD8BDCD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115F468-CEB6-427A-BB4E-E621D8BBBC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5C5EF44-9B15-4F50-933B-1577556265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1B2ECF1-54A7-43DA-9AB3-6AE532CCE9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9BC6170-75C8-413A-831B-8635DB2174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2EAD69C-2E26-4FE9-A3EF-29F46BC961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0288721-F4BF-4454-8FED-5BBA26BDC6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2CA97E7-55E5-479C-9056-3FE3C6885F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D275348-62CE-408B-A5BE-FC9235EFEC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8512738-1A97-4CF9-908D-B8A5F7D1C4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559D367-1005-4A93-AB82-D9246ABD4F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A474ABB-7715-4869-9AD0-5E356F3D4F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192BC9B-37FA-4DFA-8D5B-A6025BBF20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A76B82B-2CA7-4296-95C4-1C3CF1F4C3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E04151B-D37F-498A-AA46-693440A3EB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6238369-13B0-4102-85ED-B118E9CC4A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12A0E16-4CBB-4277-8A14-87EABE265E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S" sz="1200" spc="-1" strike="noStrike">
              <a:solidFill>
                <a:srgbClr val="ff0000"/>
              </a:solidFill>
              <a:latin typeface="Helvetica Neue"/>
              <a:ea typeface="Genev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3F8540E-2305-424F-B7D3-83C9420A7D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46F6594-1415-4D59-9F1E-8C272D32F8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9D8BA04-D743-480E-AE54-AA1966733F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5C6-2E67-42B7-9674-C637C229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0E0-DAE2-4BF8-9978-220ACA18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85E-D317-4FDA-948C-E3EFE4AF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430-612E-445B-830C-B3428711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11B-8E9F-496A-A903-4556416F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03C9-FD88-40AE-A11B-3D825A9A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CC8E-9F0E-4B41-A0F6-FD8DCD44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4F4-4DC8-4F54-9DE2-37E97739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A88-5900-47B3-A464-3493DEE3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B74-71A0-479E-93E8-5E6F752A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CA5-75CE-4364-B6FA-352853CF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005-22E2-406D-90E2-9CF9DB6C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724A-4D5B-43CC-91C8-CF6BB3944D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2E6B-1FF4-4120-9DA5-1C01BAEEA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-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5410080" y="64008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</a:rPr>
              <a:t>Money Smart para adultos may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7285-CBBC-4844-B4BE-355AAC024778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791320" y="5346720"/>
            <a:ext cx="2720880" cy="6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36560" y="5259240"/>
            <a:ext cx="1219320" cy="847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6477120" y="55627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6324480" y="5621400"/>
            <a:ext cx="2514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32f5a"/>
                </a:solidFill>
                <a:latin typeface="Arial"/>
              </a:rPr>
              <a:t>FDIC </a:t>
            </a:r>
            <a:r>
              <a:rPr b="0" lang="es-ES" sz="1000" spc="-1" strike="noStrike">
                <a:solidFill>
                  <a:srgbClr val="132f5a"/>
                </a:solidFill>
                <a:latin typeface="Arial"/>
              </a:rPr>
              <a:t>programa de educación financie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DE69-AC89-4300-B145-8FA271B809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ldercare.gov/" TargetMode="External"/><Relationship Id="rId2" Type="http://schemas.openxmlformats.org/officeDocument/2006/relationships/hyperlink" Target="http://www.ftc.gov/idtheft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hyperlink" Target="http://www.socialsecurity.gov/blockaccess" TargetMode="External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nhcoa.org/national-hispanic-smp-nhsmp-progra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onsumerfinance.gov/es/obtener-respuestas/" TargetMode="External"/><Relationship Id="rId2" Type="http://schemas.openxmlformats.org/officeDocument/2006/relationships/hyperlink" Target="mailto:communityaffairs@fdic.gov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ftc.gov/index_es.s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va.gov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2"/>
          <a:stretch/>
        </p:blipFill>
        <p:spPr>
          <a:xfrm>
            <a:off x="7599240" y="5562720"/>
            <a:ext cx="782640" cy="37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609480" y="5437080"/>
            <a:ext cx="1441440" cy="582840"/>
          </a:xfrm>
          <a:prstGeom prst="rect">
            <a:avLst/>
          </a:prstGeom>
          <a:ln w="0">
            <a:noFill/>
          </a:ln>
        </p:spPr>
      </p:pic>
      <p:sp>
        <p:nvSpPr>
          <p:cNvPr id="9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4"/>
          <a:stretch/>
        </p:blipFill>
        <p:spPr>
          <a:xfrm>
            <a:off x="2286000" y="685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s de explotación financier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52712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oder legal financiero o abuso fiduciari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 robo de dinero o bienes por cuidadores o ayudantes en el hog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raude de invers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fas de loterías y rif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s de explotación financiera (cont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14300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Estafas por teléfo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Estafas por computadora o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Robo de ident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Fraude sobre el dinero obtenido de una hipoteca inver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Fraude de contratistas y de mejoras para el hog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14040" y="11426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amiliares y cuida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migos, vecinos o conoc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por teléfono y por corr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sesore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por el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tratistas de reparación de vivien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afadores de Medi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diera ser un abusad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los adultos mayores no reportan la explotació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48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pena y vergüe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lealtad a un familiar o cuid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miedo a las represalias o a no ser creí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que dependen del abus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negación de la rea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culparse a sí m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or falta de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rvicio de Protección de Adul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ounded Rectangle 4"/>
          <p:cNvSpPr/>
          <p:nvPr/>
        </p:nvSpPr>
        <p:spPr>
          <a:xfrm>
            <a:off x="990720" y="1905120"/>
            <a:ext cx="693396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uentre información de contacto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ldercare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00-677-11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457200" y="28195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Comisión Federal de Comercio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(FTC, por sus siglas en inglé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le 6"/>
          <p:cNvSpPr/>
          <p:nvPr/>
        </p:nvSpPr>
        <p:spPr>
          <a:xfrm>
            <a:off x="685800" y="4191120"/>
            <a:ext cx="784872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 los casos de robo de identidad, comuníquese con la FTC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14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rporación Federal de Seguro de Depósi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lic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4"/>
          <p:cNvSpPr/>
          <p:nvPr/>
        </p:nvSpPr>
        <p:spPr>
          <a:xfrm>
            <a:off x="685800" y="4114800"/>
            <a:ext cx="7772400" cy="12193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lame al 911 si la situación presenta alguna amenaza o la persona está en peligro. Si usted cree que un crimen ha sido cometido, presente una denuncia pol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5"/>
          <p:cNvSpPr/>
          <p:nvPr/>
        </p:nvSpPr>
        <p:spPr>
          <a:xfrm>
            <a:off x="380880" y="1447920"/>
            <a:ext cx="8382240" cy="196848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Para cualquier duda sobre alguna instituci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ó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n financiera supervisada por la FDIC, llene un formulario de asistencia al cliente 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 u="sng">
                <a:solidFill>
                  <a:srgbClr val="002060"/>
                </a:solidFill>
                <a:uFillTx/>
                <a:latin typeface="Calibri"/>
              </a:rPr>
              <a:t>www2.fdic.gov/starsmail/index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: 1-877-ASK-F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Un documento legal que permite a alguien manejar sus finanzas en su nomb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mbra a un sustituto que tome decisiones si usted es incapaz de actuar por su cuen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vita la necesidad de tener un tutor leg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 relativamente barato; se recomienda usar un abo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es un poder lega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ries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ión para que conceda más autoridad de la que usted desea conce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al uso de su dine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cciones no autorizadas: regalos, cambios de beneficiari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238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Duradero: sigue en vigor incluso si el otorgante queda incapacitado física o mentalm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Hable con un abogado para que le ayude a hacer un poder legal que corresponda a sus circunstancias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nfíe, pero verifiq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vite designar a una persona que tenga problemas de abuso de sustancias, que sea adicto al juego o que administre mal el din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Dígale a otros acerca de su poder leg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Si es necesario, cambie, cancele o revoque el poder leg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vite designar a cuidadores/ayudantes contratad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Tenga cuidado con gente nueva que propone ser su “mejor amigo” y que se ofrece para cuidar su din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ejo: ¡Planifique con anticipació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Un poder legal duradero es una herramienta muy importante en la planificación para casos de inhabilidad de tomar decisiones financieras debido a la enfermedad de Alzheimer, otra forma de demencia u otros problemas de salu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oder legal: si usted es una víct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forme la explotación financiera de inmediato al Servicio de Protección de Adultos o a su policía loc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20202000">
            <a:off x="3527280" y="3757680"/>
            <a:ext cx="966960" cy="223668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buso por parte de cuidadores y ayudantes en el ho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5267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chas veces los familiares y los cuidadores son responsables de la explotación financiera de adultos mayor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idadores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bien sus objetos de valor, como joy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roteja sus documentos financieros privados (cheques, estados financieros, tarjetas de crédito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Exija recibos de comp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Haga seguimiento a las cuentas bancarias y las facturas telefón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e establec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002060"/>
                </a:solidFill>
                <a:latin typeface="Helvetica Neue"/>
                <a:ea typeface="Arial"/>
              </a:rPr>
              <a:t>Sistemas automáticos de pago de factu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002060"/>
                </a:solidFill>
                <a:latin typeface="Helvetica Neue"/>
                <a:ea typeface="Arial"/>
              </a:rPr>
              <a:t>Alertas de transac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C:\Users\Michele\AppData\Local\Microsoft\Windows\Temporary Internet Files\Content.IE5\18280RFZ\MC900441313[1].png"/>
          <p:cNvPicPr/>
          <p:nvPr/>
        </p:nvPicPr>
        <p:blipFill>
          <a:blip r:embed="rId1"/>
          <a:stretch/>
        </p:blipFill>
        <p:spPr>
          <a:xfrm>
            <a:off x="7162920" y="37339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idadores: salvaguardias (cont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ermita que los cuidadores o ayudantes contratados abran su correo, que paguen sus facturas o que gestionen sus finanz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unca le prometa a nadie que le va a dejar dinero o bienes en su testamento a cambio de la atención que recibe aho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unca preste dinero o bienes person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onga su casa a nombre de cualquiera que no sean su cónyuge o compañero de vi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fraude y abus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ertificaciones y títulos falsos de servicios diseñados para adultos may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quemas Ponz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agar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sores financieros inescrupulo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Fraude por afili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Fraude por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Rentas vitalicias inapropiadas o fraudulen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Investigue al asesor financier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o base su confianza en las apariencias o el sonido de una vo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ome todo el tiempo que necesite para investigar sus decis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iga que “no” si se siente presionad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cuidado con los vendedores que se aprovechan del miedo o que prometen ganancias que parecen ser demasiado buenas para ser re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ida una explicación por escri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tice en varios sitios y obtenga una segunda opin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Diga “no” a cualquier asesor financiero que le pida que deje todo a su cuid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Manténgase a cargo de su dinero o consiga alguien de confian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Haga los cheques a nombre de una empresa o institución financiera, nunca a nombre de un individu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erve y mantenga los estados de cuenta y las confirmaciones de transac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ocumente todas las conversaciones con los asesores financier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cuando haya problem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Tome medidas inmediatas si detecta un problem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No permita que la vergüenza o el miedo le impida denunciar la explotación o el frau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371600" y="41688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961c"/>
                </a:solidFill>
                <a:latin typeface="Arial"/>
                <a:ea typeface="ＭＳ Ｐゴシック"/>
              </a:rPr>
              <a:t>Actuar a tiempo es vit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Identificar y reducir el riesgo de explotación financiera de adultos may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tegerse contra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cer planes por si uno pierde la capacidad de manejar sus finanz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2819520" y="4449600"/>
            <a:ext cx="1828800" cy="1609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versiones: consej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por lo menos seis meses de gastos de subsistencia disponibles antes de invert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ntienda su inversión.  Asista a clases, seminarios, o verifique las referencias de las empresas en la bibliote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en cuenta que algunos seminarios “gratuitos” son técnicas de mercade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mprenda los riesg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gúrese de que su asesor financiero entienda sus objetivos y su tolerancia al ries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render el seguro de la FD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676520"/>
          <a:ext cx="8229600" cy="353520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é cu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é no cu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corrie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iones o bo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ahor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ones en fondos de invers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depósito Money 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ólizas de seguros de v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dos de depós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tas  vitalic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de Depósito I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nos municip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render el seguro de la FDIC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obertura: generalmente $250,000 por depositante, por banco asegurado, para cada categoría de titularidad de cuen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Categorí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individu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conjun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uentas fiduciarias revoc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Helvetica Neue"/>
              </a:rPr>
              <a:t>Ciertas cuentas de jubi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029200" y="2286000"/>
            <a:ext cx="3657600" cy="2590920"/>
          </a:xfrm>
          <a:prstGeom prst="rect">
            <a:avLst/>
          </a:prstGeom>
          <a:solidFill>
            <a:srgbClr val="4f81bd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 recibir información preci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te www.myfdicinsurance.g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lame al teléfono gratui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877-ASK-FDIC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gunte a su banqu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de loterías y sorte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Usted ha ganado..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lamadas telefónicas, correos electrónicos o cartas sobre loterías, concursos, o sorte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olicitan que uno pague algunos cargos de procesamiento o impuestos por adelant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mprobantes que parecen ser autén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lamadas telefónicas explicando cómo recibir el premio de un sorte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por teléfo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9903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Hola, abuelo. Me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tí en un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problema. Por favor no le digas nada a mamá”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4" descr="C:\Users\Michele\AppData\Local\Microsoft\Windows\Temporary Internet Files\Content.IE5\M311SBES\MC900286879[1].wmf"/>
          <p:cNvPicPr/>
          <p:nvPr/>
        </p:nvPicPr>
        <p:blipFill>
          <a:blip r:embed="rId1"/>
          <a:stretch/>
        </p:blipFill>
        <p:spPr>
          <a:xfrm rot="19300800">
            <a:off x="1917360" y="1988640"/>
            <a:ext cx="1395360" cy="3230640"/>
          </a:xfrm>
          <a:prstGeom prst="rect">
            <a:avLst/>
          </a:prstGeom>
          <a:ln w="0">
            <a:noFill/>
          </a:ln>
        </p:spPr>
      </p:pic>
      <p:sp>
        <p:nvSpPr>
          <p:cNvPr id="21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ejos para evitar las estafas telefóni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unca “pague por jugar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Uno no puede ganar un sorteo en el que no particip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o confíe en nadie que lo presione para transferir fondos o enviarle tarjetas pre paga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Preste atención a las advertencias de su institución financie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i la persona que llama dice que es una emergencia, cerciórese llamando un número que usted sepa que es váli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con la gente que quiere que uno mantenga un secre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Estafas por teléfo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808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1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sobre cada situaci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</a:rPr>
              <a:t>ó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228600" y="220968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por computadora o Intern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132f5a"/>
                </a:solidFill>
                <a:latin typeface="Helvetica Neue"/>
              </a:rPr>
              <a:t>Correos electrónicos, mensajes de texto y páginas de Internet que parecen ser auténticos y están diseñados para engañar a los usuarios para que revelen información financiera 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poof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132f5a"/>
                </a:solidFill>
                <a:latin typeface="Helvetica Neue"/>
              </a:rPr>
              <a:t>Utilizan una dirección de correo electrónico parecida a una conoc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11049120" y="1752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ses que pueden indicar un frau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ospechamos de una transacción no autorizada en su cuenta..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urante nuestra verificación periódica de las cuentas..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Nuestros registros indican que hubo un sobrecargo </a:t>
            </a:r>
            <a:br>
              <a:rPr sz="2200"/>
            </a:b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su cuenta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...por favor haga clic en el siguiente enlace para verificar </a:t>
            </a:r>
            <a:br>
              <a:rPr sz="2200"/>
            </a:b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u identida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or favor llame al número que aparece abajo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Tengo que enviarle dinero a mi sobrina de inmediato..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adora/Internet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se un buen programa</a:t>
            </a:r>
            <a:r>
              <a:rPr b="1" lang="es-US" sz="22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e seguridad y asegúrese de actualizarlo con frecuenci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No envíe información financiera ni números de cuenta por correo electrónic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Tenga cuidado al abrir archivos adjuntos y descargar archivos, independientemente de quién los man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se contraseñas que sean difíciles de adivin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Apague su computadora cuando no la esté utilizan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pararse económicamente para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atástrof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1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contrar otros recursos útiles sobre cómo administrar el dinero y reportar la explotación financie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putadora/Internet: salvaguardia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No abra mensajes de remitentes desconocido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Si abre un mensaje sospechoso, bórrelo. No haga clic en ningún enlace ni llame al número de teléfono que aparece en el mensa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Elimine correos electrónicos y mensajes de texto que le pidan confirmar o proporcionar información pers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32f5a"/>
                </a:solidFill>
                <a:latin typeface="Helvetica Neue"/>
              </a:rPr>
              <a:t>Si tiene preocupación por alguna cuenta, llame al número de teléfono que aparece en el estado de cuenta</a:t>
            </a:r>
            <a:r>
              <a:rPr b="1" lang="en-US" sz="2200" spc="-1" strike="noStrike">
                <a:solidFill>
                  <a:srgbClr val="604a7b"/>
                </a:solidFill>
                <a:latin typeface="Helvetica Neu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s ladrones roban su información financiera personal y usan su identidad para cometer fraude y otros deli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úmero de Seguro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echa de nacimien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arjetas de crédito y otros números de cuen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Números de identidad personal y contraseñ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0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oteja su información pers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oteja el correo entrante y sali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Regístrese para depósitos direct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Utilice una desfibradora</a:t>
            </a:r>
            <a:r>
              <a:rPr b="1" lang="es-US" sz="22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ara destruir la basura que contiene información financier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upervise sus cuentas bancarias y las facturas de sus tarjetas de crédit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vite el robo de identidad por Intern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Revise su informe de crédito anualmente y denuncie las actividades fraudulent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: si usted es una víct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loque una alerta inicial de fraude con una de las compañías nacionales de informes crediti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Solicite copias de su informe de crédi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Denuncie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idere solicitar un congelamiento de su informe crediticio por razones de segur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puede ayuda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609480" y="99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Robo de ident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774720" y="1533600"/>
            <a:ext cx="7772400" cy="16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Comisión Federal de Comercio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(FTC, por sus siglas en inglé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5"/>
          <p:cNvSpPr/>
          <p:nvPr/>
        </p:nvSpPr>
        <p:spPr>
          <a:xfrm>
            <a:off x="304920" y="2590920"/>
            <a:ext cx="8153280" cy="76176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a los casos de robo de identidad, comuníquese con la FTC e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ftc.gov/idthef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 llame al 1-877-IDTHEFT (438-43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1295280" y="3505320"/>
            <a:ext cx="673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ＭＳ Ｐゴシック"/>
              </a:rPr>
              <a:t>Seguro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ounded Rectangle 7"/>
          <p:cNvSpPr/>
          <p:nvPr/>
        </p:nvSpPr>
        <p:spPr>
          <a:xfrm>
            <a:off x="304920" y="4114800"/>
            <a:ext cx="8229600" cy="12193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uando un beneficiario 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guro Social s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 cuenta de que fue víctima de un robo de identidad, puede bloquear el acceso electrónico a su información en los registros de la SSA, un servicio disponible e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ocialsecurity.gov/blockacces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”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¿De qué se trat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Alguien roba su información personal — como su nombre y su número de Medicare — y la utiliza para obtener tratamiento médico, medicamentos recetados, cirugías u otros servicios, y luego le pasa la factura a Medica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5" descr="C:\Users\Michele\AppData\Local\Microsoft\Windows\Temporary Internet Files\Content.IE5\M311SBES\MC900252135[1].wmf"/>
          <p:cNvPicPr/>
          <p:nvPr/>
        </p:nvPicPr>
        <p:blipFill>
          <a:blip r:embed="rId1"/>
          <a:stretch/>
        </p:blipFill>
        <p:spPr>
          <a:xfrm rot="2112000">
            <a:off x="2493720" y="3675240"/>
            <a:ext cx="1796760" cy="2346120"/>
          </a:xfrm>
          <a:prstGeom prst="rect">
            <a:avLst/>
          </a:prstGeom>
          <a:ln w="0">
            <a:noFill/>
          </a:ln>
        </p:spPr>
      </p:pic>
      <p:sp>
        <p:nvSpPr>
          <p:cNvPr id="25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ries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Hacer correcciones es costo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Se le podría negar un servicio o equipo méd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Puede afectar los registros médicos y de seguros, como cambiar el tipo de sangre o registrar un diagnóstico para una enfermedad de cual uno no pade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Uno podría recibir un tratamiento equivocado, y quizás perjudi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señales de aler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factura por servicios médicos que no recibi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comunicación de una agencia de cobro sobre dinero que usted no deb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notificación de una compañía de seguros que dice que usted ha llegado a su límite de beneficios médic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f5a"/>
                </a:solidFill>
                <a:latin typeface="Helvetica Neue"/>
              </a:rPr>
              <a:t>Una negación del seguro por una condición médica que usted no tie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salvaguard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Proteja sus tarjetas del seguro y de 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Revise los Avisos de Resumen de Medicare (MSN), las Explicaciones de Beneficios (EOB) y las facturas médic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al compartir información personal (ver los enumerados en la Guía del Participant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cuidado con cualquier oferta de equipo, bienes o servicios gratuitos a cambio de su número de 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estruya los papeles con su información médica y las etiquetas de recetas antes de depositarlos en la basu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obo de identidad médica: </a:t>
            </a:r>
            <a:br>
              <a:rPr sz="3600"/>
            </a:b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respond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52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Obtenga su expediente méd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criba a su plan de seguro de salud o a su proveedor de servicio para solicitar una correc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Informe sus preocupaciones a su Patrulla de Medic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ounded Rectangle 4"/>
          <p:cNvSpPr/>
          <p:nvPr/>
        </p:nvSpPr>
        <p:spPr>
          <a:xfrm>
            <a:off x="914400" y="4495680"/>
            <a:ext cx="6934320" cy="76212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 encontrar su contacto SMP estatal, visite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hcoa.org/national-hispanic-smp-nhsmp-progra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  (Hispanic S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Usted qué sab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es la explotación financiera de adultos mayores y quié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stá en riesgo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1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Robo de ident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5335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2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vise cada respuesta en la li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dique con qué frecuencia realiza cada ac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82280" indent="-4730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alcule su puntuación para ver qué tan bien está tomando medidas para evitar el robo de ident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4" descr="Pencil"/>
          <p:cNvPicPr/>
          <p:nvPr/>
        </p:nvPicPr>
        <p:blipFill>
          <a:blip r:embed="rId1"/>
          <a:stretch/>
        </p:blipFill>
        <p:spPr>
          <a:xfrm>
            <a:off x="0" y="228600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27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lanear para lo inesper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Prepararse para futuros problemas de salud o catástrofe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da cont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livia el estrés de las decisiones para sus familiares o cuida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ahorra dinero y le ayuda a evitar un contratiempo financie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e da tiempo para obtener información y comparar opc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para futuros problemas de sal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repare un plan: revise sus ingresos y gas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Asegúrese de que sus familiares de confianza sepan dónde encontrar los documentos necesar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Establezca el depósito directo para ingresos y cheques de benef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Considere el pago automático de cuentas importantes y recurren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para futuros problemas de salud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onsidere la posibilidad de un poder legal durade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segúrese de tener un seguro adecuad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antenga un estilo de vida salud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étodos para recibir los beneficios del seguro soc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guro Social e Ingreso de Seguridad Suplementario (SS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pósito direc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rjeta de débito Direct Express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pararse econ</a:t>
            </a:r>
            <a:r>
              <a:rPr b="1" lang="es-US" sz="3600" spc="-1" strike="noStrike">
                <a:solidFill>
                  <a:srgbClr val="c1961c"/>
                </a:solidFill>
                <a:latin typeface="Helvetica Neue"/>
              </a:rPr>
              <a:t>ó</a:t>
            </a: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icamente para una catástrofe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 que pudiera necesita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Formas de identific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Licencia de conducir o identificación ofi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Tarjetas de seg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Tarjeta de seguro so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Pasapo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2060"/>
                </a:solidFill>
                <a:latin typeface="Helvetica Neue"/>
              </a:rPr>
              <a:t>Certificado de na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ras cosas que pudiera necesit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u chequera (con suficientes cheques en blanco y formularios de depósito que duren por lo menos un m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arjetas para el cajero automático, tarjetas de débito, tarjetas de crédi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inero en efe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úmeros telefónicos de sus proveedores de servicios financie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úmeros de cuentas importa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Llave o clave de su caja de segur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teger sus docume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1426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Haga copias de los documentos importan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ome una imagen electrónica para facilitar el almacenamien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Dele una copia a sus seres queridos o dígales dónde encontrar los documentos en caso de emerge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Guarde las copias de seguridad a cierta distancia de su vivienda en caso de que la catástrofe</a:t>
            </a:r>
            <a:r>
              <a:rPr b="1" lang="en-US" sz="2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afecte a toda la comun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Haga una lista de todas sus tarjetas de</a:t>
            </a:r>
            <a:r>
              <a:rPr b="1" lang="es-US" sz="2000" spc="-1" strike="noStrike">
                <a:solidFill>
                  <a:srgbClr val="0000ff"/>
                </a:solidFill>
                <a:latin typeface="Helvetica Neue"/>
              </a:rPr>
              <a:t> 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crédito y débito con los números de cuenta y de contacto para reportar tarjetas robadas o perdi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é debe guardar y dó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una caja de seguridad en el banc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2060"/>
                </a:solidFill>
                <a:latin typeface="Helvetica Neue"/>
              </a:rPr>
              <a:t>Certificado de nacimiento y documentos originales de contratos importa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n casa, preferiblemente en una caja fuerte a prueba de fueg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2060"/>
                </a:solidFill>
                <a:latin typeface="Helvetica Neue"/>
              </a:rPr>
              <a:t>Pasaporte, directivas de atención médica y testamento vi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elle los documentos importantes en bolsas o contenedores herméticos a prueba de agu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repare bolso(s) para una evacuación de emerge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é más debe tener en cuen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Organice para que los pagos de las facturas se hagan automáticamente de su cuenta bancar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Anótese para recibir servicios bancarios por Intern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Revise la cobertura de sus pólizas de segu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es la explotación financiera de adultos mayore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132f5a"/>
                </a:solidFill>
                <a:latin typeface="Calibri"/>
              </a:rPr>
              <a:t>La explotación financiera de adultos mayores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 es el robo de dinero, bienes o pertenenci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cursos adicion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Las respuestas a muchas preguntas pueden encontrarse 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ff0000"/>
                </a:solidFill>
                <a:latin typeface="Helvetica Neue"/>
              </a:rPr>
              <a:t>	</a:t>
            </a:r>
            <a:r>
              <a:rPr b="1" lang="es-US" sz="3000" spc="-1" strike="noStrike">
                <a:solidFill>
                  <a:srgbClr val="ff0000"/>
                </a:solidFill>
                <a:latin typeface="Helvetica Neue"/>
              </a:rPr>
              <a:t>	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Pregúntele al CFPB </a:t>
            </a: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http://www.consumerfinance.gov/es/obtener-respuestas/</a:t>
            </a:r>
            <a:r>
              <a:rPr b="0" lang="es-US" sz="2800" spc="-1" strike="noStrike">
                <a:solidFill>
                  <a:srgbClr val="ff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132f5a"/>
                </a:solidFill>
                <a:latin typeface="Helvetica Neue"/>
              </a:rPr>
              <a:t>También puede contactar al FDIC en:</a:t>
            </a:r>
            <a:r>
              <a:rPr b="1" lang="es-US" sz="32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1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3000" spc="-1" strike="noStrike" u="sng">
                <a:solidFill>
                  <a:srgbClr val="0000ff"/>
                </a:solidFill>
                <a:uFillTx/>
                <a:latin typeface="Helvetica Neue"/>
                <a:hlinkClick r:id="rId2"/>
              </a:rPr>
              <a:t>communityaffairs@fdic.go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3: ¿Qué tan preparado se encuentra usted económicament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la Actividad 3 de la Guía d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ense en lo que aprendió ho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e los documentos que reunirá y escriba dónde los guardar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4" descr="Pencil"/>
          <p:cNvPicPr/>
          <p:nvPr/>
        </p:nvPicPr>
        <p:blipFill>
          <a:blip r:embed="rId1"/>
          <a:stretch/>
        </p:blipFill>
        <p:spPr>
          <a:xfrm>
            <a:off x="0" y="2619360"/>
            <a:ext cx="1619280" cy="2714760"/>
          </a:xfrm>
          <a:prstGeom prst="rect">
            <a:avLst/>
          </a:prstGeom>
          <a:ln w="0">
            <a:noFill/>
          </a:ln>
        </p:spPr>
      </p:pic>
      <p:sp>
        <p:nvSpPr>
          <p:cNvPr id="30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s inver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ermiten que los propietarios de casas mayores de 62 años saquen préstamos garantizados por el valor líquido de sus hogar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Los intereses mensuales se suman al saldo del préstam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isponible como una línea de crédito, en cuotas mensuales o en una sola sum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Se liquida una vez que usted ya no viva en la vivien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Debe seguir manteniendo la vivienda y pagando los impuestos de propiedad y el segu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inversa: Estaf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Los familiares pueden presionar al dueño de la vivienda a que obtenga una hipoteca inversa para que ellos puedan “tomar prestado” el diner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El estafador solicita al prestatario que firme un poder legal o que le otorgue los beneficios de otra manera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Los corredores</a:t>
            </a:r>
            <a:r>
              <a:rPr b="1" lang="es-US" sz="2600" spc="-1" strike="noStrike">
                <a:solidFill>
                  <a:srgbClr val="ff0000"/>
                </a:solidFill>
                <a:latin typeface="Helvetica Neue"/>
              </a:rPr>
              <a:t> </a:t>
            </a:r>
            <a:r>
              <a:rPr b="1" lang="es-US" sz="2600" spc="-1" strike="noStrike">
                <a:solidFill>
                  <a:srgbClr val="132f5a"/>
                </a:solidFill>
                <a:latin typeface="Helvetica Neue"/>
              </a:rPr>
              <a:t>pueden presionar a los prestatarios para que compren otros productos financier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 en la asistencia hipotecar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088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enga cuidado con cualquiera que le prometa que uno puede quedarse en su vivienda, o que le solicite mucho dinero para ayudarl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Los estafadores pueden prometerle ayuda garantizada o inmediata en una ejecución hipotecaria, y pueden cobrarle costos muy altos por sus servicios, aún que no hayan proporcionado ningún servicio.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ude de contratistas o fraude 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9871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</a:rPr>
              <a:t>mejoras para el ho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Muchos propietarios de viviendas son el blanco de los estafadores que utilizan tácticas para presionar y vender servicios de “mejoras al hogar”  que son innecesarios y demasiado car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5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raude de contratistas: cómo detectarl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0520" y="12189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Un negocio pequeño o un individuo, frecuentemente ofrecen servicios a domicil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rometen hacer un trabajo rápido y le ofrecen un precio más bajo que lo norm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rabajo deficiente, innecesario o dañi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Lo presionan a uno a para pagar usando amenazas o intimid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Puede incluir personas que fingen ser funcionarios del gobi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el fraude de contratistas: consej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560" y="1447560"/>
            <a:ext cx="8762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la identidad de cualquiera que se haga pasar por un empleado del gobiern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Obtenga una cotización por escrito de algunos contratistas local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Evite los contratistas </a:t>
            </a:r>
            <a:r>
              <a:rPr b="1" i="1" lang="es-US" sz="2100" spc="-1" strike="noStrike">
                <a:solidFill>
                  <a:srgbClr val="132f5a"/>
                </a:solidFill>
                <a:latin typeface="Helvetica Neue"/>
              </a:rPr>
              <a:t>que lo contacten sin usted solicitarlo</a:t>
            </a: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sus licencias y quej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Verifique las referencia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Solicite un contrato claramente escrit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100" spc="-1" strike="noStrike">
                <a:solidFill>
                  <a:srgbClr val="132f5a"/>
                </a:solidFill>
                <a:latin typeface="Helvetica Neue"/>
              </a:rPr>
              <a:t>No pague por adelantado. Nunca pague con dinero en efectiv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0520" y="15238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 proporcione información financiera pers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Si usted necesita un préstamo, no permita que el contratista lo refiera a un prestamis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No haga el último pago hasta que esté satisfecho con el trabajo y ya se hayan completado todas las inspecciones necesari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el fraude de contratistas: consejo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ounded Rectangle 4"/>
          <p:cNvSpPr/>
          <p:nvPr/>
        </p:nvSpPr>
        <p:spPr>
          <a:xfrm>
            <a:off x="838080" y="4267080"/>
            <a:ext cx="7162920" cy="106704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Lea </a:t>
            </a:r>
            <a:r>
              <a:rPr b="0" i="1" lang="es-US" sz="2400" spc="-1" strike="noStrike">
                <a:solidFill>
                  <a:srgbClr val="000000"/>
                </a:solidFill>
                <a:latin typeface="Calibri"/>
              </a:rPr>
              <a:t>Home Sweet Home Improvement, 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disponible en el sitio web de la FTC, </a:t>
            </a:r>
            <a:r>
              <a:rPr b="0" lang="es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tc.gov/index_es.shtml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US" sz="2400" spc="-1" strike="noStrike">
                <a:solidFill>
                  <a:srgbClr val="132f5a"/>
                </a:solidFill>
                <a:latin typeface="Calibri"/>
              </a:rPr>
              <a:t> 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 1‑877‑FTC‑HELP (382-43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afas que tienen como objetivo los beneficios de los veteran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Estafa de servicios de solicitud de beneficios de pens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132f5a"/>
                </a:solidFill>
                <a:latin typeface="Helvetica Neue"/>
              </a:rPr>
              <a:t>Comercialización de servicios de planificación financiera y bienes raíces para ayudar a que los veteranos califiqu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Char char="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000" spc="-1" strike="noStrike">
                <a:solidFill>
                  <a:srgbClr val="132f5a"/>
                </a:solidFill>
                <a:latin typeface="Helvetica Neue"/>
              </a:rPr>
              <a:t>Cobran honorarios sustanciales para ayudar a los veteranos a preparar y someter la documen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200" spc="-1" strike="noStrike">
                <a:solidFill>
                  <a:srgbClr val="132f5a"/>
                </a:solidFill>
                <a:latin typeface="Helvetica Neue"/>
              </a:rPr>
              <a:t>Pago de una sola suma por beneficios futur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ounded Rectangle 3"/>
          <p:cNvSpPr/>
          <p:nvPr/>
        </p:nvSpPr>
        <p:spPr>
          <a:xfrm>
            <a:off x="990720" y="4038480"/>
            <a:ext cx="7010280" cy="1371600"/>
          </a:xfrm>
          <a:prstGeom prst="roundRect">
            <a:avLst>
              <a:gd name="adj" fmla="val 16667"/>
            </a:avLst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Para obtener información sobre los beneficios de la Administración de veteranos, visite </a:t>
            </a:r>
            <a:r>
              <a:rPr b="0" lang="es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a.gov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Link redirige hacia una página en inglé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 llame al 1-800-827-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ién está en riesg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Cualquiera puede ser víctima de la explotación financier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La explotación financiera de adultos mayores cruza todas las fronteras sociales, educativas y económica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2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evitar estafas de solicitud de beneficios de la 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pa que la Administración de veteranos (VA) debe acreditar a las personas que ayudan a preparar y someter una reclamació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Verifique la acreditación en www.va.gov/ogc/apps/accreditation/index.as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Nunca pague cargos por recibir ayuda para preparar y presentar su primera reclam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Evite los abogados o agentes de reclamaciones que traten de venderle inversiones en relación con su reclam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ga en cuenta que mover activos a ciertos tipos de inversiones puede afectar sus beneficios de Medicaid/Medic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vite las estafas de pago de una sola su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Tenga en cuenta que estos acuerdos son muy costos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Diga no a los acuerdos que le permitan acceso a su cuenta al proveedor del pago de suma glob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Recuerde que los beneficios del VA no pueden ser embargados por un acreed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132f5a"/>
                </a:solidFill>
                <a:latin typeface="Helvetica Neue"/>
              </a:rPr>
              <a:t>Busque la asesoría de un experto financiero de confian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0666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Usted aprendió sob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Tipos de explotación financ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onsejos para reconocer estaf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Estrategias para evitar el robo de identidad, incluyendo el robo de identidad méd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132f5a"/>
                </a:solidFill>
                <a:latin typeface="Helvetica Neue"/>
              </a:rPr>
              <a:t>Cómo prepararse económicamente para futuros problemas de salud y catástrof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preguntas finales tien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ha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000" spc="-1" strike="noStrike">
                <a:solidFill>
                  <a:srgbClr val="132f5a"/>
                </a:solidFill>
                <a:latin typeface="Helvetica Neue"/>
              </a:rPr>
              <a:t>¿Qué le pareció este entrenamien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  <p:sp>
        <p:nvSpPr>
          <p:cNvPr id="34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están los adultos mayores en riesgo de la explotación financier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00400" y="205704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Los adultos mayores pued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Tener ingresos regulares y bienes acumul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r confiados y am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32f5a"/>
                </a:solidFill>
                <a:latin typeface="Helvetica Neue"/>
              </a:rPr>
              <a:t>Sentirse solos y aislados socialmente</a:t>
            </a: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000" spc="-1" strike="noStrike">
                <a:solidFill>
                  <a:srgbClr val="132f5a"/>
                </a:solidFill>
                <a:latin typeface="Helvetica Neue"/>
              </a:rPr>
              <a:t>Ser vulnerables debido a la pérdida de un cónyuge, un familiar, un amigo o una masc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2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3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Por qué están los adultos mayores en riesgo de la explotación financi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895480" y="1143000"/>
            <a:ext cx="6019920" cy="44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Los adultos mayores pued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No est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ar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familiarizados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con el manejo de los asuntos financiero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No est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ar</a:t>
            </a:r>
            <a:r>
              <a:rPr b="1" lang="es-US" sz="1600" spc="-1" strike="noStrike">
                <a:solidFill>
                  <a:srgbClr val="17375e"/>
                </a:solidFill>
                <a:latin typeface="Helvetica Neue"/>
              </a:rPr>
              <a:t> preparados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para la jubilación y la posible pérdida de la capacidad en la toma de decisiones financiera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Sufrir de enfermedades que le impiden aprender, entender, o concertar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Recibir cuidado por parte de una persona con problemas de abuso de drogas, juegos de azar o problemas financieros o de salud ment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US" sz="1600" spc="-1" strike="noStrike">
                <a:solidFill>
                  <a:srgbClr val="132f5a"/>
                </a:solidFill>
                <a:latin typeface="Helvetica Neue"/>
              </a:rPr>
              <a:t>Depender de un miembro de la familia, cuidador u otra persona que puede ejercer presión sobre ellos por su dinero o por el control de sus finanza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685800" y="2057400"/>
            <a:ext cx="1544760" cy="3321000"/>
          </a:xfrm>
          <a:prstGeom prst="rect">
            <a:avLst/>
          </a:prstGeom>
          <a:ln w="0">
            <a:noFill/>
          </a:ln>
        </p:spPr>
      </p:pic>
      <p:sp>
        <p:nvSpPr>
          <p:cNvPr id="13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>ddeibel@fdic.gov</dc:creator>
  <dc:description/>
  <dc:language>en-US</dc:language>
  <cp:lastModifiedBy>Vinca Swanson</cp:lastModifiedBy>
  <cp:lastPrinted>2014-08-11T20:53:33Z</cp:lastPrinted>
  <dcterms:modified xsi:type="dcterms:W3CDTF">2014-08-11T20:54:04Z</dcterms:modified>
  <cp:revision>7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