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CC0CB7-9B44-496F-9F44-3C3492B6A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E380FB-BABE-4870-A7F9-FA41167FA6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2AF879-1ED6-481F-85FE-B2EB4715CD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3FC5A0-485E-4B99-A973-FAB7CA35D7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3E6D10-55E9-44B9-A26A-68E7BD5643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A9774B-A4F5-47F7-92E6-19E7787D12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13C38C-CB0B-417C-8A0D-A2B4970B5E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D77FBA-0D82-4D68-8144-AE91C9E33B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0D5116-4257-4365-8CED-109C2B5A59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52AF61-2B39-46B3-8A27-0FAD8E15C6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A8EAEC-A6CA-48B3-92A4-CECDAA10F4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DFF5F5-D4BB-48E8-AD3C-45F3682A46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F1EE1F-60F0-49FD-9C95-4969C81ADF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547-AC57-449C-ABDA-05FEA60A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F7BE-449D-46DF-8BBD-2E6739F3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D4C-634F-4388-ACEF-FFAB4650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DC8-BD9E-4AF3-95BD-4D0340D9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457-5D10-4562-B24E-A130F6FC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8092-1879-41C7-8236-2DD24DD6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711-634B-4169-A540-A60EF597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70DF-2969-4417-BBD5-0B2FBEA0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02B-3B69-49A9-9D5E-2FB58A15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042-3F33-4936-A671-EAB71108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61B9-55F9-49DC-8DC9-9F34CEC5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E2B-46DB-4D8C-B5FE-66F61429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E211-6856-481D-8327-A15ADB14D9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D845-E773-4007-9723-289A56CA1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24852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Smart for Older Ad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0587-AD88-45A4-8112-65F9BC4E6EDE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EC4B-8E5D-4D40-8A72-E38A806276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2.fdic.gov/starsmail/index.asp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smpresource.org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askcfpb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" TargetMode="External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MS_OlderAdultsLogo.jpg"/>
          <p:cNvPicPr/>
          <p:nvPr/>
        </p:nvPicPr>
        <p:blipFill>
          <a:blip r:embed="rId4"/>
          <a:stretch/>
        </p:blipFill>
        <p:spPr>
          <a:xfrm>
            <a:off x="232416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power of attorney (POA) or fiduciary ab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ft of money or property by caregivers and in-home help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estment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ttery and sweepstakes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(cont.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uter/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erse mortgage proceeds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ractor fraud and home improvemen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14040" y="9903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and caregiv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iends, neighbors or acquaint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and mail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advis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repair contr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re scam 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th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ould Be an Abus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Don’t Older Adults Report Exploit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hame and embarra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oyalty to a family member or careg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Fear of retaliation or not being bel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pendence on the ab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n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elf-bl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ck of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dult Protectiv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4"/>
          <p:cNvSpPr/>
          <p:nvPr/>
        </p:nvSpPr>
        <p:spPr>
          <a:xfrm>
            <a:off x="1104840" y="16002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contact information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57200" y="30481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6"/>
          <p:cNvSpPr/>
          <p:nvPr/>
        </p:nvSpPr>
        <p:spPr>
          <a:xfrm>
            <a:off x="1104840" y="38988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ederal Deposit Insurance Corpo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l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4"/>
          <p:cNvSpPr/>
          <p:nvPr/>
        </p:nvSpPr>
        <p:spPr>
          <a:xfrm>
            <a:off x="457200" y="4114800"/>
            <a:ext cx="8381880" cy="10159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911 if the situation is threatening or the person is in danger. If you believe a crime has been committed, file a polic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5"/>
          <p:cNvSpPr/>
          <p:nvPr/>
        </p:nvSpPr>
        <p:spPr>
          <a:xfrm>
            <a:off x="457200" y="1676520"/>
            <a:ext cx="8381880" cy="1752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cerns about an FDIC-supervised financial institution, complete a customer assistance form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cal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legal document that allows someone else to handle your finances on your beha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ppoints a substitute decision-maker if you are unable to act on your 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oids the need for a court-appointed guard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s relatively inexpensive; using a lawyer is advis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a Power of Attorne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sure to grant more authority than you wi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isuse of your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uthorized actions – gifts, changes to beneficia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urable – remains effective even if maker becomes physically or mentally incapacit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an attorney for help in making a POA that is appropriate for your circumstance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ust but verif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anyone with substance abuse, gambling, or who mismanages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ell others about your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f needed, change, cancel, or revoke the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hired caregivers/hel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ware of new “best friends” who offer to manage your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: Plan Ahea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durable power of attorney is a very important tool in planning for financial incapacity due to Alzheimer’s disease, another form of dementia, or other health problem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If You Are a Victi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 financial exploitation immediately to Adult Protective Services or your local law enforcement agenc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2565000" y="2792160"/>
            <a:ext cx="12193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e by Caregivers and In-Home Help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members and caregivers are common perpetrators of elder financial exploi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your valuables, such as jewel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private financial documents (checks, financial statements, credit cards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receipts for purch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onitor bank accounts and telephone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setting up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utomatic bill pay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ransaction ale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let hired caregivers/helpers open your mail, pay your bills, manage your fina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promise money or assets after you die in exchange for care 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lend money or personal prope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n’t put persons other than your spouse/life-partner on the title to your ho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Fraud and Ab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isleading senior certifications/desig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zi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missory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nscrupulous financial advi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ffinity fra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ternet fraud – the “Dot-C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appropriate or fraudulent annu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out the financial advis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base your trust on appearances or the sound of a vo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ake time to understand your cho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ay “no” to press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wary of salespeople who prey on fears or promise returns that seem “too good to be true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for a written explan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p around and get a second opin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“no” to financial advisers who tell you to leave everything in their c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ay in charge of your money or enlist a trusted third pa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checks payable to a company or financial institution, never an individu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tain and maintain account statements and confirm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cument all conversations with financial advis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When Problems Occ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ke immediate action if you detect a proble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n’t let embarrassment or fear stop you from reporting exploitation or frau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2286000" y="38638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  <a:ea typeface="ＭＳ Ｐゴシック"/>
              </a:rPr>
              <a:t>Timing is critic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ze and reduce the risk of elder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 against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for unexpected loss of the ability to manage your fin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114800"/>
            <a:ext cx="220968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Poi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Have at least six-months living expenses readily available before you inv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your investment.  Attend classes, seminars, or check business references in the libr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ome “free seminars” are marketing techniq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the risk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sure your financial adviser understands your objectives and risk toler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676520"/>
          <a:ext cx="8229600" cy="317016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Cov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Does Not C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ing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cks or Bo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vings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und Sh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Market Deposit Accounts (MMD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Insurance Poli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s of Depo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 Deposit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nicipal Secur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verage – generally $250,000 per person per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Single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Joi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Revocable trus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Certain retireme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257800" y="1981080"/>
            <a:ext cx="34290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precise inform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l toll-fre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 your ban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ttery and Sweepstakes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won…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elephone calls, emails, or letters regarding lotteries, drawings, or sweepstak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s for upfront processing fees or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uthentic looking claims che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weepstakes recovery c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ello, Grandpa. I’m in trouble. Please don’t tell Mom.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s for Avoiding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“pay to play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You cannot win a contest you didn’t en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suspicious of pressure to wire funds or send pre-paid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ay attention to warnings from your financial instit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If the caller claims an emergency, check it out at a number you know to be val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wary of requests for secre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874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his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thentic looking emails, text messages, and Web pages to trick unsuspecting users into revealing personal financial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poof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mail address disguised to look like that of someone you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l-tal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e suspect an unauthorized transaction on your account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uring our regular verification of accounts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ur records indicate your account was overcharged..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…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lick the link below to verify your identi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all the number below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 need to send my niece money right away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trusted security software and make sure it is updated frequen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email financial information or account numb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Be cautious about opening attachments and downloading files, regardless of the 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passwords that are hard to gu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hut down your PC when not using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e financially for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other helpful resources on managing money and reporting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open messages from an unfamiliar sen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open a suspicious message, delete it; do not click on links or call telephone numbers listed in such mess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lete email and text messages that ask you to confirm or provide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are concerned about an account, call the telephone number on your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ieves steal your personal financial information and use your identity to commit fraud and other cri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cial Security Numb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irth da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card and other account numb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Ns and pass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your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incoming and outgoing 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ign up for direct depos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a shredder to destroy “financial trash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onitor bank accounts and credit card bi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identity theft on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view your credit record annually and report any fraudulent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If You Are a Victi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ce an initial fraud alert with one of the major credit reporting compan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 copies of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ake an identity thef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 placing a security freeze on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609480" y="1219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74720" y="1901880"/>
            <a:ext cx="777240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5"/>
          <p:cNvSpPr/>
          <p:nvPr/>
        </p:nvSpPr>
        <p:spPr>
          <a:xfrm>
            <a:off x="1092240" y="2590920"/>
            <a:ext cx="69343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7"/>
          <p:cNvSpPr/>
          <p:nvPr/>
        </p:nvSpPr>
        <p:spPr>
          <a:xfrm>
            <a:off x="1117440" y="4059360"/>
            <a:ext cx="6934320" cy="12189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"When Social Security beneficiaries become aware that they are victims of identity theft, they can block electronic access to their information in SSA's records, a service available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"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hat It 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omeone steals your personal information — such as your name and Medicare number — and uses it to get medical treatment, prescription drugs, surgery or other services and then bills Medicare for 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4080" y="3270240"/>
            <a:ext cx="17967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is costly to corr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be denied a service or equi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can affect your medical and insurance records – change your blood type or record a diagnosis for a disease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receive wrong, perhaps harmful, trea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arning Sig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 bill for services you did not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tact from a collection agency for money you do not ow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Notification from insurance company that you have reached your limit for medical benef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nial of insurance for a medical condition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rotect your Medicare and insurance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eview Medicare Summary Notices (MSN),  insurance Explanation of Benefits (EOB) statements, and medical b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careful about sharing personal information (see those listed in your Participant Guid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ware of offers for free equipment, services or goods in exchange for your Medicare nu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hred papers with your medical identity and destroy prescription labels before throwing in the tra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How to Respo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your medical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rite to your health plan or provider for corr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port your concerns to your Senior Medicare Patr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ind your state SMP contact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mpresour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is elder financial exploitation and who is at ris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ew each response on the l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cate how often you perform each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lly your score to see how well you are taking measures to avoid ID th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ning for the Unexpec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ing for future health problems or disa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Gives you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lieves stress of decision-making for you and family members or caretak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ves money and helps avoid financial setbac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s time to gather information and compare o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pare a Plan: review income and expe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trusted family members know where to find necessary docum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t up direct deposit for income and benefit chec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utomatic payment of important recurring b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 Durable Power of Attor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you are properly insur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ntain a healthy lifesty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eiving Social Security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 and Supplemental Security Income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Depos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Express® Deb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inancially for a Disas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you may ne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orms of iden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river’s license or government-issued 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surance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ocial Security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as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irth certif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her Items You May N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book (blank checks and deposit slips to last at least a mon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TM cards, debit cards,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hone numbers for financial services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mportant accoun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Key to safety deposit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cting Your Doc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3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backup copies of important docu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n electronic image for easy stor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Give a copy to loved ones or tell them where to find documents in an emerg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tore backups at a distance from home in case disaster affects entire commun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 record of all credit/debit cards with the account and contact numbers to report lost/stolen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to Keep; Where to Keep 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fety deposit b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irth certificate and originals of important contr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me, preferably in fireproof saf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ssport, medical care directives, wi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al important documents in airtight, waterproof bags or contai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e emergency evacuation bag(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Else to Consi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range for automatic bill payment from your bank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Internet banking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insurance cover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elder financial exploitation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is the theft of money, property or belongings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swers for many questions can be found 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SK CFP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consumerfinance.gov/askcfpb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 can also contact the FDIC at: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01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3: How Financially Prepared Are Yo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ink about what you have learned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ist the documents you will gather and where you will keep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Pencil"/>
          <p:cNvPicPr/>
          <p:nvPr/>
        </p:nvPicPr>
        <p:blipFill>
          <a:blip r:embed="rId1"/>
          <a:stretch/>
        </p:blipFill>
        <p:spPr>
          <a:xfrm>
            <a:off x="0" y="2362320"/>
            <a:ext cx="1619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 homeowners 62 and older to borrow against equity in their ho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onthly interest charges are added to loan amou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ailable as a line of credit, in regular monthly installments, or as a lump su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payable when you no longer live in the ho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ust maintain the home and pay property taxes and insura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: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pressure a homeowner to get a reverse mortgage so they can “borrow” the mo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 requires borrower to sign a Power of Attorney or otherwise sign over proce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rokers pressure borrowers to purchase other financial produ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Assistance Relief Sc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ware of anyone who promises you can stay in your home or who asks for a lot of money to help y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s might promise guaranteed or immediate relief from foreclosure, and  might charge you very high fees for few or no services.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ny homeowners are targeted by scam artists who use high pressure tactics to sell unneeded and overpriced contracts for "home improvements"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mall firm or individual, often going door-to-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mises for quick work at below market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ubstandard, unnecessary, or damaging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ssures to pay through threats or intim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ossibly impersonation of government offic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rify the identity of anyone claiming to be a government employ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written bids from local contra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contractors </a:t>
            </a:r>
            <a:r>
              <a:rPr b="1" i="1" lang="en-US" sz="2800" spc="-1" strike="noStrike">
                <a:solidFill>
                  <a:srgbClr val="132f5a"/>
                </a:solidFill>
                <a:latin typeface="Helvetica Neue"/>
              </a:rPr>
              <a:t>who approach you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for licenses and compla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refer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ire a clearly written contra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ay in advance; never pay ca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16761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rovide personal financi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need a loan, don’t let the contractor steer you to a l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ithhold final payment until you are satisfied and all required inspections are comple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838080" y="4191120"/>
            <a:ext cx="7162920" cy="10666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ome Sweet Home Improvem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ilable at the FTC website,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by phoning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cams that Target Veterans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sion Benefit Filing Sc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arketing of financial and estate planning services to help veterans qualif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arging substantial fees to help veterans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ump-sum Payment for Future Benef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ounded Rectangle 3"/>
          <p:cNvSpPr/>
          <p:nvPr/>
        </p:nvSpPr>
        <p:spPr>
          <a:xfrm>
            <a:off x="990720" y="39625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formation on VA benefits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i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yone can be the victim of financial exploit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crosses all social, educational, and economic boundarie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VA Pension Filing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0663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Know that VA must accredit individuals who help you prepare and file a clai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heck accreditation at www.va.gov/ogc/apps/accreditation/index.as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pay a fee for help in filing your initial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Avoid attorneys or claims agents who try to market investments in connection with your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hifting assets into certain types of investments may affect your Medicaid/Medicare benef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Lump-Sum Paymen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aware that these arrangements are very cost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no to arrangements that allow the lump-sum payment provider access to your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member that VA benefits cannot be garnished by a credi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ek advice of a trusted financial expe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ypes of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ps for recognizing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rategies for avoiding identity theft, including medical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to prepare financially for future health problems and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1219320"/>
            <a:ext cx="5867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regular income and accumulated ass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trusting and pol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lonely and socially isola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vulnerable due to grief from the loss of a spouse, family member, friend, or p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35360" y="1189080"/>
            <a:ext cx="586728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familiar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ith managing financial matt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prepared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or retirement and the potential loss of financial decision-making capacity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cognitive impairm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receiving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re from a person with substance abuse, gambling or financial problems, or mental health issu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dependent on a family member, caregiver or another person who may pressure them for money or control of their finan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Karama Neal</cp:lastModifiedBy>
  <cp:lastPrinted>2013-05-21T13:29:21Z</cp:lastPrinted>
  <dcterms:modified xsi:type="dcterms:W3CDTF">2016-08-16T17:26:39Z</dcterms:modified>
  <cp:revision>4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