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71D882-8C94-4220-BFFA-78421DB7F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0DAE3C-03E4-42C3-8773-0D0368B77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D49C7B-9E68-49AA-9FD5-7AA2080F2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287CDE-6D19-403E-B5C9-092A6C995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C0EC9C-4452-462D-A47E-9AC38FAD6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400ABD-880B-4071-9862-1AB15C19F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28BE9F-B3F5-40DA-8652-37BD094AE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489C68-45B0-496A-8599-3D5B2A07C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C7AA67-3838-4F28-AFF9-A3AA1C76A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EA4C7C-0D04-4CBE-9289-082B914AA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2BD6D0-9060-423E-9A8B-AF7E216A8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88F3D0-7C0B-4C80-9635-F74A3B3A2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E7FA9A-F2BB-4862-BC0D-5094D2FB2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B72-8887-4C6A-AE72-8250C415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0DE-9E6F-4C41-86D9-346ED8B3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20F-D912-4C8F-AE23-57C77441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67E-AC15-479F-897B-FB58536D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E00-41DF-4C7D-96BC-723F98D9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2D2-F5FF-44FD-A74C-E8909D36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FCE-F24E-415F-819E-533529D4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6BA-33D4-45CE-92AF-539E649B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981-6611-48B1-9A24-076DD265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99F-FBA8-4A8D-AE96-FCF19E4D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712-2417-4419-B194-7F559687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CD2-B16C-4252-93BD-882F9EA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BEF7-DB33-43B8-A47F-5041D46BA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2764-5EC9-4B26-9275-FDF04BFE4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3E71-6D56-409E-B989-88D15E8773CE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E3A2-6834-43C9-9C9A-9D08A0D674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Geneva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argeting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 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Deibel, David</cp:lastModifiedBy>
  <cp:lastPrinted>2013-05-21T13:29:21Z</cp:lastPrinted>
  <dcterms:modified xsi:type="dcterms:W3CDTF">2013-06-05T14:20:00Z</dcterms:modified>
  <cp:revision>4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