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A687AE-440A-431E-ADDD-68488E51F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EA9950-F0B3-4DDE-A8DB-16B6C1B8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BA820A-4902-4923-A627-95F86FB5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F5DBC2-E365-4629-B4DE-BF11F21C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094F89-AE6A-43EE-869C-C87BE621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488763-8AB3-4AA9-B59E-9EA33BC5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285472-4A20-4A32-AB70-1BF998B3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D68E0C-ABCE-4D4B-931E-6524134E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7D471E-BAE7-4859-9065-B22B4493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DAEEB8-0876-4B18-9E82-BAD52AD8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62D550-455B-4CB7-B793-C8B1CA60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D4907A-ED74-4341-92A7-6F0B82917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F49B7A-F7A6-4C81-87AA-464C0B5C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B55-A993-4BF0-B587-62A1245D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AA6-9268-4347-971B-CFCB8DB0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552-5138-4D09-9EA7-613D9308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652-B088-43C5-A8FD-9B54F719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41B-CCD6-4591-BCD7-0DC937F9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BD2-AF09-4987-AE0A-26CA3EA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FA4-480B-49EC-A88C-F9AE278B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82F-44FE-4625-9A3D-824487B7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A51-C758-400F-B1CD-7183B27E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63F-20FE-41F3-91A9-00B26557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7C8-3B18-4816-BCD2-47AB1F74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097-4E1A-4AC6-B29C-A33D2834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A59E-A824-483B-8351-E77F5A0AD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4E45-B920-40D8-BE26-6236B6E9A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99A-9BAC-42D7-8A30-80C6C165CA8F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769D-E521-46DC-9562-F5D9FC145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Genev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argeting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 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Deibel, David</cp:lastModifiedBy>
  <cp:lastPrinted>2013-05-21T13:29:21Z</cp:lastPrinted>
  <dcterms:modified xsi:type="dcterms:W3CDTF">2013-06-05T14:20:00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