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_rels/notesSlide7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7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5.png" ContentType="image/png"/>
  <Override PartName="/ppt/media/image14.wmf" ContentType="image/x-wmf"/>
  <Override PartName="/ppt/media/image5.png" ContentType="image/png"/>
  <Override PartName="/ppt/media/image2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3.png" ContentType="image/png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7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8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C5539C4-203F-4483-A4D8-9A7025107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772A5EF-DC53-4437-812A-6A0C5F3907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6D90D55-E1C3-4AFA-8BEA-892DF0D01D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0E5AED8-4A39-459C-93C3-E147675F9D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2067195-7FAA-44D8-8A9F-699C7F83BA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1C7EAB0-B71F-4BD2-9B08-B55926B62F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E2A4C9A-8B8A-486B-AF70-EC91221A3C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41C2301-5173-4158-AFE6-B006D99A80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978E093-25F6-444A-A99E-B83C4DAC62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221E127-FBDE-4F59-8B00-19F5BD30A8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CCEDA71-68AB-4582-AA90-7F4D012DBB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34A0748-F958-4F66-BFD4-3492AFABF5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4A4EBD9-B162-4412-BB08-55E66B0E6D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CBF2-CF66-4024-BA04-D3EE40A58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BB1C-1253-4D40-998A-B87609BF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DABD-33D1-4DE6-8D88-8B6E0E38C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22FA-495D-46DC-B547-916012B9C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3BCB-0D66-4CE9-9CBE-ABE99A20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968C-96BE-4D44-AAA9-C0BAD413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AA36-D779-43E9-B28D-4E95EF0E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8C2B-C128-4CFC-B7F1-CB538860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7C01-96E8-427F-B7B5-4A15475F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A97C-1136-4D11-90C0-BF21FC21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D5BE-DC25-4CB7-85BA-D5AACAA4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F20E-7845-451C-8952-54E73F83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4188-83AC-443E-B9EF-952B564E71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38DD-8A06-41C4-B90F-799CC39933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248520" y="640080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Money Smart for Older Ad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D0FA-B604-431C-A4EB-EAA9B0F00569}" type="slidenum">
              <a:rPr b="1" lang="en-US" sz="1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4"/>
          <a:stretch/>
        </p:blipFill>
        <p:spPr>
          <a:xfrm>
            <a:off x="736560" y="5259240"/>
            <a:ext cx="1219320" cy="847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C9A9-43D1-4CF7-A942-1B1683D08C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ldercare.gov/" TargetMode="External"/><Relationship Id="rId2" Type="http://schemas.openxmlformats.org/officeDocument/2006/relationships/hyperlink" Target="http://www.ftc.gov/idtheft" TargetMode="External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ww2.fdic.gov/starsmail/index.asp" TargetMode="External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ftc.gov/idtheft" TargetMode="External"/><Relationship Id="rId2" Type="http://schemas.openxmlformats.org/officeDocument/2006/relationships/hyperlink" Target="http://www.socialsecurity.gov/blockaccess" TargetMode="External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www.smpresource.org/" TargetMode="Externa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://www.consumerfinance.gov/askcfpb/" TargetMode="External"/><Relationship Id="rId2" Type="http://schemas.openxmlformats.org/officeDocument/2006/relationships/hyperlink" Target="mailto:communityaffairs@fdic.gov" TargetMode="External"/><Relationship Id="rId3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ftc.gov/" TargetMode="External"/><Relationship Id="rId2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http://www.va.gov/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"/>
          <p:cNvPicPr/>
          <p:nvPr/>
        </p:nvPicPr>
        <p:blipFill>
          <a:blip r:embed="rId2"/>
          <a:stretch/>
        </p:blipFill>
        <p:spPr>
          <a:xfrm>
            <a:off x="7599240" y="5562720"/>
            <a:ext cx="782640" cy="379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3"/>
          <a:stretch/>
        </p:blipFill>
        <p:spPr>
          <a:xfrm>
            <a:off x="609480" y="5437080"/>
            <a:ext cx="1441440" cy="582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" descr="MS_OlderAdultsLogo.jpg"/>
          <p:cNvPicPr/>
          <p:nvPr/>
        </p:nvPicPr>
        <p:blipFill>
          <a:blip r:embed="rId4"/>
          <a:stretch/>
        </p:blipFill>
        <p:spPr>
          <a:xfrm>
            <a:off x="2324160" y="68580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xamples of Financial Exploitati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152712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inancial power of attorney (POA) or fiduciary abu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ft of money or property by caregivers and in-home help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vestment frau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ottery and sweepstakes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xamples of Financial Exploitation (cont.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6840" y="152712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elephone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uter/Internet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dentity thef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verse mortgage proceeds frau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tractor fraud and home improvement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914040" y="9903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amily members and caregiv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riends, neighbors or acquaintan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elephone and mail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inancial advis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ternet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me repair contrac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edicare scam 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th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Could Be an Abuse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y Don’t Older Adults Report Exploitatio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Shame and embarra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Loyalty to a family member or caregi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Fear of retaliation or not being believ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Dependence on the abus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Den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Self-bl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Lack of aware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Can Help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990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dult Protective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ounded Rectangle 4"/>
          <p:cNvSpPr/>
          <p:nvPr/>
        </p:nvSpPr>
        <p:spPr>
          <a:xfrm>
            <a:off x="1104840" y="1600200"/>
            <a:ext cx="6934320" cy="7621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 contact information a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eldercare.go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all 1-800-677-11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ontent Placeholder 2"/>
          <p:cNvSpPr/>
          <p:nvPr/>
        </p:nvSpPr>
        <p:spPr>
          <a:xfrm>
            <a:off x="457200" y="304812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Federal Trade Commission (FT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ounded Rectangle 6"/>
          <p:cNvSpPr/>
          <p:nvPr/>
        </p:nvSpPr>
        <p:spPr>
          <a:xfrm>
            <a:off x="1104840" y="3898800"/>
            <a:ext cx="6934320" cy="7621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cases of identity theft, contact the FTC a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ftc.gov/idthef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all 1-877-IDTHEFT (438-43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Can Help?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066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ederal Deposit Insurance Corpor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ol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ounded Rectangle 4"/>
          <p:cNvSpPr/>
          <p:nvPr/>
        </p:nvSpPr>
        <p:spPr>
          <a:xfrm>
            <a:off x="457200" y="4114800"/>
            <a:ext cx="8381880" cy="10159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ll 911 if the situation is threatening or the person is in danger. If you believe a crime has been committed, file a polic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5"/>
          <p:cNvSpPr/>
          <p:nvPr/>
        </p:nvSpPr>
        <p:spPr>
          <a:xfrm>
            <a:off x="457200" y="1676520"/>
            <a:ext cx="8381880" cy="175248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concerns about an FDIC-supervised financial institution, complete a customer assistance form 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2.fdic.gov/starsmail/index.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 call: 1-877-ASK-FD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 legal document that allows someone else to handle your finances on your behal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ppoints a substitute decision-maker if you are unable to act on your 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voids the need for a court-appointed guardi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s relatively inexpensive; using a lawyer is advisab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is a Power of Attorney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wer of Attorney: Ris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066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ssure to grant more authority than you wis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isuse of your fun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Unauthorized actions – gifts, changes to beneficiar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wer of Attorney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238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urable – remains effective even if maker becomes physically or mentally incapacitat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alk to an attorney for help in making a POA that is appropriate for your circumstances 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wer of Attorney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rust but verif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void appointing anyone with substance abuse, gambling, or who mismanages mone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ell others about your PO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f needed, change, cancel, or revoke the PO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void appointing hired caregivers/hel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eware of new “best friends” who offer to manage your mone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962160" y="129528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rodu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1" descr="Handshake"/>
          <p:cNvPicPr/>
          <p:nvPr/>
        </p:nvPicPr>
        <p:blipFill>
          <a:blip r:embed="rId1"/>
          <a:stretch/>
        </p:blipFill>
        <p:spPr>
          <a:xfrm>
            <a:off x="304920" y="15238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ip: Plan Ahead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5267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 durable power of attorney is a very important tool in planning for financial incapacity due to Alzheimer’s disease, another form of dementia, or other health problem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wer of Attorney: If You Are a Victi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5267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port  financial exploitation immediately to Adult Protective Services or your local law enforcement agenc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4" descr="C:\Users\Michele\AppData\Local\Microsoft\Windows\Temporary Internet Files\Content.IE5\M311SBES\MC900286879[1].wmf"/>
          <p:cNvPicPr/>
          <p:nvPr/>
        </p:nvPicPr>
        <p:blipFill>
          <a:blip r:embed="rId1"/>
          <a:stretch/>
        </p:blipFill>
        <p:spPr>
          <a:xfrm rot="20202000">
            <a:off x="2565000" y="2792160"/>
            <a:ext cx="121932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buse by Caregivers and In-Home Help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15267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amily members and caregivers are common perpetrators of elder financial exploit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aregiver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cure your valuables, such as jewel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cure private financial documents (checks, financial statements, credit cards, etc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quire receipts for purcha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onitor bank accounts and telephone bil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sider setting up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utomatic bill pay syst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ransaction ale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C:\Users\Michele\AppData\Local\Microsoft\Windows\Temporary Internet Files\Content.IE5\18280RFZ\MC900441313[1].png"/>
          <p:cNvPicPr/>
          <p:nvPr/>
        </p:nvPicPr>
        <p:blipFill>
          <a:blip r:embed="rId1"/>
          <a:stretch/>
        </p:blipFill>
        <p:spPr>
          <a:xfrm>
            <a:off x="7162920" y="37339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aregiver: Safeguards (cont.)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 not let hired caregivers/helpers open your mail, pay your bills, manage your financ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ever promise money or assets after you die in exchange for care now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ever lend money or personal proper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n’t put persons other than your spouse/life-partner on the title to your hom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Fraud and Abu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Misleading senior certifications/design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onzi sche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romissory no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Unscrupulous financial advi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ffinity frau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nternet fraud – the “Dot-Con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nappropriate or fraudulent annu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430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heck out the financial advis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n’t base your trust on appearances or the sound of a vo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Take time to understand your cho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ay “no” to pressur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Safeguard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 wary of salespeople who prey on fears or promise returns that seem “too good to be true.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for a written explana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hop around and get a second opin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ay “no” to financial advisers who tell you to leave everything in their ca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: Safeguard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tay in charge of your money or enlist a trusted third par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ke checks payable to a company or financial institution, never an individu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tain and maintain account statements and confirma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ocument all conversations with financial advis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When Problems Occu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ake immediate action if you detect a problem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on’t let embarrassment or fear stop you from reporting exploitation or frau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2286000" y="386388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961c"/>
                </a:solidFill>
                <a:latin typeface="Arial"/>
                <a:ea typeface="ＭＳ Ｐゴシック"/>
              </a:rPr>
              <a:t>Timing is critica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cognize and reduce the risk of elder financial exploi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uard against identity thef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lan for unexpected loss of the ability to manage your finan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Bank"/>
          <p:cNvPicPr/>
          <p:nvPr/>
        </p:nvPicPr>
        <p:blipFill>
          <a:blip r:embed="rId1"/>
          <a:srcRect l="0" t="0" r="0" b="11995"/>
          <a:stretch/>
        </p:blipFill>
        <p:spPr>
          <a:xfrm>
            <a:off x="2819520" y="4114800"/>
            <a:ext cx="2209680" cy="1944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Stacks of bills and coins"/>
          <p:cNvPicPr/>
          <p:nvPr/>
        </p:nvPicPr>
        <p:blipFill>
          <a:blip r:embed="rId2"/>
          <a:stretch/>
        </p:blipFill>
        <p:spPr>
          <a:xfrm>
            <a:off x="7823160" y="380880"/>
            <a:ext cx="1187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Point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Have at least six-months living expenses readily available before you inve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Understand your investment.  Attend classes, seminars, or check business references in the libra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aware that some “free seminars” are marketing techniqu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Understand the risk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Make sure your financial adviser understands your objectives and risk tolera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Understanding FDIC Insur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57200" y="1676520"/>
          <a:ext cx="8229600" cy="3170160"/>
        </p:xfrm>
        <a:graphic>
          <a:graphicData uri="http://schemas.openxmlformats.org/drawingml/2006/table">
            <a:tbl>
              <a:tblPr/>
              <a:tblGrid>
                <a:gridCol w="4038480"/>
                <a:gridCol w="4191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It Cov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It Does Not Co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cking Accou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ocks or Bo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vings Accou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tual Fund Sh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ey Market Deposit Accounts (MMDA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fe Insurance Poli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tificates of Depos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u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A Deposit Accou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nicipal Secur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Understanding FDIC Insurance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overage – generally $250,000 per person per categ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ateg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</a:rPr>
              <a:t>Single acc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</a:rPr>
              <a:t>Joint acc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</a:rPr>
              <a:t>Revocable trust acc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</a:rPr>
              <a:t>Certain retirement acc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5257800" y="1981080"/>
            <a:ext cx="3429000" cy="2590920"/>
          </a:xfrm>
          <a:prstGeom prst="rect">
            <a:avLst/>
          </a:prstGeom>
          <a:solidFill>
            <a:srgbClr val="4f81bd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precise informa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sit www.myfdicinsurance.gov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ll toll-fre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-877-ASK-FDIC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k your bank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Lottery and Sweepstakes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have won…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Telephone calls, emails, or letters regarding lotteries, drawings, or sweepstak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quests for upfront processing fees or ta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uthentic looking claims che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weepstakes recovery ca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elephone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ello, Grandpa. I’m in trouble. Please don’t tell Mom.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4" descr="C:\Users\Michele\AppData\Local\Microsoft\Windows\Temporary Internet Files\Content.IE5\M311SBES\MC900286879[1].wmf"/>
          <p:cNvPicPr/>
          <p:nvPr/>
        </p:nvPicPr>
        <p:blipFill>
          <a:blip r:embed="rId1"/>
          <a:stretch/>
        </p:blipFill>
        <p:spPr>
          <a:xfrm rot="19300800">
            <a:off x="1917360" y="1988640"/>
            <a:ext cx="139536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ips for Avoiding Telephone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Never “pay to play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You cannot win a contest you didn’t en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suspicious of pressure to wire funds or send pre-paid car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Pay attention to warnings from your financial institu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If the caller claims an emergency, check it out at a number you know to be vali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wary of requests for secre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1: Telephone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9874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1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ad each scena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nswer the ques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Be prepared to explain your answ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4" descr="Pencil"/>
          <p:cNvPicPr/>
          <p:nvPr/>
        </p:nvPicPr>
        <p:blipFill>
          <a:blip r:embed="rId1"/>
          <a:stretch/>
        </p:blipFill>
        <p:spPr>
          <a:xfrm>
            <a:off x="228600" y="22096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uter/Internet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hish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uthentic looking emails, text messages, and Web pages to trick unsuspecting users into revealing personal financial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 </a:t>
            </a: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poof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mail address disguised to look like that of someone you kn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3"/>
          <p:cNvSpPr/>
          <p:nvPr/>
        </p:nvSpPr>
        <p:spPr>
          <a:xfrm>
            <a:off x="11049120" y="17524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ell-tale Langu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e suspect an unauthorized transaction on your account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uring our regular verification of accounts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ur records indicate your account was overcharged..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…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lease click the link below to verify your identity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lease call the number below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 need to send my niece money right away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uter/Internet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Use trusted security software and make sure it is updated frequent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 not email financial information or account number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Be cautious about opening attachments and downloading files, regardless of the sour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Use passwords that are hard to gue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hut down your PC when not using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ctive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pare financially for disas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nd other helpful resources on managing money and reporting financial exploi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Stacks of bills and coins"/>
          <p:cNvPicPr/>
          <p:nvPr/>
        </p:nvPicPr>
        <p:blipFill>
          <a:blip r:embed="rId1"/>
          <a:stretch/>
        </p:blipFill>
        <p:spPr>
          <a:xfrm>
            <a:off x="7823160" y="380880"/>
            <a:ext cx="1187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uter/Internet: Safeguard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9907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 not open messages from an unfamiliar send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f you open a suspicious message, delete it; do not click on links or call telephone numbers listed in such messag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elete email and text messages that ask you to confirm or provide personal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f you are concerned about an account, call the telephone number on your stat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dentity Thef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ieves steal your personal financial information and use your identity to commit fraud and other crim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ocial Security Numb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irth dat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redit card and other account numb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INs and passwo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dentity Theft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990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rotect your personal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rotect incoming and outgoing mai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ign up for direct depos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Use a shredder to destroy “financial trash.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Monitor bank accounts and credit card bill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void identity theft on the Inter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view your credit record annually and report any fraudulent activ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dentity Theft: If You Are a Victi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lace an initial fraud alert with one of the major credit reporting compan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quest copies of your credit re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Make an identity theft re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onsider placing a security freeze on your credit re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Can Help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3"/>
          <p:cNvSpPr/>
          <p:nvPr/>
        </p:nvSpPr>
        <p:spPr>
          <a:xfrm>
            <a:off x="609480" y="12193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dentity The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774720" y="1901880"/>
            <a:ext cx="7772400" cy="17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Federal Trade Commission (FT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ounded Rectangle 5"/>
          <p:cNvSpPr/>
          <p:nvPr/>
        </p:nvSpPr>
        <p:spPr>
          <a:xfrm>
            <a:off x="1092240" y="2590920"/>
            <a:ext cx="6934320" cy="76176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cases of identity theft, contact the FTC a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ftc.gov/idthef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all 1-877-IDTHEFT (438-43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6"/>
          <p:cNvSpPr/>
          <p:nvPr/>
        </p:nvSpPr>
        <p:spPr>
          <a:xfrm>
            <a:off x="1295280" y="3505320"/>
            <a:ext cx="673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ocial Secu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ounded Rectangle 7"/>
          <p:cNvSpPr/>
          <p:nvPr/>
        </p:nvSpPr>
        <p:spPr>
          <a:xfrm>
            <a:off x="1117440" y="4059360"/>
            <a:ext cx="6934320" cy="121896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"When Social Security beneficiaries become aware that they are victims of identity theft, they can block electronic access to their information in SSA's records, a service available at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socialsecurity.gov/blockacces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 "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What It 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omeone steals your personal information — such as your name and Medicare number — and uses it to get medical treatment, prescription drugs, surgery or other services and then bills Medicare for i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5" descr="C:\Users\Michele\AppData\Local\Microsoft\Windows\Temporary Internet Files\Content.IE5\M311SBES\MC900252135[1].wmf"/>
          <p:cNvPicPr/>
          <p:nvPr/>
        </p:nvPicPr>
        <p:blipFill>
          <a:blip r:embed="rId1"/>
          <a:stretch/>
        </p:blipFill>
        <p:spPr>
          <a:xfrm rot="2112000">
            <a:off x="2494080" y="3270240"/>
            <a:ext cx="179676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Ris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t is costly to corre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You could be denied a service or equip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t can affect your medical and insurance records – change your blood type or record a diagnosis for a disease you don’t h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You could receive wrong, perhaps harmful, treat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Warning Sig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 bill for services you did not rece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ontact from a collection agency for money you do not ow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Notification from insurance company that you have reached your limit for medical benef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enial of insurance for a medical condition you don’t h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Protect your Medicare and insurance car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Review Medicare Summary Notices (MSN),  insurance Explanation of Benefits (EOB) statements, and medical bi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careful about sharing personal information (see those listed in your Participant Guid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ware of offers for free equipment, services or goods in exchange for your Medicare numb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Shred papers with your medical identity and destroy prescription labels before throwing in the tras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How to Respond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7521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Obtain your medical fi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Write to your health plan or provider for corre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port your concerns to your Senior Medicare Patro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ounded Rectangle 4"/>
          <p:cNvSpPr/>
          <p:nvPr/>
        </p:nvSpPr>
        <p:spPr>
          <a:xfrm>
            <a:off x="914400" y="4495680"/>
            <a:ext cx="6934320" cy="7621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find your state SMP contact, visi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smpresour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is elder financial exploitation and who is at ris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2: Identity Thef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2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view each response on the li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Indicate how often you perform each a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ally your score to see how well you are taking measures to avoid ID thef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4" descr="Pencil"/>
          <p:cNvPicPr/>
          <p:nvPr/>
        </p:nvPicPr>
        <p:blipFill>
          <a:blip r:embed="rId1"/>
          <a:stretch/>
        </p:blipFill>
        <p:spPr>
          <a:xfrm>
            <a:off x="0" y="228600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lanning for the Unexpect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eparing for future health problems or disa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Gives you contr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Relieves stress of decision-making for you and family members or caretak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aves money and helps avoid financial setback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llows time to gather information and compare op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paring for Future Health Proble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epare a Plan: review income and expens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ke sure trusted family members know where to find necessary docume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t up direct deposit for income and benefit check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ider automatic payment of important recurring bil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paring for Future Health Problem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ider a Durable Power of Attorne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ke sure you are properly insur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intain a healthy lifesty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ceiving Social Security Benefi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ocial Security and Supplemental Security Income (SSI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irect Depos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irect Express® Debit Car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paring Financially for a Disas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you may ne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orms of identific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Driver’s license or government-issued 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Insurance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Social Security c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Pass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Birth certific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ther Items You May Ne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heckbook (blank checks and deposit slips to last at least a mont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TM cards, debit cards, credit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a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hone numbers for financial services provi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mportant account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Key to safety deposit bo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otecting Your Docu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9903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Make backup copies of important docu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Make an electronic image for easy stor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Give a copy to loved ones or tell them where to find documents in an emergen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Store backups at a distance from home in case disaster affects entire commun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Make a record of all credit/debit cards with the account and contact numbers to report lost/stolen car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to Keep; Where to Keep 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afety deposit bo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Birth certificate and originals of important contra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ome, preferably in fireproof saf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2580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assport, medical care directives, wil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eal important documents in airtight, waterproof bags or contain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epare emergency evacuation bag(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Else to Consid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rrange for automatic bill payment from your bank accou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ign up for Internet banking servic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view your insurance coverag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is elder financial exploitation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lder financial exploitation is the theft of money, property or belongings.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dditional resour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nswers for many questions can be found a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SK CFPB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2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	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1"/>
              </a:rPr>
              <a:t>www.consumerfinance.gov/askcfpb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You can also contact the FDIC at:</a:t>
            </a: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01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2"/>
              </a:rPr>
              <a:t>communityaffairs@fdic.gov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2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3: How Financially Prepared Are You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3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hink about what you have learned to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ist the documents you will gather and where you will keep th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4" descr="Pencil"/>
          <p:cNvPicPr/>
          <p:nvPr/>
        </p:nvPicPr>
        <p:blipFill>
          <a:blip r:embed="rId1"/>
          <a:stretch/>
        </p:blipFill>
        <p:spPr>
          <a:xfrm>
            <a:off x="0" y="2362320"/>
            <a:ext cx="16192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verse Mortgag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llow homeowners 62 and older to borrow against equity in their hom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Monthly interest charges are added to loan amou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vailable as a line of credit, in regular monthly installments, or as a lump su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Repayable when you no longer live in the hom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Must maintain the home and pay property taxes and insuranc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verse Mortgage: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amily members pressure a homeowner to get a reverse mortgage so they can “borrow” the mone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cammer requires borrower to sign a Power of Attorney or otherwise sign over proceed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rokers pressure borrowers to purchase other financial produc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ortgage Assistance Relief Sc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088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ware of anyone who promises you can stay in your home or who asks for a lot of money to help you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cammers might promise guaranteed or immediate relief from foreclosure, and  might charge you very high fees for few or no services. 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tractor/Home Improvement Frau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98712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ny homeowners are targeted by scam artists who use high pressure tactics to sell unneeded and overpriced contracts for "home improvements"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tractor/Home Improvement Frau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mall firm or individual, often going door-to-do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 </a:t>
            </a: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omises for quick work at below market pr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ubstandard, unnecessary, or damaging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 </a:t>
            </a: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essures to pay through threats or intimid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ossibly impersonation of government offici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voiding Contractor Fraud: Ti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990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Verify the identity of anyone claiming to be a government employe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Obtain written bids from local contrac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void contractors </a:t>
            </a:r>
            <a:r>
              <a:rPr b="1" i="1" lang="en-US" sz="2800" spc="-1" strike="noStrike">
                <a:solidFill>
                  <a:srgbClr val="132f5a"/>
                </a:solidFill>
                <a:latin typeface="Helvetica Neue"/>
              </a:rPr>
              <a:t>who approach you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heck for licenses and complai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heck referen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quire a clearly written contra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n’t pay in advance; never pay cas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6840" y="16761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n’t provide personal financial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f you need a loan, don’t let the contractor steer you to a lend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Withhold final payment until you are satisfied and all required inspections are comple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voiding Contractor Fraud: Tip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ounded Rectangle 4"/>
          <p:cNvSpPr/>
          <p:nvPr/>
        </p:nvSpPr>
        <p:spPr>
          <a:xfrm>
            <a:off x="838080" y="4191120"/>
            <a:ext cx="7162920" cy="106668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a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Home Sweet Home Improvemen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vailable at the FTC website,</a:t>
            </a:r>
            <a:r>
              <a:rPr b="0" lang="en-US" sz="2400" spc="-1" strike="noStrike">
                <a:solidFill>
                  <a:srgbClr val="132f5a"/>
                </a:solidFill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ftc.gov</a:t>
            </a:r>
            <a:r>
              <a:rPr b="0" lang="en-US" sz="2400" spc="-1" strike="noStrike">
                <a:solidFill>
                  <a:srgbClr val="132f5a"/>
                </a:solidFill>
                <a:latin typeface="Calibri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 by phoning 1‑877‑FTC‑HELP (382-4357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cams that Target Veterans Benefi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ension Benefit Filing Sc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Marketing of financial and estate planning services to help veterans qualif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Charging substantial fees to help veterans 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ump-sum Payment for Future Benef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ounded Rectangle 3"/>
          <p:cNvSpPr/>
          <p:nvPr/>
        </p:nvSpPr>
        <p:spPr>
          <a:xfrm>
            <a:off x="990720" y="3962520"/>
            <a:ext cx="6933960" cy="76176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information on VA benefits, visi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va.go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all 1-800-827-1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is at risk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nyone can be the victim of financial exploita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lder financial exploitation crosses all social, educational, and economic boundaries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voiding VA Pension Filing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0663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Know that VA must accredit individuals who help you prepare and file a clai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Check accreditation at www.va.gov/ogc/apps/accreditation/index.as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Never pay a fee for help in filing your initial clai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Avoid attorneys or claims agents who try to market investments in connection with your clai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aware that shifting assets into certain types of investments may affect your Medicaid/Medicare benefi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voiding Lump-Sum Payment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 aware that these arrangements are very costl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ay no to arrangements that allow the lump-sum payment provider access to your accou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member that VA benefits cannot be garnished by a credit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ek advice of a trusted financial exper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9140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learned abou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ypes of financial exploi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ips for recognizing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trategies for avoiding identity theft, including medical identity thef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w to prepare financially for future health problems and disas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final questions do you ha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have you learn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ow would you evaluate the train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y are older adults at risk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819520" y="1219320"/>
            <a:ext cx="586728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lder adults ma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ave regular income and accumulated asse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e trusting and pol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e lonely and socially isola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e vulnerable due to grief from the loss of a spouse, family member, friend, or p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y are older adults at risk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835360" y="1189080"/>
            <a:ext cx="5867280" cy="447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lder adults ma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Helvetica Neue"/>
                <a:ea typeface="Helvetica Neue"/>
              </a:rPr>
              <a:t>Be unfamiliar </a:t>
            </a: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ith managing financial matte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Helvetica Neue"/>
                <a:ea typeface="Helvetica Neue"/>
              </a:rPr>
              <a:t>Be unprepared </a:t>
            </a: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for retirement and the potential loss of financial decision-making capacity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ave cognitive impairmen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Helvetica Neue"/>
                <a:ea typeface="Helvetica Neue"/>
              </a:rPr>
              <a:t>Be receiving </a:t>
            </a: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are from a person with substance abuse, gambling or financial problems, or mental health issu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e dependent on a family member, caregiver or another person who may pressure them for money or control of their financ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8:58:15Z</dcterms:created>
  <dc:creator>ddeibel@fdic.gov</dc:creator>
  <dc:description/>
  <dc:language>en-US</dc:language>
  <cp:lastModifiedBy>Karama Neal</cp:lastModifiedBy>
  <cp:lastPrinted>2013-05-21T13:29:21Z</cp:lastPrinted>
  <dcterms:modified xsi:type="dcterms:W3CDTF">2016-08-16T17:26:39Z</dcterms:modified>
  <cp:revision>48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