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_rels/notesSlide7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7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wmf" ContentType="image/x-wmf"/>
  <Override PartName="/ppt/media/image9.wmf" ContentType="image/x-wmf"/>
  <Override PartName="/ppt/media/image15.png" ContentType="image/png"/>
  <Override PartName="/ppt/media/image14.wmf" ContentType="image/x-wmf"/>
  <Override PartName="/ppt/media/image5.png" ContentType="image/png"/>
  <Override PartName="/ppt/media/image2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media/image3.png" ContentType="image/png"/>
  <Override PartName="/ppt/media/image11.wmf" ContentType="image/x-wmf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6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7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8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C64D5A7-5752-408E-B9B5-9794F84643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EF3719B-6415-452F-9790-9F27B51AB83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176D7D3-E539-4BB9-838D-0F258C08C22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C6369C9-C19D-41A7-9AC2-44309BFB394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E360AF8-F63B-4F2D-AED3-EC0D735F0F7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91CD73F-D21B-483B-89B1-ADBD3481F6B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C854A58-3E23-42FB-97E4-C7890E3DFD7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D733A40-B190-4F25-AED9-D272932538B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B5ECFDE-8BA2-47A7-8FDA-FE3A4432FCB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BBDEDF9-34D1-4CCD-870C-C4C32ABCD39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7863950-AF5E-4AF3-A3E9-23FBF953B10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3A19C3D-C323-4CF1-A3BD-49F1796F53D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00398AF-6F60-4F4A-A3C6-F50489681FB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7725-D381-41BB-A400-E3289C86D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3566-FD0F-445D-9A45-6D05DABC8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A7E4-B0F2-4D32-87A3-138A57F9E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FBE4-00C5-4018-A70B-60095E195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9427-09A6-4014-9BC5-0848C1A03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6CDA-B60E-4928-8BF4-5034B9466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0613-F234-40F8-87D9-F13A12F94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6564-EA6B-40FE-A873-4C9F7B8D4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1AE8-30FE-4C23-A808-0677A0717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A449-B216-4641-83FC-513BC38D1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8A81-B3ED-451A-AE86-E299E7DCA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7A59-38AF-4A83-B534-36F165C1B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C24A8-D720-4A4D-9426-E4B9F9F3D45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B2616-E287-41B7-BB12-83A1179AF4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slide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7"/>
          <p:cNvSpPr/>
          <p:nvPr/>
        </p:nvSpPr>
        <p:spPr>
          <a:xfrm>
            <a:off x="6248520" y="6400800"/>
            <a:ext cx="220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Money Smart for Older Adul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8305920" y="6400800"/>
            <a:ext cx="380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72503-670D-426A-A4C1-3B25FE33B6EF}" type="slidenum">
              <a:rPr b="1" lang="en-US" sz="1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lide3.jpg"/>
          <p:cNvPicPr/>
          <p:nvPr/>
        </p:nvPicPr>
        <p:blipFill>
          <a:blip r:embed="rId3"/>
          <a:stretch/>
        </p:blipFill>
        <p:spPr>
          <a:xfrm>
            <a:off x="5943600" y="5346720"/>
            <a:ext cx="2720880" cy="673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"/>
          <p:cNvPicPr/>
          <p:nvPr/>
        </p:nvPicPr>
        <p:blipFill>
          <a:blip r:embed="rId4"/>
          <a:stretch/>
        </p:blipFill>
        <p:spPr>
          <a:xfrm>
            <a:off x="736560" y="5259240"/>
            <a:ext cx="1219320" cy="8478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BEB12-5841-4AB9-BE95-2B1309789B2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ldercare.gov/" TargetMode="External"/><Relationship Id="rId2" Type="http://schemas.openxmlformats.org/officeDocument/2006/relationships/hyperlink" Target="http://www.ftc.gov/idtheft" TargetMode="External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s://www2.fdic.gov/starsmail/index.asp" TargetMode="External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www.ftc.gov/idtheft" TargetMode="External"/><Relationship Id="rId2" Type="http://schemas.openxmlformats.org/officeDocument/2006/relationships/hyperlink" Target="http://www.socialsecurity.gov/blockaccess" TargetMode="External"/><Relationship Id="rId3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://www.smpresource.org/" TargetMode="External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hyperlink" Target="http://www.consumerfinance.gov/askcfpb/" TargetMode="External"/><Relationship Id="rId2" Type="http://schemas.openxmlformats.org/officeDocument/2006/relationships/hyperlink" Target="mailto:communityaffairs@fdic.gov" TargetMode="External"/><Relationship Id="rId3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hyperlink" Target="http://www.ftc.gov/" TargetMode="External"/><Relationship Id="rId2" Type="http://schemas.openxmlformats.org/officeDocument/2006/relationships/slideLayout" Target="../slideLayouts/slideLayout1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hyperlink" Target="http://www.va.gov/" TargetMode="External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slid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"/>
          <p:cNvPicPr/>
          <p:nvPr/>
        </p:nvPicPr>
        <p:blipFill>
          <a:blip r:embed="rId2"/>
          <a:stretch/>
        </p:blipFill>
        <p:spPr>
          <a:xfrm>
            <a:off x="7599240" y="5562720"/>
            <a:ext cx="782640" cy="3794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3"/>
          <a:stretch/>
        </p:blipFill>
        <p:spPr>
          <a:xfrm>
            <a:off x="609480" y="5437080"/>
            <a:ext cx="1441440" cy="5828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" descr="MS_OlderAdultsLogo.jpg"/>
          <p:cNvPicPr/>
          <p:nvPr/>
        </p:nvPicPr>
        <p:blipFill>
          <a:blip r:embed="rId4"/>
          <a:stretch/>
        </p:blipFill>
        <p:spPr>
          <a:xfrm>
            <a:off x="2324160" y="685800"/>
            <a:ext cx="44956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Examples of Financial Exploitation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6840" y="1527120"/>
            <a:ext cx="80010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inancial power of attorney (POA) or fiduciary abus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heft of money or property by caregivers and in-home help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nvestment frau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Lottery and sweepstakes sca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Examples of Financial Exploitation (cont.)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6840" y="1527120"/>
            <a:ext cx="80010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elephone sca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mputer/Internet sca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dentity thef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verse mortgage proceeds frau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ntractor fraud and home improvement sca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914040" y="990360"/>
            <a:ext cx="7620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amily members and caregiv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riends, neighbors or acquaintan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elephone and mail sca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inancial advis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nternet sca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Home repair contrac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edicare scam opera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Oth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o Could Be an Abuser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y Don’t Older Adults Report Exploitation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16002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Shame and embarrass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Loyalty to a family member or caregiv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Fear of retaliation or not being believ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Dependence on the abus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Den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Self-bla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Lack of awaren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o Can Help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9907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dult Protective 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ounded Rectangle 4"/>
          <p:cNvSpPr/>
          <p:nvPr/>
        </p:nvSpPr>
        <p:spPr>
          <a:xfrm>
            <a:off x="1104840" y="1600200"/>
            <a:ext cx="6934320" cy="76212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nd contact information at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eldercare.gov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r call 1-800-677-11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ontent Placeholder 2"/>
          <p:cNvSpPr/>
          <p:nvPr/>
        </p:nvSpPr>
        <p:spPr>
          <a:xfrm>
            <a:off x="457200" y="3048120"/>
            <a:ext cx="82296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Federal Trade Commission (FTC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ounded Rectangle 6"/>
          <p:cNvSpPr/>
          <p:nvPr/>
        </p:nvSpPr>
        <p:spPr>
          <a:xfrm>
            <a:off x="1104840" y="3898800"/>
            <a:ext cx="6934320" cy="76212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cases of identity theft, contact the FTC at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ftc.gov/idthef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r call 1-877-IDTHEFT (438-433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o Can Help?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0663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ederal Deposit Insurance Corpor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oli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ounded Rectangle 4"/>
          <p:cNvSpPr/>
          <p:nvPr/>
        </p:nvSpPr>
        <p:spPr>
          <a:xfrm>
            <a:off x="457200" y="4114800"/>
            <a:ext cx="8381880" cy="101592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ll 911 if the situation is threatening or the person is in danger. If you believe a crime has been committed, file a polic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5"/>
          <p:cNvSpPr/>
          <p:nvPr/>
        </p:nvSpPr>
        <p:spPr>
          <a:xfrm>
            <a:off x="457200" y="1676520"/>
            <a:ext cx="8381880" cy="175248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concerns about an FDIC-supervised financial institution, complete a customer assistance form 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2.fdic.gov/starsmail/index.a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 call: 1-877-ASK-FD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57200" y="11426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 legal document that allows someone else to handle your finances on your behal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ppoints a substitute decision-maker if you are unable to act on your ow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voids the need for a court-appointed guardi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Is relatively inexpensive; using a lawyer is advisabl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at is a Power of Attorney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ower of Attorney: Risk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0663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essure to grant more authority than you wis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isuse of your fun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Unauthorized actions – gifts, changes to beneficiar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ower of Attorney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5238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Durable – remains effective even if maker becomes physically or mentally incapacitate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alk to an attorney for help in making a POA that is appropriate for your circumstances 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ower of Attorney: Safeguar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9903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rust but verif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void appointing anyone with substance abuse, gambling, or who mismanages mone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ell others about your PO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f needed, change, cancel, or revoke the PO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void appointing hired caregivers/hel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Beware of new “best friends” who offer to manage your mone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elco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962160" y="1295280"/>
            <a:ext cx="434340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gen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troduc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1" descr="Handshake"/>
          <p:cNvPicPr/>
          <p:nvPr/>
        </p:nvPicPr>
        <p:blipFill>
          <a:blip r:embed="rId1"/>
          <a:stretch/>
        </p:blipFill>
        <p:spPr>
          <a:xfrm>
            <a:off x="304920" y="1523880"/>
            <a:ext cx="38098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Tip: Plan Ahead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6840" y="1526760"/>
            <a:ext cx="8534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 durable power of attorney is a very important tool in planning for financial incapacity due to Alzheimer’s disease, another form of dementia, or other health problem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ower of Attorney: If You Are a Victi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6840" y="1526760"/>
            <a:ext cx="8534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port  financial exploitation immediately to Adult Protective Services or your local law enforcement agency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4" descr="C:\Users\Michele\AppData\Local\Microsoft\Windows\Temporary Internet Files\Content.IE5\M311SBES\MC900286879[1].wmf"/>
          <p:cNvPicPr/>
          <p:nvPr/>
        </p:nvPicPr>
        <p:blipFill>
          <a:blip r:embed="rId1"/>
          <a:stretch/>
        </p:blipFill>
        <p:spPr>
          <a:xfrm rot="20202000">
            <a:off x="2565000" y="2792160"/>
            <a:ext cx="1219320" cy="28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buse by Caregivers and In-Home Help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6840" y="1526760"/>
            <a:ext cx="8534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amily members and caregivers are common perpetrators of elder financial exploit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aregiver: Safeguar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9903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ecure your valuables, such as jewelr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ecure private financial documents (checks, financial statements, credit cards, etc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quire receipts for purchas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Monitor bank accounts and telephone bill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nsider setting up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Automatic bill pay syste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Transaction aler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4" descr="C:\Users\Michele\AppData\Local\Microsoft\Windows\Temporary Internet Files\Content.IE5\18280RFZ\MC900441313[1].png"/>
          <p:cNvPicPr/>
          <p:nvPr/>
        </p:nvPicPr>
        <p:blipFill>
          <a:blip r:embed="rId1"/>
          <a:stretch/>
        </p:blipFill>
        <p:spPr>
          <a:xfrm>
            <a:off x="7162920" y="373392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aregiver: Safeguards (cont.)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9903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o not let hired caregivers/helpers open your mail, pay your bills, manage your financ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Never promise money or assets after you die in exchange for care now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Never lend money or personal propert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on’t put persons other than your spouse/life-partner on the title to your hom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vestments: Fraud and Abus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Misleading senior certifications/design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Ponzi sche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Promissory no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Unscrupulous financial advis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Affinity frau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Internet fraud – the “Dot-Con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Inappropriate or fraudulent annu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vestments: Safeguar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1430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Check out the financial adviser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Don’t base your trust on appearances or the sound of a voi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Take time to understand your choi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Say “no” to pressur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vestments: Safeguards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Be wary of salespeople who prey on fears or promise returns that seem “too good to be true.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sk for a written explanation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hop around and get a second opin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ay “no” to financial advisers who tell you to leave everything in their car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vestment: Safeguards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tay in charge of your money or enlist a trusted third part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ake checks payable to a company or financial institution, never an individual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tain and maintain account statements and confirmation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Document all conversations with financial advis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vestments: When Problems Occu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ake immediate action if you detect a problem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Don’t let embarrassment or fear stop you from reporting exploitation or frau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2286000" y="3863880"/>
            <a:ext cx="510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1961c"/>
                </a:solidFill>
                <a:latin typeface="Arial"/>
                <a:ea typeface="ＭＳ Ｐゴシック"/>
              </a:rPr>
              <a:t>Timing is critica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1426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cognize and reduce the risk of elder financial exploit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Guard against identity thef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lan for unexpected loss of the ability to manage your finan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4" descr="Bank"/>
          <p:cNvPicPr/>
          <p:nvPr/>
        </p:nvPicPr>
        <p:blipFill>
          <a:blip r:embed="rId1"/>
          <a:srcRect l="0" t="0" r="0" b="11995"/>
          <a:stretch/>
        </p:blipFill>
        <p:spPr>
          <a:xfrm>
            <a:off x="2819520" y="4114800"/>
            <a:ext cx="2209680" cy="1944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Stacks of bills and coins"/>
          <p:cNvPicPr/>
          <p:nvPr/>
        </p:nvPicPr>
        <p:blipFill>
          <a:blip r:embed="rId2"/>
          <a:stretch/>
        </p:blipFill>
        <p:spPr>
          <a:xfrm>
            <a:off x="7823160" y="380880"/>
            <a:ext cx="11876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vestments: Point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Have at least six-months living expenses readily available before you inves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Understand your investment.  Attend classes, seminars, or check business references in the librar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Be aware that some “free seminars” are marketing techniqu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Understand the risk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Make sure your financial adviser understands your objectives and risk toleran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Understanding FDIC Insuran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457200" y="1676520"/>
          <a:ext cx="8229600" cy="3170160"/>
        </p:xfrm>
        <a:graphic>
          <a:graphicData uri="http://schemas.openxmlformats.org/drawingml/2006/table">
            <a:tbl>
              <a:tblPr/>
              <a:tblGrid>
                <a:gridCol w="4038480"/>
                <a:gridCol w="41911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at It Cov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at It Does Not Cov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ecking Accou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ocks or Bon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vings Accou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tual Fund Sha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ey Market Deposit Accounts (MMDA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fe Insurance Polic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rtificates of Depos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nuit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A Deposit Accou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nicipal Securit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Understanding FDIC Insurance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Coverage – generally $250,000 per person per categ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Catego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Helvetica Neue"/>
              </a:rPr>
              <a:t>Single accou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Helvetica Neue"/>
              </a:rPr>
              <a:t>Joint accou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Helvetica Neue"/>
              </a:rPr>
              <a:t>Revocable trust accou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Helvetica Neue"/>
              </a:rPr>
              <a:t>Certain retirement accou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5257800" y="1981080"/>
            <a:ext cx="3429000" cy="2590920"/>
          </a:xfrm>
          <a:prstGeom prst="rect">
            <a:avLst/>
          </a:prstGeom>
          <a:solidFill>
            <a:srgbClr val="4f81bd">
              <a:alpha val="2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 precise informatio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isit www.myfdicinsurance.gov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ll toll-fre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-877-ASK-FDIC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k your bank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Lottery and Sweepstakes Sca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“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You have won…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Telephone calls, emails, or letters regarding lotteries, drawings, or sweepstak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Requests for upfront processing fees or ta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Authentic looking claims chec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Sweepstakes recovery ca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Telephone Sca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“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Hello, Grandpa. I’m in trouble. Please don’t tell Mom.”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4" descr="C:\Users\Michele\AppData\Local\Microsoft\Windows\Temporary Internet Files\Content.IE5\M311SBES\MC900286879[1].wmf"/>
          <p:cNvPicPr/>
          <p:nvPr/>
        </p:nvPicPr>
        <p:blipFill>
          <a:blip r:embed="rId1"/>
          <a:stretch/>
        </p:blipFill>
        <p:spPr>
          <a:xfrm rot="19300800">
            <a:off x="1917360" y="1988640"/>
            <a:ext cx="139536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Tips for Avoiding Telephone Sca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Never “pay to play.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You cannot win a contest you didn’t ent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Be suspicious of pressure to wire funds or send pre-paid car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Pay attention to warnings from your financial institu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If the caller claims an emergency, check it out at a number you know to be vali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Be wary of requests for secrec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ty 1: Telephone Sca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987480"/>
            <a:ext cx="822960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1 in the Participant Guid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719000" indent="-483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ad each scenari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19000" indent="-483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Answer the ques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19000" indent="-483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Be prepared to explain your answ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4" descr="Pencil"/>
          <p:cNvPicPr/>
          <p:nvPr/>
        </p:nvPicPr>
        <p:blipFill>
          <a:blip r:embed="rId1"/>
          <a:stretch/>
        </p:blipFill>
        <p:spPr>
          <a:xfrm>
            <a:off x="228600" y="22096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mputer/Internet Sca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hish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Authentic looking emails, text messages, and Web pages to trick unsuspecting users into revealing personal financial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 </a:t>
            </a:r>
            <a:r>
              <a:rPr b="1" lang="en-US" sz="32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Spoof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Email address disguised to look like that of someone you kn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3"/>
          <p:cNvSpPr/>
          <p:nvPr/>
        </p:nvSpPr>
        <p:spPr>
          <a:xfrm>
            <a:off x="11049120" y="175248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Tell-tale Langua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9903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“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e suspect an unauthorized transaction on your account…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“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During our regular verification of accounts…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“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Our records indicate your account was overcharged..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“…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lease click the link below to verify your identity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lease call the number below…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“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I need to send my niece money right away…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mputer/Internet: Safeguar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Use trusted security software and make sure it is updated frequent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Do not email financial information or account number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Be cautious about opening attachments and downloading files, regardless of the sour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Use passwords that are hard to gues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Shut down your PC when not using i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bjectives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218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epare financially for disast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ind other helpful resources on managing money and reporting financial exploit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4" descr="Stacks of bills and coins"/>
          <p:cNvPicPr/>
          <p:nvPr/>
        </p:nvPicPr>
        <p:blipFill>
          <a:blip r:embed="rId1"/>
          <a:stretch/>
        </p:blipFill>
        <p:spPr>
          <a:xfrm>
            <a:off x="7823160" y="380880"/>
            <a:ext cx="11876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mputer/Internet: Safeguards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9907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Do not open messages from an unfamiliar sender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If you open a suspicious message, delete it; do not click on links or call telephone numbers listed in such messag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Delete email and text messages that ask you to confirm or provide personal inform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If you are concerned about an account, call the telephone number on your state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dentity Thef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hieves steal your personal financial information and use your identity to commit fraud and other crim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ocial Security Numb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Birth dat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redit card and other account numb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INs and passwor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dentity Theft: Safeguar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9903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Protect your personal inform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Protect incoming and outgoing mai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Sign up for direct deposi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Use a shredder to destroy “financial trash.”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Monitor bank accounts and credit card bill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Avoid identity theft on the Intern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Review your credit record annually and report any fraudulent activ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dentity Theft: If You Are a Victi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Place an initial fraud alert with one of the major credit reporting compan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Request copies of your credit repor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Make an identity theft repor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Consider placing a security freeze on your credit repor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o Can Help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3"/>
          <p:cNvSpPr/>
          <p:nvPr/>
        </p:nvSpPr>
        <p:spPr>
          <a:xfrm>
            <a:off x="609480" y="12193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Identity The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4"/>
          <p:cNvSpPr/>
          <p:nvPr/>
        </p:nvSpPr>
        <p:spPr>
          <a:xfrm>
            <a:off x="774720" y="1901880"/>
            <a:ext cx="7772400" cy="17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Federal Trade Commission (FTC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ounded Rectangle 5"/>
          <p:cNvSpPr/>
          <p:nvPr/>
        </p:nvSpPr>
        <p:spPr>
          <a:xfrm>
            <a:off x="1092240" y="2590920"/>
            <a:ext cx="6934320" cy="76176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cases of identity theft, contact the FTC at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ftc.gov/idthef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r call 1-877-IDTHEFT (438-433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6"/>
          <p:cNvSpPr/>
          <p:nvPr/>
        </p:nvSpPr>
        <p:spPr>
          <a:xfrm>
            <a:off x="1295280" y="3505320"/>
            <a:ext cx="673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Social Secur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ounded Rectangle 7"/>
          <p:cNvSpPr/>
          <p:nvPr/>
        </p:nvSpPr>
        <p:spPr>
          <a:xfrm>
            <a:off x="1117440" y="4059360"/>
            <a:ext cx="6934320" cy="121896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"When Social Security beneficiaries become aware that they are victims of identity theft, they can block electronic access to their information in SSA's records, a service available at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socialsecurity.gov/blockaccess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. "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Medical Identity Theft: What It 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Someone steals your personal information — such as your name and Medicare number — and uses it to get medical treatment, prescription drugs, surgery or other services and then bills Medicare for i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5" descr="C:\Users\Michele\AppData\Local\Microsoft\Windows\Temporary Internet Files\Content.IE5\M311SBES\MC900252135[1].wmf"/>
          <p:cNvPicPr/>
          <p:nvPr/>
        </p:nvPicPr>
        <p:blipFill>
          <a:blip r:embed="rId1"/>
          <a:stretch/>
        </p:blipFill>
        <p:spPr>
          <a:xfrm rot="2112000">
            <a:off x="2494080" y="3270240"/>
            <a:ext cx="1796760" cy="23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Medical Identity Theft: Risk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It is costly to correc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You could be denied a service or equip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It can affect your medical and insurance records – change your blood type or record a diagnosis for a disease you don’t ha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You could receive wrong, perhaps harmful, treat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Medical Identity Theft: Warning Sig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A bill for services you did not recei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Contact from a collection agency for money you do not ow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Notification from insurance company that you have reached your limit for medical benefi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Denial of insurance for a medical condition you don’t ha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Medical Identity Theft: Safeguar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Protect your Medicare and insurance car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Review Medicare Summary Notices (MSN),  insurance Explanation of Benefits (EOB) statements, and medical bill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Be careful about sharing personal information (see those listed in your Participant Guide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Beware of offers for free equipment, services or goods in exchange for your Medicare numb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Shred papers with your medical identity and destroy prescription labels before throwing in the tras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Medical Identity Theft: How to Respond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7521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Obtain your medical fi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Write to your health plan or provider for correc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Report your concerns to your Senior Medicare Patro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ounded Rectangle 4"/>
          <p:cNvSpPr/>
          <p:nvPr/>
        </p:nvSpPr>
        <p:spPr>
          <a:xfrm>
            <a:off x="914400" y="4495680"/>
            <a:ext cx="6934320" cy="76212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find your state SMP contact, visit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smpresour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at Do You Know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819520" y="990360"/>
            <a:ext cx="586728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hat is elder financial exploitation and who is at risk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ty 2: Identity Thef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2 in the Participant Guid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737360" indent="-48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view each response on the lis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37360" indent="-48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Indicate how often you perform each ac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37360" indent="-48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Tally your score to see how well you are taking measures to avoid ID thef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Picture 4" descr="Pencil"/>
          <p:cNvPicPr/>
          <p:nvPr/>
        </p:nvPicPr>
        <p:blipFill>
          <a:blip r:embed="rId1"/>
          <a:stretch/>
        </p:blipFill>
        <p:spPr>
          <a:xfrm>
            <a:off x="0" y="228600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lanning for the Unexpect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reparing for future health problems or disas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Gives you contro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Relieves stress of decision-making for you and family members or caretak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Saves money and helps avoid financial setback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llows time to gather information and compare op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eparing for Future Health Proble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repare a Plan: review income and expens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ake sure trusted family members know where to find necessary documen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et up direct deposit for income and benefit check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nsider automatic payment of important recurring bill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eparing for Future Health Problems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nsider a Durable Power of Attorne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ake sure you are properly insur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aintain a healthy lifestyl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ceiving Social Security Benefi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Social Security and Supplemental Security Income (SSI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Direct Deposi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Direct Express® Debit Car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eparing Financially for a Disast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hat you may need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orms of identific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Driver’s license or government-issued 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Insurance c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Social Security c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Pass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Birth certific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ther Items You May Ne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Checkbook (blank checks and deposit slips to last at least a mont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ATM cards, debit cards, credit c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Ca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Phone numbers for financial services provid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Important account nu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Key to safety deposit bo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otecting Your Docu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9903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Make backup copies of important docume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Make an electronic image for easy stor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Give a copy to loved ones or tell them where to find documents in an emergenc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Store backups at a distance from home in case disaster affects entire communit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Make a record of all credit/debit cards with the account and contact numbers to report lost/stolen car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at to Keep; Where to Keep I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Safety deposit box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Birth certificate and originals of important contra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Home, preferably in fireproof saf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2580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Passport, medical care directives, wil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258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Seal important documents in airtight, waterproof bags or contain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258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repare emergency evacuation bag(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at Else to Consid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rrange for automatic bill payment from your bank accou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ign up for Internet banking servic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view your insurance coverag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at is elder financial exploitation?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819520" y="990360"/>
            <a:ext cx="586728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Elder financial exploitation is the theft of money, property or belongings.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dditional resour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nswers for many questions can be found at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	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	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	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SK CFPB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452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	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Helvetica Neue"/>
                <a:ea typeface="Helvetica Neue"/>
                <a:hlinkClick r:id="rId1"/>
              </a:rPr>
              <a:t>www.consumerfinance.gov/askcfpb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You can also contact the FDIC at:</a:t>
            </a:r>
            <a:r>
              <a:rPr b="1" lang="en-US" sz="32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01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ff"/>
                </a:solidFill>
                <a:uFillTx/>
                <a:latin typeface="Helvetica Neue"/>
                <a:ea typeface="Helvetica Neue"/>
                <a:hlinkClick r:id="rId2"/>
              </a:rPr>
              <a:t>communityaffairs@fdic.gov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452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ty 3: How Financially Prepared Are You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3 in the Participant Guid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Think about what you have learned toda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List the documents you will gather and where you will keep th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5" name="Picture 4" descr="Pencil"/>
          <p:cNvPicPr/>
          <p:nvPr/>
        </p:nvPicPr>
        <p:blipFill>
          <a:blip r:embed="rId1"/>
          <a:stretch/>
        </p:blipFill>
        <p:spPr>
          <a:xfrm>
            <a:off x="0" y="2362320"/>
            <a:ext cx="161928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verse Mortgag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llow homeowners 62 and older to borrow against equity in their home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Monthly interest charges are added to loan amoun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vailable as a line of credit, in regular monthly installments, or as a lump sum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Repayable when you no longer live in the hom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Must maintain the home and pay property taxes and insuranc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verse Mortgage: Sca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amily members pressure a homeowner to get a reverse mortgage so they can “borrow” the mone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cammer requires borrower to sign a Power of Attorney or otherwise sign over proceed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Brokers pressure borrowers to purchase other financial produc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Mortgage Assistance Relief Sc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8088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Beware of anyone who promises you can stay in your home or who asks for a lot of money to help you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cammers might promise guaranteed or immediate relief from foreclosure, and  might charge you very high fees for few or no services. 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ntractor/Home Improvement Frau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98712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any homeowners are targeted by scam artists who use high pressure tactics to sell unneeded and overpriced contracts for "home improvements"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ntractor/Home Improvement Frau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Small firm or individual, often going door-to-do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 </a:t>
            </a: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romises for quick work at below market pr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Substandard, unnecessary, or damaging 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 </a:t>
            </a: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ressures to pay through threats or intimid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ossibly impersonation of government offici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voiding Contractor Fraud: Tip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9903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Verify the identity of anyone claiming to be a government employe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Obtain written bids from local contracto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Avoid contractors </a:t>
            </a:r>
            <a:r>
              <a:rPr b="1" i="1" lang="en-US" sz="2800" spc="-1" strike="noStrike">
                <a:solidFill>
                  <a:srgbClr val="132f5a"/>
                </a:solidFill>
                <a:latin typeface="Helvetica Neue"/>
              </a:rPr>
              <a:t>who approach you</a:t>
            </a: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Check for licenses and complai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Check referen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Require a clearly written contrac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Don’t pay in advance; never pay cas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456840" y="1676160"/>
            <a:ext cx="8534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Don’t provide personal financial inform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If you need a loan, don’t let the contractor steer you to a lend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Withhold final payment until you are satisfied and all required inspections are complet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voiding Contractor Fraud: Tips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Rounded Rectangle 4"/>
          <p:cNvSpPr/>
          <p:nvPr/>
        </p:nvSpPr>
        <p:spPr>
          <a:xfrm>
            <a:off x="838080" y="4191120"/>
            <a:ext cx="7162920" cy="106668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ad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Home Sweet Home Improvemen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vailable at the FTC website,</a:t>
            </a:r>
            <a:r>
              <a:rPr b="0" lang="en-US" sz="2400" spc="-1" strike="noStrike">
                <a:solidFill>
                  <a:srgbClr val="132f5a"/>
                </a:solidFill>
                <a:latin typeface="Calibri"/>
              </a:rPr>
              <a:t>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ftc.gov</a:t>
            </a:r>
            <a:r>
              <a:rPr b="0" lang="en-US" sz="2400" spc="-1" strike="noStrike">
                <a:solidFill>
                  <a:srgbClr val="132f5a"/>
                </a:solidFill>
                <a:latin typeface="Calibri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 by phoning 1‑877‑FTC‑HELP (382-4357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cams that Target Veterans Benefi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ension Benefit Filing Sc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Marketing of financial and estate planning services to help veterans qualif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Charging substantial fees to help veterans fi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Lump-sum Payment for Future Benefi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Rounded Rectangle 3"/>
          <p:cNvSpPr/>
          <p:nvPr/>
        </p:nvSpPr>
        <p:spPr>
          <a:xfrm>
            <a:off x="990720" y="3962520"/>
            <a:ext cx="6933960" cy="76176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information on VA benefits, visit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va.gov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r call 1-800-827-1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o is at risk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819520" y="990360"/>
            <a:ext cx="586728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nyone can be the victim of financial exploitation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Elder financial exploitation crosses all social, educational, and economic boundaries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voiding VA Pension Filing Sca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6840" y="10663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Know that VA must accredit individuals who help you prepare and file a claim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Check accreditation at www.va.gov/ogc/apps/accreditation/index.as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Never pay a fee for help in filing your initial clai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Avoid attorneys or claims agents who try to market investments in connection with your clai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Be aware that shifting assets into certain types of investments may affect your Medicaid/Medicare benefi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voiding Lump-Sum Payment Sca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Be aware that these arrangements are very costl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ay no to arrangements that allow the lump-sum payment provider access to your accou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member that VA benefits cannot be garnished by a credito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eek advice of a trusted financial exper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6840" y="91404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You learned about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ypes of financial exploit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ips for recognizing sca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trategies for avoiding identity theft, including medical identity thef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How to prepare financially for future health problems and disast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hat final questions do you have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hat have you learned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How would you evaluate the training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2" name="Picture 7" descr="Clipboard and pencil"/>
          <p:cNvPicPr/>
          <p:nvPr/>
        </p:nvPicPr>
        <p:blipFill>
          <a:blip r:embed="rId1"/>
          <a:srcRect l="0" t="22003" r="0" b="0"/>
          <a:stretch/>
        </p:blipFill>
        <p:spPr>
          <a:xfrm>
            <a:off x="6705720" y="4038480"/>
            <a:ext cx="20635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y are older adults at risk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819520" y="1219320"/>
            <a:ext cx="5867280" cy="403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Older adults ma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Have regular income and accumulated asse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Be trusting and poli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Be lonely and socially isola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Be vulnerable due to grief from the loss of a spouse, family member, friend, or p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y are older adults at risk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835360" y="1189080"/>
            <a:ext cx="5867280" cy="447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Older adults may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Helvetica Neue"/>
                <a:ea typeface="Helvetica Neue"/>
              </a:rPr>
              <a:t>Be unfamiliar </a:t>
            </a:r>
            <a:r>
              <a:rPr b="1" lang="en-US" sz="1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ith managing financial matter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Helvetica Neue"/>
                <a:ea typeface="Helvetica Neue"/>
              </a:rPr>
              <a:t>Be unprepared </a:t>
            </a:r>
            <a:r>
              <a:rPr b="1" lang="en-US" sz="1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for retirement and the potential loss of financial decision-making capacity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Have cognitive impairment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Helvetica Neue"/>
                <a:ea typeface="Helvetica Neue"/>
              </a:rPr>
              <a:t>Be receiving </a:t>
            </a:r>
            <a:r>
              <a:rPr b="1" lang="en-US" sz="1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care from a person with substance abuse, gambling or financial problems, or mental health issu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Be dependent on a family member, caregiver or another person who may pressure them for money or control of their financ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7T18:58:15Z</dcterms:created>
  <dc:creator>ddeibel@fdic.gov</dc:creator>
  <dc:description/>
  <dc:language>en-US</dc:language>
  <cp:lastModifiedBy>Karama Neal</cp:lastModifiedBy>
  <cp:lastPrinted>2013-05-21T13:29:21Z</cp:lastPrinted>
  <dcterms:modified xsi:type="dcterms:W3CDTF">2016-08-16T17:26:39Z</dcterms:modified>
  <cp:revision>48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F39A119390EE2E43A4E19FA973347658</vt:lpwstr>
  </property>
</Properties>
</file>