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0FBAEB-4D2D-4002-A050-189885121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5819D9-E550-4457-9B57-53EBC875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831163-E321-42B8-A7C5-AAD6D7CF4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56F183-029E-4372-ABE5-612A224F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6D225D-2FBA-42D4-9912-FF04C97E8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7902EC-8850-4FA0-9A70-9C38A901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2170BF-440D-4148-A878-7CA2255D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A0D520-D723-4AAE-A35C-7B7062EC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6890CE-A258-46D8-80DF-1BE314130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55036E-9A76-49E0-971F-1C0E2441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DDCD41-EFBC-455D-B695-2F7C3C740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14BBA6-ED11-44EB-9356-9AFFB51A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8EC806-E0E3-498D-8C99-C8332CC4C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785-D4D8-4FEF-9E4C-6ACFAFEA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00D-7EEE-46EF-9050-EEF26F1B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7D2-FD35-4C4B-B42B-D2FC2553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C9C-0412-4550-BEE5-ABA03A34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EA2-B313-4D3E-AB1C-4971DEE7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066-E695-4421-90D9-EC48B95C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EBF-20B7-4155-B1E7-1129B166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632-8E2B-468C-A5EE-26B3BF9C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8AC-2DC8-4334-9995-FD2BF97A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A1C-E148-4B20-9681-C130639C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146-A926-4D7E-98A1-075C724E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733-657C-4B67-B874-828EBA5B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8B30-561B-4AE1-A3A5-A3E762B2D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0D8D-1F7A-4F59-BBA1-7F9D80806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003D-9DE1-4FF0-A170-4F6E15E567CB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6478-EFF0-433C-8BB3-3D975D3791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Geneva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argeting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 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Deibel, David</cp:lastModifiedBy>
  <cp:lastPrinted>2013-05-21T13:29:21Z</cp:lastPrinted>
  <dcterms:modified xsi:type="dcterms:W3CDTF">2013-06-05T14:20:00Z</dcterms:modified>
  <cp:revision>4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