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9.wmf" ContentType="image/x-wmf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88E7-2823-4F7B-B229-43760FE0C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9620-8163-4614-B104-74CF5D6F4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55A-EF87-433C-8544-505F435D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7FA-BEC6-414B-93C6-5024D69B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8F2-8141-41B2-8DC5-06E7E21E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6116-C82F-40CF-A21F-0AC80A11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CE5-977F-4342-9ABA-27CC3C65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3B53C-1B3D-48E2-A2C0-92D7997E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56464-B492-425B-A6A0-7F2A000E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F3212-01A1-4498-A685-87371136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ABC20-DA69-4685-B546-21B68C98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BA8DF-535B-482D-AA6D-85471D5E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3A0E-C3BC-49DA-B9F5-83253206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D7DBC-2ACD-473E-B378-AE510C9F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DEE80-76EC-4CB3-B161-2F534BA4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743B6-0BD2-46C7-B343-19E2E00D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AFAD9-6588-4D1B-93E8-519477F8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60056-28C4-4BAE-BCED-E73CF55E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9340E-5485-4830-9487-8FFC5A60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54F17-C2B1-4B1C-BB39-9A40FA7D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E0ADB-0F7C-41BC-9E82-58359006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B17BC5-1C28-46A9-B854-3C274992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ACE41-A31E-4B82-B914-8F6D08F9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30C-705C-4CFB-A6C6-78E668FD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A58D4C-EFC7-4B0D-A3CE-D580F302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9629A-665E-4B54-AEA1-F772AB01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EA102-25AE-45FC-9D5A-05329353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2F1EDD-397F-4CD0-952E-703EABD4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A4C767-FF4C-4FF3-A2BF-618CE5C0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3B6861-E782-4808-BCA6-262A1575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81F9E-25A1-4B87-A9A5-A079DB85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D883B-FF58-4CE5-B979-16003A2B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6F161-B8B9-4C8D-8400-193648A2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EAF-6A37-4077-97E3-433197E6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F7E-58B4-4DCF-BEF5-ADB11933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67C-6D45-4A4C-B58C-8618E8EB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736-6A01-4BA8-9B83-085E8B00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8EA7-502C-460E-B183-5DBCEF34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87EE-D021-4A20-A652-D6F51D8F5E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D2EA-FE1E-4B79-A62B-CDC38DADF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cupera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A3E7-D225-44A0-BBC7-FAADFAAF505D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D6E3-0F37-44DE-AE7B-350248ADE3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006B-0EF5-4566-A0B3-799687D052FF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0872-6068-4E96-9739-771CF27FE8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DA09-D14D-47B9-97EC-593F14C44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8705-3EF4-4B0F-BDBF-62925BFF1020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C2E6-6D44-47FC-A686-0677F1BA54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6123-22BC-41F5-B268-A793BCE18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covery.gov/" TargetMode="External"/><Relationship Id="rId2" Type="http://schemas.openxmlformats.org/officeDocument/2006/relationships/hyperlink" Target="http://www.govbenefits.gov/" TargetMode="External"/><Relationship Id="rId3" Type="http://schemas.openxmlformats.org/officeDocument/2006/relationships/hyperlink" Target="http://www.makinghomeaffordable.gov/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nancial Recovery title slide with FDIC Money Smart logo and module logo including a person helping someone up a ste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52280" y="838080"/>
            <a:ext cx="60962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uperación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152280" y="167652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inancie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gundo paso: Desarrollar un plan de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 plan de recuperación financier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ahorrar dinero, pagar sus facturas y reducir o eliminar sus deu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bería incluir objetivos financieros y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5" descr="C:\Users\Luke\AppData\Local\Microsoft\Windows\Temporary Internet Files\Content.IE5\632VAGKS\MC900341851[1].jpg"/>
          <p:cNvPicPr/>
          <p:nvPr/>
        </p:nvPicPr>
        <p:blipFill>
          <a:blip r:embed="rId1"/>
          <a:stretch/>
        </p:blipFill>
        <p:spPr>
          <a:xfrm>
            <a:off x="2895480" y="4038480"/>
            <a:ext cx="27291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blecer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264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que y escriba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egúrese de que sean Específicos, Medibles, Alcanzables, Relevantes y Oportun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rganice sus objetivos por periodos de tiemp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úe su progreso y vuelva a evaluar sus objetivos periódicam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Figure riding an arrow that is going up"/>
          <p:cNvPicPr/>
          <p:nvPr/>
        </p:nvPicPr>
        <p:blipFill>
          <a:blip r:embed="rId1"/>
          <a:stretch/>
        </p:blipFill>
        <p:spPr>
          <a:xfrm>
            <a:off x="7010280" y="4343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Mis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1420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numere uno o dos objetivos financieros principale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numere cualquier objetivo relacionado que le pueda ayudar a conseguir estos objetivos princip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egúrese de que siguen las pautas inteligentes que hemos mencionado.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rear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guir un plan de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saber cuáles son sus ingresos y gastos todos los m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duce la ansiedad de no poder cumplir con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da una sensación de control sobre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construir un patrimonio para mejorar la calidad de vida de usted y su famil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14" descr="Family (father, mother, son, and daughter) posing for a picture on their lawn"/>
          <p:cNvPicPr/>
          <p:nvPr/>
        </p:nvPicPr>
        <p:blipFill>
          <a:blip r:embed="rId1"/>
          <a:stretch/>
        </p:blipFill>
        <p:spPr>
          <a:xfrm>
            <a:off x="7640640" y="380880"/>
            <a:ext cx="132552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s hora de poner su plan en acción una vez que hay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valuado su situación financiera act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stablecido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do un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rcer paso: Implementar su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edir asist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tacte co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gramas de asistencia locales, estatales y naciona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erígüelo sea cual sea su nivel de ingre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ul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recovery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www.govbenefits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3"/>
              </a:rPr>
              <a:t>www.makinghomeaffordabl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5" descr="Outstretched hand"/>
          <p:cNvPicPr/>
          <p:nvPr/>
        </p:nvPicPr>
        <p:blipFill>
          <a:blip r:embed="rId4"/>
          <a:stretch/>
        </p:blipFill>
        <p:spPr>
          <a:xfrm>
            <a:off x="7370640" y="2571840"/>
            <a:ext cx="17859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onstruir su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i va a reparar su propio 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ida una copia de su informe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que y corrija cualquier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omuníquese con sus acreedores para explicar su situación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gocie planes de pagos con sus acreedores cuando tenga dinero para pagar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pte por no recibir ofertas no solicitadas de tarjetas de créd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tener una copia de su inform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235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ida un informe crediticio gratuito de cada agencia crediticia cada 12 meses en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annualcreditreport.com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Annual Credit Report screen shot"/>
          <p:cNvPicPr/>
          <p:nvPr/>
        </p:nvPicPr>
        <p:blipFill>
          <a:blip r:embed="rId2"/>
          <a:stretch/>
        </p:blipFill>
        <p:spPr>
          <a:xfrm>
            <a:off x="1297080" y="3124080"/>
            <a:ext cx="34369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uscar err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i cree que hay un error en su informe crediticio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óngase en contacto con la agencia de informes creditic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scriba una carta para disputar el error y guarde una copia de la carta para sus regist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as agencias de informes crediticios están obligadas a realizar una investigación en el plazo de 30 días después de recibir su carta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ntes de llamar a su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8800" indent="-298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termin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debe a cada acree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puede pagar a cada acree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do puede pagar a cada acreedor siendo reali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sté preparado par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su situación y cualquier esfuerzo que esté haciendo para pagar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enga un plan realista de cuándo puede hacer sus pa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lamar a su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568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ocumente la conversación o escriba una carta a su acree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ntenga la cal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gunte si hay programas de "apuros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 honesto consigo mismo y con su acree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acepte ninguna oferta que no pueda cumpl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13" descr="Cell phone"/>
          <p:cNvPicPr/>
          <p:nvPr/>
        </p:nvPicPr>
        <p:blipFill>
          <a:blip r:embed="rId1"/>
          <a:stretch/>
        </p:blipFill>
        <p:spPr>
          <a:xfrm>
            <a:off x="3733920" y="491004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ar una agencia de asesoría credit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a agencia podría ser lo correcto si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cesita ayuda para crea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tiene la suficiente disciplina para segui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efiere no negociar con sus acreedores o no puede acordar un plan de pago aceptable con el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puede llevar un registro de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ar una agencia de asesoría credit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a agencia de asesoría crediticia le puede ayudar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dministrar su dinero y sus deu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rea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prender sobre cómo administrar crédito de consumidores, dinero y deudas, y sobre presu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Man counseling a young guy"/>
          <p:cNvPicPr/>
          <p:nvPr/>
        </p:nvPicPr>
        <p:blipFill>
          <a:blip r:embed="rId1"/>
          <a:stretch/>
        </p:blipFill>
        <p:spPr>
          <a:xfrm>
            <a:off x="3505320" y="4546440"/>
            <a:ext cx="2338200" cy="1559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mos en la reparación de crédi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adie puede eliminar información correcta de su informe creditic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uede llevar años reparar legítimamente un mal crédi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adie puede crearle una identidad nue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as compañías legítimas proporcionan un servicio antes de pedirle que pagu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uede pedir su propio informe creditic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rto paso: Revisar y ajustar su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idere revisar s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lan de gastos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pués de implementarlo y periódicamente después (por ejemplo, cada 6 mese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bjetivo financiero y prioridades de gastos cada 12 meses, o después de cualquier evento cru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forme crediticio al menos cada 12 meses y antes de solicitar un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justar su plan de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3712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sus ingresos y/o gastos cambi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alcance, ajuste o desarrolle un nuevo objetivo financie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haga una transición a una nueva etapa en su v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tes de que suceda algo inesper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5" descr="Female using a computer"/>
          <p:cNvPicPr/>
          <p:nvPr/>
        </p:nvPicPr>
        <p:blipFill>
          <a:blip r:embed="rId1"/>
          <a:stretch/>
        </p:blipFill>
        <p:spPr>
          <a:xfrm>
            <a:off x="7434360" y="2098800"/>
            <a:ext cx="1549440" cy="232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sar y ajustar su cobertura de segur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se la cobertura de su seguro al menos una vez al añ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y qué tipo de seguro necesita dependerá de sus circunst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verigüe qué desastres naturales están cubiertos por su póliza de seguro de propietario estándar y asegúrese de estar bien proteg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Flooded area around a home"/>
          <p:cNvPicPr/>
          <p:nvPr/>
        </p:nvPicPr>
        <p:blipFill>
          <a:blip r:embed="rId1"/>
          <a:stretch/>
        </p:blipFill>
        <p:spPr>
          <a:xfrm>
            <a:off x="3505320" y="4579920"/>
            <a:ext cx="2209680" cy="1473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sar y reconstruir su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494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se su cartera de inversiones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l menos una vez al a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ando sufra cambios de vida import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ando el mercado fluctú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juste su distribución teniendo en cuent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do va a necesitar el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u tolerancia al ries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" descr="Stock market data"/>
          <p:cNvPicPr/>
          <p:nvPr/>
        </p:nvPicPr>
        <p:blipFill>
          <a:blip r:embed="rId1"/>
          <a:stretch/>
        </p:blipFill>
        <p:spPr>
          <a:xfrm>
            <a:off x="7467480" y="304920"/>
            <a:ext cx="1524240" cy="1290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onstruir sus ahor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990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ra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gar gastos adicionales sin interrumpir o desviarle de su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ra que pueda pagar gastos adicionales y evitar los intereses y costos que le cobrarían al utilizar una tarjeta de créd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Coin being dropped into a piggy bank"/>
          <p:cNvPicPr/>
          <p:nvPr/>
        </p:nvPicPr>
        <p:blipFill>
          <a:blip r:embed="rId1"/>
          <a:stretch/>
        </p:blipFill>
        <p:spPr>
          <a:xfrm>
            <a:off x="7620120" y="457200"/>
            <a:ext cx="124920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venir futuros percanc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2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uáles son algunos pasos que puede dar para seguir su rumbo hacia la recuperación financiera?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construir sus ahor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guir aplicando lo que ha aprend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guir adela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r pa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mentar sus conoc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edir ay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modos de aumentar sus ingresos y disminuir y dar prioridad a su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sarrollar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r, implementar y ajustar un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maneras de aumentar ingresos y reducir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ar prioridad a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r objetivos financieros y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construir su crédito y cómo evitar los timos en la reparación crediti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pasos para implementar con éxito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conocer cómo protegerse contra timos en la reparación d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periodos de tiempo en los que revisará y ajustará su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a recuperación financier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s pasos a una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1752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sarrollar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ner en marcha su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y ajustar su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Notebook, calculator, and pencil"/>
          <p:cNvPicPr/>
          <p:nvPr/>
        </p:nvPicPr>
        <p:blipFill>
          <a:blip r:embed="rId1"/>
          <a:stretch/>
        </p:blipFill>
        <p:spPr>
          <a:xfrm>
            <a:off x="3189240" y="4419720"/>
            <a:ext cx="1916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 paso: Evaluar su situación financiera act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4604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úe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amine sus ingresos y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mpruebe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Check register"/>
          <p:cNvPicPr/>
          <p:nvPr/>
        </p:nvPicPr>
        <p:blipFill>
          <a:blip r:embed="rId1"/>
          <a:stretch/>
        </p:blipFill>
        <p:spPr>
          <a:xfrm>
            <a:off x="3124080" y="3581280"/>
            <a:ext cx="251460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Ingresos y gastos mensual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vise la hoja de trabajo de ingresos y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 plante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gresos y gastos mens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iense en maneras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mentar sus ingre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ducir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ar prioridad a sus gasto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gue primero sus necesidades b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ás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pués pague los gastos de más prior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or último pague el resto de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6" descr="Family (father, mother, and three girls) posing for a picture on their couch"/>
          <p:cNvPicPr/>
          <p:nvPr/>
        </p:nvPicPr>
        <p:blipFill>
          <a:blip r:embed="rId1"/>
          <a:stretch/>
        </p:blipFill>
        <p:spPr>
          <a:xfrm>
            <a:off x="5905440" y="1676520"/>
            <a:ext cx="26290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 </cp:lastModifiedBy>
  <cp:lastPrinted>2010-01-07T20:59:10Z</cp:lastPrinted>
  <dcterms:modified xsi:type="dcterms:W3CDTF">2010-12-28T20:53:56Z</dcterms:modified>
  <cp:revision>6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