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9.wmf" ContentType="image/x-wmf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8D01-3EB8-4E7A-93D4-90238D1FE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BD69-982B-455C-8C97-61C410C07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1AF-9B0D-4001-A098-057B9128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7F7-11E5-4C22-A419-C0EB61B6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BE0-A301-4E91-BCEC-0B89D049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98B-8C66-4B53-AF29-281849DD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B23-2E97-40BA-AEBA-7DAF33EA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2A9EB-D2EF-4B27-8B99-7924CF5E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F80F3-9071-4539-AC66-745C13F7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B49AF-0A74-45F1-9D13-393F58C7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EBD6D-A43D-405F-9B24-C0375642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85A79-431F-4696-9D33-034AC533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257-CC71-4CE4-AF18-143DABA0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7DE60-37B6-4A9A-B602-673810C8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79096-4D75-4BDA-A594-7911E60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4B319-3668-4852-B7B8-3102DE87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6986A-53C8-4868-965F-21E0CBF9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57E46-A377-4A7D-9BE7-26F87A7E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96BBC-53C3-4F84-8865-81C36B65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36839-E776-4130-B00C-6AD5EA91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A6942-B036-4DFC-8186-DEC2C2D4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06CC5-6C65-4F57-80A0-5B323323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BBF6E-3341-43F0-BCD4-95CC3492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2F3-C0AE-4304-B0A8-BB082FDE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71998-F1BA-4F4E-89C7-93B21CA1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EC4CD-C5AE-48FF-9970-421CFE0A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24E13-D22F-4491-8653-D1CAD21D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86325-34C8-4C3D-B127-BA351F4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7A6FD-6A97-4463-B14B-943F1EC8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11AA6-65D3-4E39-8ECD-65F2F6B0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27E3F-ECE9-45FE-9E14-90B5BD8C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610BE-6C6E-44EC-BABC-39E61A0E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0954B8-C57E-479F-9E73-3D8FEEE6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545-8057-4A5C-A2E8-B3B488FB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2A4-9B90-4FCF-B2D8-F928380E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F02-0E78-4E11-B03D-45002A67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E73-22C0-4B6D-94DC-362837FB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2FF-A50C-43DD-A230-E07E697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828E-7705-4C58-92B3-91E3B26C21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9AA6-13BE-4C4F-89B3-9C72F3D2D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per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6D01-7C0E-4432-BF0C-271EA88BA4FF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6C91-19FA-43B1-9F9E-7E61CA3361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2B9F-E365-4034-96D0-1D930ECA16BC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2E53-AF51-4894-9AF1-223866B505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9728-DEF0-451F-A6AF-CD0ABB45B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798F-67C7-46BB-A70E-137F536E74B3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02A7-1319-4B86-A671-2FBF10E4B2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525D-9F45-4233-9E14-CC93A594E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covery.gov/" TargetMode="External"/><Relationship Id="rId2" Type="http://schemas.openxmlformats.org/officeDocument/2006/relationships/hyperlink" Target="http://www.govbenefits.gov/" TargetMode="External"/><Relationship Id="rId3" Type="http://schemas.openxmlformats.org/officeDocument/2006/relationships/hyperlink" Target="http://www.makinghomeaffordable.gov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nancial Recovery title slide with FDIC Money Smart logo and module logo including a person helping someone up a ste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52280" y="838080"/>
            <a:ext cx="6096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peració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152280" y="167652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inancie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sarrollar un plan de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 plan de recuperación financier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ahorrar dinero, pagar sus facturas y reducir o eliminar sus deu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bería incluir objetivos financieros y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C:\Users\Luke\AppData\Local\Microsoft\Windows\Temporary Internet Files\Content.IE5\632VAGKS\MC900341851[1].jpg"/>
          <p:cNvPicPr/>
          <p:nvPr/>
        </p:nvPicPr>
        <p:blipFill>
          <a:blip r:embed="rId1"/>
          <a:stretch/>
        </p:blipFill>
        <p:spPr>
          <a:xfrm>
            <a:off x="2895480" y="4038480"/>
            <a:ext cx="2729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blecer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26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que y escriba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egúrese de que sean Específicos, Medibles, Alcanzables, Relevantes y Oportu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rganice sus objetivos por periodos de tiemp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úe su progreso y vuelva a evaluar sus objetivos periódicam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Figure riding an arrow that is going up"/>
          <p:cNvPicPr/>
          <p:nvPr/>
        </p:nvPicPr>
        <p:blipFill>
          <a:blip r:embed="rId1"/>
          <a:stretch/>
        </p:blipFill>
        <p:spPr>
          <a:xfrm>
            <a:off x="7010280" y="4343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Mis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1420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numere uno o dos objetivos financieros principale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numere cualquier objetivo relacionado que le pueda ayudar a conseguir estos objetivos princip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73720" indent="-498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egúrese de que siguen las pautas inteligentes que hemos mencionado.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rear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guir un plan de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saber cuáles son sus ingresos y gastos todos los m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e la ansiedad de no poder cumplir con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da una sensación de control sobre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 ayuda a construir un patrimonio para mejorar la calidad de vida de usted y su famil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4" descr="Family (father, mother, son, and daughter) posing for a picture on their lawn"/>
          <p:cNvPicPr/>
          <p:nvPr/>
        </p:nvPicPr>
        <p:blipFill>
          <a:blip r:embed="rId1"/>
          <a:stretch/>
        </p:blipFill>
        <p:spPr>
          <a:xfrm>
            <a:off x="7640640" y="380880"/>
            <a:ext cx="13255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s hora de poner su plan en acción una vez que hay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valuado su situación financiera ac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tablecido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do un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Implementar su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edir asis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tacte c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gramas de asistencia locales, estatales y naciona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erígüelo sea cual sea su nivel de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ul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recovery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www.govbenefits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3"/>
              </a:rPr>
              <a:t>www.makinghomeaffordabl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Outstretched hand"/>
          <p:cNvPicPr/>
          <p:nvPr/>
        </p:nvPicPr>
        <p:blipFill>
          <a:blip r:embed="rId4"/>
          <a:stretch/>
        </p:blipFill>
        <p:spPr>
          <a:xfrm>
            <a:off x="7370640" y="2571840"/>
            <a:ext cx="17859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onstruir su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i va a reparar su propio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ida una copia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que y corrija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muníquese con sus acreedores para explicar su situación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gocie planes de pagos con sus acreedores cuando tenga dinero para pagar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pte por no recibir ofertas no solicitadas de tarjetas de créd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tener una copia de su 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5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ida un informe crediticio gratuito de cada agencia crediticia cada 12 meses e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annualcreditreport.com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Annual Credit Report screen shot"/>
          <p:cNvPicPr/>
          <p:nvPr/>
        </p:nvPicPr>
        <p:blipFill>
          <a:blip r:embed="rId2"/>
          <a:stretch/>
        </p:blipFill>
        <p:spPr>
          <a:xfrm>
            <a:off x="1297080" y="3124080"/>
            <a:ext cx="34369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car err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i cree que hay un error en su informe creditici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óngase en contacto con la agencia de informes creditic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criba una carta para disputar el error y guarde una copia de la carta para sus regist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as agencias de informes crediticios están obligadas a realizar una investigación en el plazo de 30 días después de recibir su carta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ntes de llamar a su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8800" indent="-298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termin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debe a cada acree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puede pagar a cada acree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do puede pagar a cada acreedor siendo real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sté preparado par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su situación y cualquier esfuerzo que esté haciendo para pagar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enga un plan realista de cuándo puede hacer sus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lamar a su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568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ocumente la conversación o escriba una carta a su acree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ntenga la cal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gunte si hay programas de "apuros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 honesto consigo mismo y con su acree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acepte ninguna oferta que no pueda cumpl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13" descr="Cell phone"/>
          <p:cNvPicPr/>
          <p:nvPr/>
        </p:nvPicPr>
        <p:blipFill>
          <a:blip r:embed="rId1"/>
          <a:stretch/>
        </p:blipFill>
        <p:spPr>
          <a:xfrm>
            <a:off x="3733920" y="491004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ar una agencia de asesoría credit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a agencia podría ser lo correcto si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cesita ayuda para crea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tiene la suficiente disciplina para segui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efiere no negociar con sus acreedores o no puede acordar un plan de pago aceptable con el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puede llevar un registro de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ar una agencia de asesoría credit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na agencia de asesoría crediticia le puede ayudar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dministrar su dinero y sus deu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rear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prender sobre cómo administrar crédito de consumidores, dinero y deudas, y sobre presu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Man counseling a young guy"/>
          <p:cNvPicPr/>
          <p:nvPr/>
        </p:nvPicPr>
        <p:blipFill>
          <a:blip r:embed="rId1"/>
          <a:stretch/>
        </p:blipFill>
        <p:spPr>
          <a:xfrm>
            <a:off x="3505320" y="4546440"/>
            <a:ext cx="2338200" cy="1559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mos en la reparación de crédi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adie puede eliminar información correcta de su informe creditic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uede llevar años reparar legítimamente un mal crédi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adie puede crearle una identidad nue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as compañías legítimas proporcionan un servicio antes de pedirle que pagu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uede pedir su propio informe creditic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Revisar y ajustar su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idere revisar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lan de gasto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pués de implementarlo y periódicamente después (por ejemplo, cada 6 mese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bjetivo financiero y prioridades de gastos cada 12 meses, o después de cualquier evento cru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forme crediticio al menos cada 12 meses y antes de solicitar un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justar su plan de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3712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sus ingresos y/o gastos cambi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alcance, ajuste o desarrolle un nuevo objetivo financi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ando haga una transición a una nueva etapa en su v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tes de que suceda algo inespe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Female using a computer"/>
          <p:cNvPicPr/>
          <p:nvPr/>
        </p:nvPicPr>
        <p:blipFill>
          <a:blip r:embed="rId1"/>
          <a:stretch/>
        </p:blipFill>
        <p:spPr>
          <a:xfrm>
            <a:off x="7434360" y="2098800"/>
            <a:ext cx="1549440" cy="23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sar y ajustar su cobertura de segur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se la cobertura de su seguro al menos una vez al añ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to y qué tipo de seguro necesita dependerá de sus circunst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verigüe qué desastres naturales están cubiertos por su póliza de seguro de propietario estándar y asegúrese de estar bien proteg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Flooded area around a home"/>
          <p:cNvPicPr/>
          <p:nvPr/>
        </p:nvPicPr>
        <p:blipFill>
          <a:blip r:embed="rId1"/>
          <a:stretch/>
        </p:blipFill>
        <p:spPr>
          <a:xfrm>
            <a:off x="3505320" y="4579920"/>
            <a:ext cx="2209680" cy="1473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sar y reconstruir su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494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se su cartera de inversiones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l menos una vez al a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ando sufra cambios de vida import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ando el mercado fluctú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juste su distribución teniendo en cuent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uándo va a necesitar el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u tolerancia al ries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Stock market data"/>
          <p:cNvPicPr/>
          <p:nvPr/>
        </p:nvPicPr>
        <p:blipFill>
          <a:blip r:embed="rId1"/>
          <a:stretch/>
        </p:blipFill>
        <p:spPr>
          <a:xfrm>
            <a:off x="7467480" y="304920"/>
            <a:ext cx="152424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onstruir sus ahor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990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ra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gar gastos adicionales sin interrumpir o desviarle de su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ra que pueda pagar gastos adicionales y evitar los intereses y costos que le cobrarían al utilizar una tarjeta de créd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Coin being dropped into a piggy bank"/>
          <p:cNvPicPr/>
          <p:nvPr/>
        </p:nvPicPr>
        <p:blipFill>
          <a:blip r:embed="rId1"/>
          <a:stretch/>
        </p:blipFill>
        <p:spPr>
          <a:xfrm>
            <a:off x="7620120" y="457200"/>
            <a:ext cx="12492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venir futuros percan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2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uáles son algunos pasos que puede dar para seguir su rumbo hacia la recuperación financiera?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construir sus ahor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guir aplicando lo que ha aprend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guir adela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er pac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mentar sus cono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edir ay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modos de aumentar sus ingresos y disminuir y dar prioridad a su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sarrollar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r, implementar y ajustar un plan de recuper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maneras de aumentar ingresos y reducir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ar prioridad a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arrollar objetivos financieros y un plan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construir su crédito y cómo evitar los timos en la reparación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pasos para implementar con éxito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conocer cómo protegerse contra timos en la reparación d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icar periodos de tiempo en los que revisará y ajustará su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 recuperación financier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s pasos a una recuperación financi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1752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sarrollar un plan de recuperación financ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ner en marcha su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r y ajustar su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Notebook, calculator, and pencil"/>
          <p:cNvPicPr/>
          <p:nvPr/>
        </p:nvPicPr>
        <p:blipFill>
          <a:blip r:embed="rId1"/>
          <a:stretch/>
        </p:blipFill>
        <p:spPr>
          <a:xfrm>
            <a:off x="3189240" y="4419720"/>
            <a:ext cx="1916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Evaluar su situación financiera act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4604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úe su situación financiera act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amine sus ingresos y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ruebe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Check register"/>
          <p:cNvPicPr/>
          <p:nvPr/>
        </p:nvPicPr>
        <p:blipFill>
          <a:blip r:embed="rId1"/>
          <a:stretch/>
        </p:blipFill>
        <p:spPr>
          <a:xfrm>
            <a:off x="3124080" y="3581280"/>
            <a:ext cx="251460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Ingresos y gastos mensua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vise la hoja de trabajo de ingresos y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gresos y gastos mens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iense en manera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mentar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ir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ar prioridad a sus gasto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gue primero sus necesidades b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ás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pués pague los gastos de más prior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or último pague el resto de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6" descr="Family (father, mother, and three girls) posing for a picture on their couch"/>
          <p:cNvPicPr/>
          <p:nvPr/>
        </p:nvPicPr>
        <p:blipFill>
          <a:blip r:embed="rId1"/>
          <a:stretch/>
        </p:blipFill>
        <p:spPr>
          <a:xfrm>
            <a:off x="5905440" y="1676520"/>
            <a:ext cx="26290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0-12-28T20:53:56Z</dcterms:modified>
  <cp:revision>6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