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9.wmf" ContentType="image/x-wmf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2677-C481-42D7-935E-94BB97915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C8B1-A38B-4B62-A6F3-6DE6F387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91B-9CAE-42F7-8141-2779E226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0C2-F1E4-4690-A6F7-D47AD5B4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064-9D2A-4A69-8DF5-E9C345E9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79C-4AAB-4C64-A81B-97CA3909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924-27B7-40A5-81B6-17D86C6D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4533B-0621-47E6-AC7C-A2D2FDC9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DAE6C-01C3-498A-9D52-CDBB125F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1055E-3DBD-480F-A9C5-655B4722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6CE07-30A5-4EF5-A355-CBAB5DE7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D5767-EB25-4388-9834-C65FE1A0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4B6-1841-4DAA-A298-4E150F34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B453C-61F5-4190-8D6F-6FEE29E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110DA-2734-4022-9ECE-E5FB29B1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2F780-C517-4EE3-B481-E39E317D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AAF20-5D03-40BC-9424-56EB9DCC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A723E-D7C8-46EF-BAC4-F572ABE2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8C2D1-D207-4C92-A20D-FC7BF11B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80692-7E48-4969-9DB9-4846476B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8C862-F0EC-4E09-813E-4B770038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42736-5111-4E0B-BFDB-29C492CE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F0839-6538-4696-B150-59BE5C51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006-0CE1-4010-B1E8-0DF18E96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57EDC-A8B8-4C65-BFC9-6A977E33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50869-700A-43CC-9126-1BC0136B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BEA2D-7002-4519-AFF6-A17F8414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458DD-0756-49A1-82F3-8EA89BC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41694-8EFF-457B-88B7-B795EAA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5999B-4616-47A4-9852-A657273C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E6A8EA-BE3C-4776-990A-CD48C199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4405C-5D48-468D-87EB-A4EC2FF3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523E7-8857-48BF-A23A-5E93D98E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D71-2365-4FC1-BB78-9E75DDFA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357-918F-4560-B76E-AB2B172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838-2F9A-47DA-9EE9-D2F410CB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E91-7DF4-46D4-952D-E2F03115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B06-1A1C-4FFA-8B60-2068F063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F2C9-1BED-4AE8-A3A0-18F30BAD57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5417-D080-4CB0-86C7-41A46A799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per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68A7-A8A0-4EF3-A215-6EAA955601C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F665-1413-4E70-9A53-125FB5E40A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71A9-1C18-4CAF-8A80-799F73952045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F80D-CF05-4566-8C13-1DAF63AAAB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A5A1-8FB2-41E4-A387-8171AF4E4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98CB-A626-4965-88C0-93008E769BC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B1CD-19FD-4B13-9F70-80C280A3BE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7D39-B130-4B20-808C-F4E72CAFC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covery.gov/" TargetMode="External"/><Relationship Id="rId2" Type="http://schemas.openxmlformats.org/officeDocument/2006/relationships/hyperlink" Target="http://www.govbenefits.gov/" TargetMode="External"/><Relationship Id="rId3" Type="http://schemas.openxmlformats.org/officeDocument/2006/relationships/hyperlink" Target="http://www.makinghomeaffordable.gov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nancial Recovery title slide with FDIC Money Smart logo and module logo including a person helping someone up a st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52280" y="838080"/>
            <a:ext cx="6096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peració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152280" y="16765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inancie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sarrollar un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 plan de recuperación financier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ahorrar dinero, pagar sus facturas y reducir o eliminar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bería inclui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C:\Users\Luke\AppData\Local\Microsoft\Windows\Temporary Internet Files\Content.IE5\632VAGKS\MC900341851[1].jpg"/>
          <p:cNvPicPr/>
          <p:nvPr/>
        </p:nvPicPr>
        <p:blipFill>
          <a:blip r:embed="rId1"/>
          <a:stretch/>
        </p:blipFill>
        <p:spPr>
          <a:xfrm>
            <a:off x="2895480" y="4038480"/>
            <a:ext cx="2729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26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ean Específicos, Medibles, Alcanzables, Relevantes y Oportu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ganice sus objetivos por periodos de tiemp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úe su progreso y vuelva a evaluar sus objetivos periódic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Figure riding an arrow that is going up"/>
          <p:cNvPicPr/>
          <p:nvPr/>
        </p:nvPicPr>
        <p:blipFill>
          <a:blip r:embed="rId1"/>
          <a:stretch/>
        </p:blipFill>
        <p:spPr>
          <a:xfrm>
            <a:off x="7010280" y="4343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Mis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142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uno o dos objetivos financieros principal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cualquier objetivo relacionado que le pueda ayudar a conseguir estos objetivos princip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iguen las pautas inteligentes que hemos mencionado.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re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guir 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saber cuáles son sus ingresos y gastos todos los m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e la ansiedad de no poder cumplir con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da una sensación de control sobre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construir un patrimonio para mejorar la calidad de vida de usted y su fami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4" descr="Family (father, mother, son, and daughter) posing for a picture on their lawn"/>
          <p:cNvPicPr/>
          <p:nvPr/>
        </p:nvPicPr>
        <p:blipFill>
          <a:blip r:embed="rId1"/>
          <a:stretch/>
        </p:blipFill>
        <p:spPr>
          <a:xfrm>
            <a:off x="7640640" y="380880"/>
            <a:ext cx="13255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 hora de poner su plan en acción una vez que hay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valuado su situación financiera ac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tablecido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do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Implemen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edir asis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tacte c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gramas de asistencia locales, estatales y nacion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erígüelo sea cual sea su nivel de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ul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recovery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www.govbenefit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3"/>
              </a:rPr>
              <a:t>www.makinghomeaffordabl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Outstretched hand"/>
          <p:cNvPicPr/>
          <p:nvPr/>
        </p:nvPicPr>
        <p:blipFill>
          <a:blip r:embed="rId4"/>
          <a:stretch/>
        </p:blipFill>
        <p:spPr>
          <a:xfrm>
            <a:off x="7370640" y="2571840"/>
            <a:ext cx="1785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va a reparar su propio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ida una copia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que y corrija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muníquese con sus acreedores para explicar su situación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gocie planes de pagos con sus acreedores cuando tenga dinero para pagar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pte por no recibir ofertas no solicitadas de tarjetas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tener una copia de su 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da un informe crediticio gratuito de cada agencia crediticia cada 12 meses e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annualcreditreport.com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nual Credit Report screen shot"/>
          <p:cNvPicPr/>
          <p:nvPr/>
        </p:nvPicPr>
        <p:blipFill>
          <a:blip r:embed="rId2"/>
          <a:stretch/>
        </p:blipFill>
        <p:spPr>
          <a:xfrm>
            <a:off x="1297080" y="3124080"/>
            <a:ext cx="34369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car err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cree que hay un error en su informe creditici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óngase en contacto con la agencia de informes creditic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criba una carta para disputar el error y guarde una copia de la carta para sus regist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agencias de informes crediticios están obligadas a realizar una investigación en el plazo de 30 días después de recibir su carta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ntes de 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termin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debe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puede pagar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puede pagar a cada acreedor siendo re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té preparado par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su situación y cualquier esfuerzo que esté haciendo para pagar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enga un plan realista de cuándo puede hacer sus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568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ocumente la conversación o escriba una carta a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ntenga la cal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gunte si hay programas de "apuros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 honesto consigo mismo y con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acepte ninguna oferta que no pueda cumpl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13" descr="Cell phone"/>
          <p:cNvPicPr/>
          <p:nvPr/>
        </p:nvPicPr>
        <p:blipFill>
          <a:blip r:embed="rId1"/>
          <a:stretch/>
        </p:blipFill>
        <p:spPr>
          <a:xfrm>
            <a:off x="3733920" y="49100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podría ser lo correcto si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cesita ayuda para 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tiene la suficiente disciplina para segui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efiere no negociar con sus acreedores o no puede acordar un plan de pago aceptable con 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puede llevar un registro de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de asesoría crediticia le puede ayudar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dministrar su dinero y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prender sobre cómo administrar crédito de consumidores, dinero y deudas, y sobre presu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Man counseling a young guy"/>
          <p:cNvPicPr/>
          <p:nvPr/>
        </p:nvPicPr>
        <p:blipFill>
          <a:blip r:embed="rId1"/>
          <a:stretch/>
        </p:blipFill>
        <p:spPr>
          <a:xfrm>
            <a:off x="3505320" y="4546440"/>
            <a:ext cx="233820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mos en la reparación de crédi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eliminar información correcta de su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llevar años reparar legítimamente un mal crédi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crearle una identidad nue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compañías legítimas proporcionan un servicio antes de pedirle que pagu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pedir su propio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Revisar y ajus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e revisar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lan de gasto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de implementarlo y periódicamente después (por ejemplo, cada 6 mes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bjetivo financiero y prioridades de gastos cada 12 meses, o después de cualquier evento cru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forme crediticio al menos cada 12 meses y antes de solicitar un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justar su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sus ingresos y/o gastos cambi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alcance, ajuste o desarrolle un nuevo objetivo financi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haga una transición a una nueva etapa en su v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tes de que suceda algo inespe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Female using a computer"/>
          <p:cNvPicPr/>
          <p:nvPr/>
        </p:nvPicPr>
        <p:blipFill>
          <a:blip r:embed="rId1"/>
          <a:stretch/>
        </p:blipFill>
        <p:spPr>
          <a:xfrm>
            <a:off x="7434360" y="2098800"/>
            <a:ext cx="1549440" cy="23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ajustar su cobertura de segur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la cobertura de su seguro al menos una vez al añ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y qué tipo de seguro necesita dependerá de sus circunst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verigüe qué desastres naturales están cubiertos por su póliza de seguro de propietario estándar y asegúrese de estar bien proteg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Flooded area around a home"/>
          <p:cNvPicPr/>
          <p:nvPr/>
        </p:nvPicPr>
        <p:blipFill>
          <a:blip r:embed="rId1"/>
          <a:stretch/>
        </p:blipFill>
        <p:spPr>
          <a:xfrm>
            <a:off x="3505320" y="4579920"/>
            <a:ext cx="2209680" cy="1473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reconstruir su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su cartera de inversiones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l menos una vez al 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sufra cambios de vida impor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el mercado fluctú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juste su distribución teniendo en cuent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va a necesitar el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u tolerancia al ries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Stock market data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s ahor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ar gastos adicionales sin interrumpir o desviarle de su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que pueda pagar gastos adicionales y evitar los intereses y costos que le cobrarían al utilizar una tarjeta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oin being dropped into a piggy bank"/>
          <p:cNvPicPr/>
          <p:nvPr/>
        </p:nvPicPr>
        <p:blipFill>
          <a:blip r:embed="rId1"/>
          <a:stretch/>
        </p:blipFill>
        <p:spPr>
          <a:xfrm>
            <a:off x="7620120" y="457200"/>
            <a:ext cx="1249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venir futuros perc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uáles son algunos pasos que puede dar para seguir su rumbo hacia la recuperación financiera?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s ahor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plicando lo que ha aprend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dela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r pa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cono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edir ay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modos de aumentar sus ingresos y disminuir y dar prioridad a su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, implementar y ajustar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maneras de aumentar ingresos y reducir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ar prioridad a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 crédito y cómo evitar los timos en la reparación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asos para implementar con éxito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nocer cómo protegerse contra timos en la reparación d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eriodos de tiempo en los que revisará y ajustará su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 recuperación financier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s pasos a una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75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ner en marcha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y ajustar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Notebook, calculator, and pencil"/>
          <p:cNvPicPr/>
          <p:nvPr/>
        </p:nvPicPr>
        <p:blipFill>
          <a:blip r:embed="rId1"/>
          <a:stretch/>
        </p:blipFill>
        <p:spPr>
          <a:xfrm>
            <a:off x="3189240" y="4419720"/>
            <a:ext cx="1916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Evaluar su situación financiera act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4604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amine sus ingresos y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rueb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Check register"/>
          <p:cNvPicPr/>
          <p:nvPr/>
        </p:nvPicPr>
        <p:blipFill>
          <a:blip r:embed="rId1"/>
          <a:stretch/>
        </p:blipFill>
        <p:spPr>
          <a:xfrm>
            <a:off x="3124080" y="3581280"/>
            <a:ext cx="2514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Ingresos y gastos mensua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vise la hoja de trabajo de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ense en manera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ar prioridad a sus gasto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ue primero sus necesidades b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ás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pague los gastos de más prior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or último pague el resto d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Family (father, mother, and three girls) posing for a picture on their couch"/>
          <p:cNvPicPr/>
          <p:nvPr/>
        </p:nvPicPr>
        <p:blipFill>
          <a:blip r:embed="rId1"/>
          <a:stretch/>
        </p:blipFill>
        <p:spPr>
          <a:xfrm>
            <a:off x="5905440" y="1676520"/>
            <a:ext cx="26290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0-12-28T20:53:56Z</dcterms:modified>
  <cp:revision>6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