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9DF3-80C1-48DB-9CA9-753EC0BB9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7314-78B0-4795-A106-162CA860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BB3-4807-4975-9651-314575A7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2AD-9540-4B01-BC4B-C1F7E297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4E3-6C86-482E-90C5-0B6CBA8E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8CB-D0F9-4FFF-AEA6-E221A864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ECB-1933-4D27-8D88-C701D316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82597-F768-4C13-9A4F-4BAA8653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8C577-50C6-4895-8BA0-E1596203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AF0F3-7E0D-41D8-9AAC-9E2EE958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2D63B-347B-4DB9-B19C-9ECD4AD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EC776-7054-4AA3-86E9-BD388395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C0D-CCCE-4DCA-88CB-1F127473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E6BC3-7D6C-49D9-8EAC-53AFE54F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B40D9-1DCA-499C-A3D9-F1B506D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2F7AB-462B-4706-9E94-93FDC76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836CB-4D9A-4DF3-9261-5B7FB6D2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48639-5F3C-4D27-9FFF-6C896234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3F2C3-A983-48D3-ABFE-0962F5E0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98BCD-6381-41EE-8C59-94561248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49F5A-AFC6-4D61-8536-A5319156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BD40E-FD3F-4FFD-A4EE-01B9C7E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675DF-D650-42C3-AACA-EA66167B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F86-D964-4B46-A1B6-740E3FD1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E87DE-5905-4422-B30E-D17961C5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D2138-C9F4-4625-B559-7A1B6C81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08E50-3176-490C-B84C-3C78D4DD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124EE-6FB1-4F72-B468-326754B3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95F0B-57D2-45BD-B6FA-0DF88BA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88876-AE91-4E12-A4AF-9D7D496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4535E-DEEB-4141-866A-E6B6CF6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CAD71-3D77-4E2E-8242-9E6D6AA7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A4006-C8C0-497F-9CFB-00CBC3A0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C3B-F3A8-4DF6-B064-9368E9A8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DA3-2DE5-4B5F-BC04-C823B5D6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82A-502E-4246-921C-32DAAB72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7D1-66AF-441E-BB56-C69FBAE3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E67-B0EA-44C2-90C1-E35D0FB3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846A-D07C-43A7-B546-07F3BC6B28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3B76-6BF9-4F3D-AF27-A39DB783D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per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C319-1212-4DEE-A985-5F48C27C2156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55C8-2AD9-4348-9C60-FE5A421FA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B196-5252-4693-82DB-3F9BD4F0F55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A0B3-5350-4031-A454-B78959C76F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32E1-728C-479B-80CB-27D90F591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B386-792A-49C3-BF7F-C4096EC39BD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E7F-5E68-4338-AC4D-DAB4FF770D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5030-1A5F-417A-8D23-A927B2228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52280" y="838080"/>
            <a:ext cx="6096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peració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52280" y="16765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inanci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sarrollar un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 plan de recuperación financier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ahorrar dinero, pagar sus facturas y reducir o eliminar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bería inclui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26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ean Específicos, Medibles, Alcanzables, Relevantes y Oportu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ce sus objetivos por periodos de tiemp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úe su progreso y vuelva a evaluar sus objetivos periódic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Mis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142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uno o dos objetivos financieros principal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cualquier objetivo relacionado que le pueda ayudar a conseguir estos objetivos princip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iguen las pautas inteligentes que hemos mencionado.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guir 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saber cuáles son sus ingresos y gastos todos los m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 la ansiedad de no poder cumplir con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da una sensación de control sobre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construir un patrimonio para mejorar la calidad de vida de usted y su fami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 hora de poner su plan en acción una vez que hay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do su situación financiera ac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ecido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do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Implemen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edir asis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e c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gramas de asistencia locales, estatales y nacion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erígüelo sea cual sea su nivel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ul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7184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va a reparar su propio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ida una copia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que y corrija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muníquese con sus acreedores para explicar su situación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cie planes de pagos con sus acreedores cuando tenga dinero para pagar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e por no recibir ofertas no solicitadas de tarjetas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tener una copia de su 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da un informe crediticio gratuito de cada agencia crediticia cada 12 meses e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3124080"/>
            <a:ext cx="34369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car err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cree que hay un error en su informe creditici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óngase en contacto con la agencia de informes creditic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criba una carta para disputar el error y guarde una copia de la carta para sus regist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agencias de informes crediticios están obligadas a realizar una investigación en el plazo de 30 días después de recibir su carta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ntes de 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debe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puede pagar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puede pagar a cada acreedor siendo re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té preparado par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su situación y cualquier esfuerzo que esté haciendo para pagar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enga un plan realista de cuándo puede hacer sus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568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e la conversación o escriba una carta a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ntenga la cal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gunte si hay programas de "apuros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 honesto consigo mismo y con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acepte ninguna oferta que no pueda cumpl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13" descr="Cell phone"/>
          <p:cNvPicPr/>
          <p:nvPr/>
        </p:nvPicPr>
        <p:blipFill>
          <a:blip r:embed="rId1"/>
          <a:stretch/>
        </p:blipFill>
        <p:spPr>
          <a:xfrm>
            <a:off x="3733920" y="49100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podría ser lo correcto si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cesita ayuda para 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tiene la suficiente disciplina para segui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iere no negociar con sus acreedores o no puede acordar un plan de pago aceptable con 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puede llevar un registro de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de asesoría crediticia le puede ayudar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dministrar su dinero y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prender sobre cómo administrar crédito de consumidores, dinero y deudas, y sobre presu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505320" y="4546440"/>
            <a:ext cx="233820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mos en la reparación de crédi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eliminar información correcta de su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llevar años reparar legítimamente un mal crédi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crearle una identidad nue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compañías legítimas proporcionan un servicio antes de pedirle que pagu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pedir su propio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Revisar y ajus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e revisar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lan de gasto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de implementarlo y periódicamente después (por ejemplo, cada 6 mes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bjetivo financiero y prioridades de gastos cada 12 meses, o después de cualquier evento cru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forme crediticio al menos cada 12 meses y antes de solicitar un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justar su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sus ingresos y/o gastos cambi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alcance, ajuste o desarrolle un nuevo objetivo financi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haga una transición a una nueva etapa en su v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tes de que suceda algo inespe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Female using a computer"/>
          <p:cNvPicPr/>
          <p:nvPr/>
        </p:nvPicPr>
        <p:blipFill>
          <a:blip r:embed="rId1"/>
          <a:stretch/>
        </p:blipFill>
        <p:spPr>
          <a:xfrm>
            <a:off x="7434360" y="2098800"/>
            <a:ext cx="1549440" cy="23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ajustar su cobertura de segur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la cobertura de su seguro al menos una vez al añ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y qué tipo de seguro necesita dependerá de sus circunst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verigüe qué desastres naturales están cubiertos por su póliza de seguro de propietario estándar y asegúrese de estar bien proteg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505320" y="4579920"/>
            <a:ext cx="2209680" cy="1473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reconstruir su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su cartera de inversiones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l menos una vez al 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sufra cambios de vida impor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el mercado fluctú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juste su distribución teniendo en cuent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va a necesitar el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u tolerancia al ries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s ahor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ar gastos adicionales sin interrumpir o desviarle de su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que pueda pagar gastos adicionales y evitar los intereses y costos que le cobrarían al utilizar una tarjeta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ir futuros perc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uáles son algunos pasos que puede dar para seguir su rumbo hacia la recuperación financiera?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s ahor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plicando lo que ha aprend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dela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r pa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cono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dir ay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modos de aumentar sus ingresos y disminuir y dar prioridad a su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, implementar y ajustar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maneras de aumentar ingresos y reducir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ar prioridad a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 crédito y cómo evitar los timos en la reparación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asos para implementar con éxito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nocer cómo protegerse contra timos en la reparación d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eriodos de tiempo en los que revisará y ajustará su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 recuperación financier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s pasos a una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75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ner en marcha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y ajustar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3189240" y="4419720"/>
            <a:ext cx="1916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Evaluar su situación financiera act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sus ingresos y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rueb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Ingresos y gastos mensua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se la hoja de trabajo de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ense en manera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ar prioridad a sus gasto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ue primero sus necesidades b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ás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pague los gastos de más prior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or último pague el resto d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0-12-28T20:53:56Z</dcterms:modified>
  <cp:revision>6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