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9.wmf" ContentType="image/x-wmf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1070-979B-49B8-88E7-4C3B7A9B4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6FF1-8AD0-4144-8098-1E5252C27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787-5742-45F5-854B-13DF5BE6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797C-4EBF-41F8-9949-EDF66799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E514-BAD1-4C7D-B8E3-70F18FA5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06C-548F-4DC1-B87B-2516B054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6329-40BB-404B-89A5-FBBC2DF3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AEB7A-DA2F-4AAC-929B-783C7AE3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58044-202C-415D-9C39-D68E13DF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65CD4-E0A8-457B-AA50-89AC3AF6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60FD5-0B7F-4721-A02A-BCCDEB24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ED29D-B540-451B-96BB-94440074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503-C13B-440F-A1E7-B60034A3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FB984-82A5-4177-BD5B-ED05709B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9433A-3827-47D4-A6C5-2C219C47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CA7F5-0C65-408A-AC9E-4544FBA8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1DCED-6667-4741-A786-3A7FCBA9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05073-D91F-49BE-9553-D06377DE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6B7E4-B0D2-4E0A-924B-A6BEE105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FE5E4-EAE5-4075-B775-4DB3FF61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F34B04-CA6C-468E-8555-C5F1BAAB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1C078F-7E12-4B24-B83B-F7FC632E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2D589A-D57E-4211-A8E7-A0103E71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611-5743-4E97-8E95-CFDC24E1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E76385-ED9D-40BF-A130-75A40A74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A7C2B-0952-42FC-BB1D-FCBEC6A9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A44004-F2B1-4C9E-A4B0-043EDE98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F5FB70-DA24-4C36-86AF-1D365EB5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11D305-B924-4C22-B0B7-8CE10E6A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A9360-9C64-4550-BCBC-AFAD84D2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7778C-956B-458F-BB99-32F4178A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22884D-3D06-4A4A-919C-94AA7A40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94C85-CD6E-4151-AD53-E9FC1F75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40C-5CAD-48DD-9E88-24A8C664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5A1-24E4-4185-B7C2-85626BED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8E4-572E-4EF7-A573-DD3409CF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DA6-DC94-425E-A13B-1FCD62C1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FC8A-7640-4419-96EC-4A9E8757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4E45-3C6A-4C3C-AEE6-5D7DA63429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8C6B-944A-4EE3-A4C6-D4B54A5D0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Financial Re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6623-0BE5-4A96-BFE1-6AF0299A936D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136B-7A61-4918-B581-5E1E0585BC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Bank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2E41-7BDD-4C7F-920D-A91FF3D3CF13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DD9E-817F-4494-A225-DB4A432805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59A4-E4FB-4BD7-8913-141916621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Bank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1033-D60B-4B8B-B1DF-EDCCAF999F67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0C57-0486-4EB5-91D4-5F8B83867A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EBB0-6463-42AF-9F14-5BE86E9E1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covery.gov/" TargetMode="External"/><Relationship Id="rId2" Type="http://schemas.openxmlformats.org/officeDocument/2006/relationships/hyperlink" Target="http://www.govbenefits.gov/" TargetMode="External"/><Relationship Id="rId3" Type="http://schemas.openxmlformats.org/officeDocument/2006/relationships/hyperlink" Target="http://www.makinghomeaffordable.gov/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Financial Recovery title slide with FDIC Money Smart logo and module logo including a person helping someone up a ste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152280" y="838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inanci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152280" y="167652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cove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2: Develop a Financial Recovery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financial recovery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elps you save money, pay your bills, and eliminate or reduce your deb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hould include financial goals and a spending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5" descr="C:\Users\Luke\AppData\Local\Microsoft\Windows\Temporary Internet Files\Content.IE5\632VAGKS\MC900341851[1].jpg"/>
          <p:cNvPicPr/>
          <p:nvPr/>
        </p:nvPicPr>
        <p:blipFill>
          <a:blip r:embed="rId1"/>
          <a:stretch/>
        </p:blipFill>
        <p:spPr>
          <a:xfrm>
            <a:off x="2895480" y="4038480"/>
            <a:ext cx="27291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t Financi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y &amp; write down your financial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86680" indent="-49896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ake sure they are 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ecific, 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asurable, 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tainable/achievable, 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levant, 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me-b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rganize your goals by timefra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te your progress and reevaluate your goals regularl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6" descr="Figure riding an arrow that is going up"/>
          <p:cNvPicPr/>
          <p:nvPr/>
        </p:nvPicPr>
        <p:blipFill>
          <a:blip r:embed="rId1"/>
          <a:stretch/>
        </p:blipFill>
        <p:spPr>
          <a:xfrm>
            <a:off x="7010280" y="4343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My Financi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ne or two main financial go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ny supporting goals to help you achieve these main go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ake sure they are SMART goa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velop a Spending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ollowing a spending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elps you know what your income and expenses are every mon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duces the anxiety of not being able to meet your expen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Gives you a sense of control over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elps you build assets that will improve the quality of life for you and your 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4" descr="Family (father, mother, son, and daughter) posing for a picture on their lawn"/>
          <p:cNvPicPr/>
          <p:nvPr/>
        </p:nvPicPr>
        <p:blipFill>
          <a:blip r:embed="rId1"/>
          <a:stretch/>
        </p:blipFill>
        <p:spPr>
          <a:xfrm>
            <a:off x="7640640" y="380880"/>
            <a:ext cx="132552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t is time to put your plan in action once you ha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valuated your current financial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stablished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veloped a financial recovery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3: Implement Your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ek Assist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tact local, state, and national assistance pro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heck regardless of income level!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fer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recovery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www.govbenefits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3"/>
              </a:rPr>
              <a:t>www.makinghomeaffordabl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5" descr="Outstretched hand"/>
          <p:cNvPicPr/>
          <p:nvPr/>
        </p:nvPicPr>
        <p:blipFill>
          <a:blip r:embed="rId4"/>
          <a:stretch/>
        </p:blipFill>
        <p:spPr>
          <a:xfrm>
            <a:off x="7370640" y="255600"/>
            <a:ext cx="17859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build Your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f repairing your own credi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rder a copy of your credit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and correct any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ontact your creditors to explain your situ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egotiate payment plans with your creditors when you have some money to pay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pt-out of receiving unsolicited offers for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Get a Copy of Your 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2193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rder a free credit report from each credit bureau once every 12 months through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annualcreditreport.com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5" descr="Annual Credit Report screen shot"/>
          <p:cNvPicPr/>
          <p:nvPr/>
        </p:nvPicPr>
        <p:blipFill>
          <a:blip r:embed="rId2"/>
          <a:stretch/>
        </p:blipFill>
        <p:spPr>
          <a:xfrm>
            <a:off x="1297080" y="2819520"/>
            <a:ext cx="380844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heck for Err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f you think there is an error on your credit repor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ontact the credit reporting a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Write a letter disputing the error and keep a copy of the letter for your rec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he credit reporting agencies are required to conduct an investigation within 30 days of receiving your let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efore Contacting Your Credi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termin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ow much you owe each cr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ow much you can pay each cr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When you can realistically pay each cr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prepared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your situation and any efforts you are making to pay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ave a plan for when you realistically can pay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act Your Credi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9903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ocument the conversation or write a letter to your credi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tay cal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k about “hardship” pro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honest with yourself and the credi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o not accept any deal you cannot fulf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13" descr="Cell phone"/>
          <p:cNvPicPr/>
          <p:nvPr/>
        </p:nvPicPr>
        <p:blipFill>
          <a:blip r:embed="rId1"/>
          <a:stretch/>
        </p:blipFill>
        <p:spPr>
          <a:xfrm>
            <a:off x="3733920" y="44956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ing a Credit Counseling Agen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 agency might be right for you if y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eed help creating a spending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re not disciplined enough to stick to a spending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refer not to negotiate with your creditors or cannot work out an acceptable repayment plan with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re unable to keep track of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ing a Credit Counseling Agen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credit counseling agency can help y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anage your money and deb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velop a spending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arn about consumer credit, money and debt management, and budg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4" descr="Man counseling a young guy"/>
          <p:cNvPicPr/>
          <p:nvPr/>
        </p:nvPicPr>
        <p:blipFill>
          <a:blip r:embed="rId1"/>
          <a:stretch/>
        </p:blipFill>
        <p:spPr>
          <a:xfrm>
            <a:off x="3200400" y="4343400"/>
            <a:ext cx="2643120" cy="176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redit Repair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No one can remove accurate information from your credit repo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t can take years to repair bad credit legitimate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No one can create a new identity for yo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egitimate companies provide a service before requesting pay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 can order your credit report yoursel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4: Review and Adjust Your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sider reviewing you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pending plan after implementing it and periodically thereafter (e.g., every 6 month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Financial goals and spending priorities every 12 months, or after any life changing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redit report at least every 12 months and before applying for a lo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just Your Financial Recovery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6840" y="10666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en your income and/or expenses 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en you accomplish, adjust, or create a new financial go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en you transition to a new life s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fore something unexpected happe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5" descr="Female using a computer"/>
          <p:cNvPicPr/>
          <p:nvPr/>
        </p:nvPicPr>
        <p:blipFill>
          <a:blip r:embed="rId1"/>
          <a:stretch/>
        </p:blipFill>
        <p:spPr>
          <a:xfrm>
            <a:off x="7086600" y="2438280"/>
            <a:ext cx="1600200" cy="239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iew and Adjust Your Insurance Cover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view your coverage at least once a y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ow much and what type of insurance you need depends on your circum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Know what natural disasters are covered by your standard homeowners insurance policy and make sure you are adequately prot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5" descr="Flooded area around a home"/>
          <p:cNvPicPr/>
          <p:nvPr/>
        </p:nvPicPr>
        <p:blipFill>
          <a:blip r:embed="rId1"/>
          <a:stretch/>
        </p:blipFill>
        <p:spPr>
          <a:xfrm>
            <a:off x="3306600" y="4448160"/>
            <a:ext cx="2408400" cy="1604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iew and Rebuild Your Invest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view your investment portfoli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t least once a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When you experience any major life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When the market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djust your allocations, consider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ow soon you need the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Your risk toler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4" descr="Stock market data"/>
          <p:cNvPicPr/>
          <p:nvPr/>
        </p:nvPicPr>
        <p:blipFill>
          <a:blip r:embed="rId1"/>
          <a:stretch/>
        </p:blipFill>
        <p:spPr>
          <a:xfrm>
            <a:off x="7467480" y="304920"/>
            <a:ext cx="1524240" cy="1290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build Your Savin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ve mone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o pay for extra expenses without disrupting or derailing you from your financial recovery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o you can pay for extra expenses and avoid paying the interest and fees you would be charged when using a credit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4" descr="Coin being dropped into a piggy bank"/>
          <p:cNvPicPr/>
          <p:nvPr/>
        </p:nvPicPr>
        <p:blipFill>
          <a:blip r:embed="rId1"/>
          <a:stretch/>
        </p:blipFill>
        <p:spPr>
          <a:xfrm>
            <a:off x="7620120" y="457200"/>
            <a:ext cx="124920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vent Future Setbac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14264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are some actions you can take to stay on that road to financial recover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build your sav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ontinue to apply what you have lea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Keep moving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e pat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ducate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k for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sess your current financial situ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y ways to increase income and decrease and prioritize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velop a financial recovery pla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5" descr="C:\Documents and Settings\Karissa\My Documents\IE\FDIC\Icons\Icons\learning_objectives.jpg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veloping, implementing, and adjusting a financial recovery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ing ways to increase income and decrease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rioritizing your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veloping financial goals and a spending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building your credit and how to avoid credit repair sc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y steps to successfully implement a financial recovery pla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cognize how to guard against credit repair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y timeframes to review and adjust your financial recovery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5" descr="C:\Documents and Settings\Karissa\My Documents\IE\FDIC\Icons\Icons\learning_objectives.jpg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financial recover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s to Financial Reco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914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te Your Current Financial Situ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velop a Financial Recovery Pla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mplement Your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te and Adjust Your Plan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Notebook, calculator, and pencil"/>
          <p:cNvPicPr/>
          <p:nvPr/>
        </p:nvPicPr>
        <p:blipFill>
          <a:blip r:embed="rId1"/>
          <a:stretch/>
        </p:blipFill>
        <p:spPr>
          <a:xfrm>
            <a:off x="2865600" y="3548160"/>
            <a:ext cx="262080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1: Evaluate Your Current Financial Situ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4604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ssess your current financial situ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amine your income and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rack your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" descr="Check register"/>
          <p:cNvPicPr/>
          <p:nvPr/>
        </p:nvPicPr>
        <p:blipFill>
          <a:blip r:embed="rId1"/>
          <a:stretch/>
        </p:blipFill>
        <p:spPr>
          <a:xfrm>
            <a:off x="3124080" y="3581280"/>
            <a:ext cx="251460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Monthly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view the Monthly Income and Expense Worksh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questions provi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nthly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sider ways you c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ncrease your inco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crease your expen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ioritize your expen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y basic necessities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y high-priority expenses n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y remaining expenses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6" descr="Family (father, mother, and three girls) posing for a picture on their couch"/>
          <p:cNvPicPr/>
          <p:nvPr/>
        </p:nvPicPr>
        <p:blipFill>
          <a:blip r:embed="rId1"/>
          <a:stretch/>
        </p:blipFill>
        <p:spPr>
          <a:xfrm>
            <a:off x="5905440" y="1676520"/>
            <a:ext cx="26290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National Technologies Inc.</cp:lastModifiedBy>
  <cp:lastPrinted>2010-01-07T20:59:10Z</cp:lastPrinted>
  <dcterms:modified xsi:type="dcterms:W3CDTF">2010-11-01T14:48:58Z</dcterms:modified>
  <cp:revision>63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