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9.wmf" ContentType="image/x-wmf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865A-D3BF-4BA5-9A17-B1763C447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560E-C566-4743-A32F-2A587C1ED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8D3-CBDA-4710-923F-5EB8F86E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22F-1916-40EF-8E16-2F58CE4D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AD8-6997-45F7-8E0A-774B116D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403-515F-4F8D-8A8D-F057AB60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DED-895A-4983-8E55-8C30A4FC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ADC7A-76C5-45B4-B5B5-6FBFFD2A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71986-32E5-4F13-BDB8-0FA55367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63E86-E43B-4448-A987-78905F7C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87D81-F1D7-490E-8B49-D54EBB99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13C31-CD56-4CA4-B5C5-1A1F9983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6512-B694-4A45-81F8-4AADF997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D64BE-AB96-4472-B680-DF0FD7F6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C70D6-003A-4559-B603-9889AEBE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FB8C1-7241-424E-BDEC-2EA2CA6F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3C368-BAB1-4F29-8E3A-D4B828E5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5271F-021D-4C31-BB7D-63E20D48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40F73-DA35-4B46-810A-4DA5822B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00306-82F1-458D-B093-7B365112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88F34-2449-49A2-9D44-A7046065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287E2F-6045-4951-9AC8-91BD7308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7CEC8-9A97-4E5C-AE5D-A8CDB1B3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B9F-571B-44CE-A2D1-AF02C4D1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E0E80-0A44-40D2-95A6-D268FE60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6592F6-6135-455B-BE4F-38B5D10E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00F61-E173-4CF0-A7F1-ABF69914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850A9-7718-4433-B3AD-620FF52C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D05BD-BD7A-4B33-A1B0-4D3870DF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73E5B6-3200-4792-851E-7B587F25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76DA7D-74A8-4EF4-ABE0-3833A695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821F41-08DE-40E4-B8BD-6EC1D8B2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B0286-DBF7-4170-B63D-EB721CEC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3CE-ED83-4F1F-A128-9A63C0D2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B94-F7D5-45F4-BE1D-39ACB396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25C-A8EF-4041-9BC0-CC1FD774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11B-6414-4CF2-B8C3-6D418E58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EDF6-F4A0-4837-93B3-17499BCD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D69C-67BD-40BA-95CA-126F3D3C1F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304D-D1AC-4EBD-A00F-943C88FB4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Financial Re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4E53-2B96-40B7-B19D-048CD6271AEE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FC6D-1212-48B5-A333-0A2BB88258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5E22-3B16-4694-9316-CE98FE15C16C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3384-BE70-479C-9471-F9E0F2FF1D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B719-D3D2-4FBE-9B47-4E019330A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8431-4E9D-4310-8239-28ECE8B8B715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3BDD-FE9C-43A7-B959-24AC1868CD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A963-988F-47AF-AEEA-211026153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covery.gov/" TargetMode="External"/><Relationship Id="rId2" Type="http://schemas.openxmlformats.org/officeDocument/2006/relationships/hyperlink" Target="http://www.govbenefits.gov/" TargetMode="External"/><Relationship Id="rId3" Type="http://schemas.openxmlformats.org/officeDocument/2006/relationships/hyperlink" Target="http://www.makinghomeaffordable.gov/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Financial Recovery title slide with FDIC Money Smart logo and module logo including a person helping someone up a ste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1522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inanci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152280" y="167652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cove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2: Develop a Financial Recovery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financial recovery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elps you save money, pay your bills, and eliminate or reduce your deb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hould include financial goals and a spending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5" descr="C:\Users\Luke\AppData\Local\Microsoft\Windows\Temporary Internet Files\Content.IE5\632VAGKS\MC900341851[1].jpg"/>
          <p:cNvPicPr/>
          <p:nvPr/>
        </p:nvPicPr>
        <p:blipFill>
          <a:blip r:embed="rId1"/>
          <a:stretch/>
        </p:blipFill>
        <p:spPr>
          <a:xfrm>
            <a:off x="2895480" y="4038480"/>
            <a:ext cx="27291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t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y &amp; write down your financial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86680" indent="-49896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ke sure they are 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ecific, 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asurable, 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tainable/achievable, 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levant, 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me-b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rganize your goals by timefra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te your progress and reevaluate your goals regularl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6" descr="Figure riding an arrow that is going up"/>
          <p:cNvPicPr/>
          <p:nvPr/>
        </p:nvPicPr>
        <p:blipFill>
          <a:blip r:embed="rId1"/>
          <a:stretch/>
        </p:blipFill>
        <p:spPr>
          <a:xfrm>
            <a:off x="7010280" y="4343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My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ne or two main financial go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ny supporting goals to help you achieve these main go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ke sure they are SMART goa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velop a Spending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ollowing a spending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elps you know what your income and expenses are every mon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duces the anxiety of not being able to meet your expen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Gives you a sense of control over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elps you build assets that will improve the quality of life for you and your 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4" descr="Family (father, mother, son, and daughter) posing for a picture on their lawn"/>
          <p:cNvPicPr/>
          <p:nvPr/>
        </p:nvPicPr>
        <p:blipFill>
          <a:blip r:embed="rId1"/>
          <a:stretch/>
        </p:blipFill>
        <p:spPr>
          <a:xfrm>
            <a:off x="7640640" y="380880"/>
            <a:ext cx="132552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is time to put your plan in action once you ha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valuated your current financial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stablished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veloped a financial recovery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3: Implement Your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ek Assist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tact local, state, and national assistance pro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heck regardless of income level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fer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recovery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www.govbenefits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3"/>
              </a:rPr>
              <a:t>www.makinghomeaffordabl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5" descr="Outstretched hand"/>
          <p:cNvPicPr/>
          <p:nvPr/>
        </p:nvPicPr>
        <p:blipFill>
          <a:blip r:embed="rId4"/>
          <a:stretch/>
        </p:blipFill>
        <p:spPr>
          <a:xfrm>
            <a:off x="7370640" y="255600"/>
            <a:ext cx="17859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build Your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f repairing your own credi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rder a copy of your credit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and correct any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ontact your creditors to explain your situ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gotiate payment plans with your creditors when you have some money to pay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pt-out of receiving unsolicited offers for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Get a Copy of Your 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2193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rder a free credit report from each credit bureau once every 12 months through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annualcreditreport.com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5" descr="Annual Credit Report screen shot"/>
          <p:cNvPicPr/>
          <p:nvPr/>
        </p:nvPicPr>
        <p:blipFill>
          <a:blip r:embed="rId2"/>
          <a:stretch/>
        </p:blipFill>
        <p:spPr>
          <a:xfrm>
            <a:off x="1297080" y="2819520"/>
            <a:ext cx="380844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heck for Err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f you think there is an error on your credit repor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ontact the credit reporting a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Write a letter disputing the error and keep a copy of the letter for your rec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he credit reporting agencies are required to conduct an investigation within 30 days of receiving your let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efore Contacting Your Credi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termin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ow much you owe each cr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ow much you can pay each cr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When you can realistically pay each cr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prepared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your situation and any efforts you are making to pay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ave a plan for when you realistically can pay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act Your Credi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9903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ocument the conversation or write a letter to your credi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tay cal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k about “hardship” pro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honest with yourself and the credi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o not accept any deal you cannot fulf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3" descr="Cell phone"/>
          <p:cNvPicPr/>
          <p:nvPr/>
        </p:nvPicPr>
        <p:blipFill>
          <a:blip r:embed="rId1"/>
          <a:stretch/>
        </p:blipFill>
        <p:spPr>
          <a:xfrm>
            <a:off x="3733920" y="44956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ing a Credit Counseling Agen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 agency might be right for you if y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ed help creating a spending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re not disciplined enough to stick to a spending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refer not to negotiate with your creditors or cannot work out an acceptable repayment plan with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re unable to keep track of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ing a Credit Counseling Agen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credit counseling agency can help y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nage your money and deb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velop a spending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arn about consumer credit, money and debt management, and budg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4" descr="Man counseling a young guy"/>
          <p:cNvPicPr/>
          <p:nvPr/>
        </p:nvPicPr>
        <p:blipFill>
          <a:blip r:embed="rId1"/>
          <a:stretch/>
        </p:blipFill>
        <p:spPr>
          <a:xfrm>
            <a:off x="3200400" y="4343400"/>
            <a:ext cx="2643120" cy="176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redit Repair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o one can remove accurate information from your credit repo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can take years to repair bad credit legitimate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o one can create a new identity for yo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egitimate companies provide a service before requesting pay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 can order your credit report yoursel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4: Review and Adjust Your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ider reviewing you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pending plan after implementing it and periodically thereafter (e.g., every 6 month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Financial goals and spending priorities every 12 months, or after any life changing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redit report at least every 12 months and before applying for a 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just Your Financial Recovery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840" y="10666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en your income and/or expenses 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en you accomplish, adjust, or create a new financial go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en you transition to a new life s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fore something unexpected happe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5" descr="Female using a computer"/>
          <p:cNvPicPr/>
          <p:nvPr/>
        </p:nvPicPr>
        <p:blipFill>
          <a:blip r:embed="rId1"/>
          <a:stretch/>
        </p:blipFill>
        <p:spPr>
          <a:xfrm>
            <a:off x="7086600" y="2438280"/>
            <a:ext cx="1600200" cy="239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ew and Adjust Your Insurance Cover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ew your coverage at least once a y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ow much and what type of insurance you need depends on your circum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Know what natural disasters are covered by your standard homeowners insurance policy and make sure you are adequately prot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5" descr="Flooded area around a home"/>
          <p:cNvPicPr/>
          <p:nvPr/>
        </p:nvPicPr>
        <p:blipFill>
          <a:blip r:embed="rId1"/>
          <a:stretch/>
        </p:blipFill>
        <p:spPr>
          <a:xfrm>
            <a:off x="3306600" y="4448160"/>
            <a:ext cx="2408400" cy="1604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ew and Rebuild Your Invest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ew your investment portfoli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t least once a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When you experience any major life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When the market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djust your allocations, consider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ow soon you need the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Your risk toler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4" descr="Stock market data"/>
          <p:cNvPicPr/>
          <p:nvPr/>
        </p:nvPicPr>
        <p:blipFill>
          <a:blip r:embed="rId1"/>
          <a:stretch/>
        </p:blipFill>
        <p:spPr>
          <a:xfrm>
            <a:off x="7467480" y="304920"/>
            <a:ext cx="1524240" cy="1290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build Your Savin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ve mone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o pay for extra expenses without disrupting or derailing you from your financial recovery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o you can pay for extra expenses and avoid paying the interest and fees you would be charged when using a credit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4" descr="Coin being dropped into a piggy bank"/>
          <p:cNvPicPr/>
          <p:nvPr/>
        </p:nvPicPr>
        <p:blipFill>
          <a:blip r:embed="rId1"/>
          <a:stretch/>
        </p:blipFill>
        <p:spPr>
          <a:xfrm>
            <a:off x="7620120" y="457200"/>
            <a:ext cx="124920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vent Future Setbac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14264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are some actions you can take to stay on that road to financial recover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build your sav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ontinue to apply what you have lea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Keep moving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e pat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ducate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k for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sess your current financial situ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y ways to increase income and decrease and prioritize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velop a financial recovery pla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veloping, implementing, and adjusting a financial recovery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ing ways to increase income and decrease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rioritizing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veloping financial goals and a spending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building your credit and how to avoid credit repair sc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y steps to successfully implement a financial recovery pla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cognize how to guard against credit repair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y timeframes to review and adjust your financial recovery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financial recover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s to Financial Reco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914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te Your Current Financial Situ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velop a Financial Recovery Pla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mplement Your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te and Adjust Your Plan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Notebook, calculator, and pencil"/>
          <p:cNvPicPr/>
          <p:nvPr/>
        </p:nvPicPr>
        <p:blipFill>
          <a:blip r:embed="rId1"/>
          <a:stretch/>
        </p:blipFill>
        <p:spPr>
          <a:xfrm>
            <a:off x="2865600" y="3548160"/>
            <a:ext cx="262080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1: Evaluate Your Current Financial Situ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4604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ssess your current financial situ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amine your income and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rack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" descr="Check register"/>
          <p:cNvPicPr/>
          <p:nvPr/>
        </p:nvPicPr>
        <p:blipFill>
          <a:blip r:embed="rId1"/>
          <a:stretch/>
        </p:blipFill>
        <p:spPr>
          <a:xfrm>
            <a:off x="3124080" y="3581280"/>
            <a:ext cx="251460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Monthly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view the Monthly Income and Expense Worksh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questions provi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nthly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ider ways you c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crease your inco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crease your expen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ioritize your expen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y basic necessities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y high-priority expenses n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y remaining expenses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6" descr="Family (father, mother, and three girls) posing for a picture on their couch"/>
          <p:cNvPicPr/>
          <p:nvPr/>
        </p:nvPicPr>
        <p:blipFill>
          <a:blip r:embed="rId1"/>
          <a:stretch/>
        </p:blipFill>
        <p:spPr>
          <a:xfrm>
            <a:off x="5905440" y="1676520"/>
            <a:ext cx="26290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National Technologies Inc.</cp:lastModifiedBy>
  <cp:lastPrinted>2010-01-07T20:59:10Z</cp:lastPrinted>
  <dcterms:modified xsi:type="dcterms:W3CDTF">2010-11-01T14:48:58Z</dcterms:modified>
  <cp:revision>63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