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81E5-A277-45F4-AA69-FA261589D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B6C1-2557-41DD-A512-47AC436BD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CBB1-7CC5-499C-B859-BD646430A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6096-6757-4E50-BA6B-599312ABE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41CE-CF01-410B-A598-FD930326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D6DF-3382-4A06-AF3D-DCBAF4B1E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56FD-86C9-4949-9621-EB63E5600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68AF-D713-49CF-A350-F2CF3D845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88F5-67CE-403B-8A6B-E60700706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5EB0-3BA1-4EC7-B877-EC0D1928A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167B-320C-4E3B-8828-0DD6CA5F5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B7AB-BC0F-4F7D-97F7-DB7984393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FAF02-8473-4666-98EE-3D6BFEE57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8B078-18BE-4A14-AA16-4E9544DBC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565076E-3D14-478D-992F-DA511FAEB78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E25222A-33C8-48B0-B054-B84441D0040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8A79CD-ECA7-4905-ADCD-98177636C92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6CF23B-B2C1-43DE-8728-4AA4D411AE7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44EADA-8B29-465B-B5FD-E3994D30B8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46BF02-F70F-4CEF-BA84-8F946E39437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467A79-7921-4F57-9DA5-C3C51866B3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EF64574-7DC1-4F44-A3EC-02DEF608A1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80FE355-E777-43C6-BB90-77BAED38775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74939A-625B-4FDA-B4C1-DE45F722238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31B2A-05A4-495A-B0D1-4161FAA95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A687056-13E9-482C-BCC5-BE8486D246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2B8081-1792-4BAA-BA1F-64D8A6B3896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13E0DDC-CA9E-4C0A-A042-D399E85C3A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69B9E19-4A48-4A84-B936-CE37D9186A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D93F83A-DD82-41FF-AB27-370CCF9605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71CB43D-E8DB-4D1B-9B80-728FCC078A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A6FD14D-A967-4F20-90AB-722B5AC53E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109662-87CB-4F13-85A9-EA435186C2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B4DD88-D4D8-47CE-877B-9D912CFE1A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2F43C95-9F10-4244-9861-4A5A1D4D01D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71353-2364-4022-A9FE-F6EB5A857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6958817-B5E7-402D-BB54-108278DE2AF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62E6307-CE57-4DCC-AB61-E3558FE547A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06E6AED-C6C9-4910-BB55-4C20E5D1D2E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D44250-3B6D-445F-8253-0DC4303EE8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2D6AE0-A1F5-4554-B1E9-3A1D71D51D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6CDFC42-4557-4223-8F74-ACD7B8060F7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DA77DA-5CB6-4F2B-B40F-FE211F86F1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6F7B3E-AC1E-4633-9BAB-0CE82688E8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72664D-0D4A-4864-B3E5-AF543330C25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BEC503A-04D9-4AA7-A7ED-68FA748734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C55CE-158B-4DC3-A387-30AB2C6D2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9F1C7AB-5F84-41DC-BFDB-7E4A9F65E59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A950F08-7B72-46F7-8FD3-833C9B2C5EE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359B302-2957-484C-899C-FFBB4BCFA7C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380FAC1-5F56-4B65-A90F-E65768EDB34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F785AEE-5AC0-4766-809E-5D3AC8E4BDE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A1DE475-0214-4D26-87B1-8489E952260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567D27F-D589-48C6-B999-25345ED2FD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1A17B11-0C97-43A0-9B35-C6C6BACA1B3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53BDE57-925A-46D0-8377-B4F14D088D2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9C1AB8-92C9-43C6-AEBE-3B005351E84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0FAB0-CBE8-4E48-B087-A69707072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D1C848-F043-4986-8A84-C5DCA919C8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64A54B-6928-4429-8A57-F97F0E08B0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C09A003-14B4-4BCA-A408-8A8FF9E4AFA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CCEB4EE-31D5-4C7E-AAAC-8802804EA27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1CD848C-5158-4A33-864A-CC249FAB3BC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0AE39-C26C-4345-8DC1-55C3DF6C7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B96F4-B3B3-44D4-8E5F-5C30D507F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BC496-1BFB-4B5A-A4E2-EB5863E77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F4BC-2C01-4BE8-A9F2-0D2B0F8E8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28D52-748A-44F9-97CE-BEAB077F9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07F0-B5CE-4DC5-A836-BE689E510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62684-9899-45D2-912A-E19C5DA5E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BC1BB-9F67-4099-87B7-CDDB65061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50033-1732-41EC-A323-406739812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14D21-A235-47E1-AA83-4C8F7212D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D0A48-DDA9-49CA-A738-622C8EB98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ABD5B-5F82-410D-A49E-13D7578CF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9C7134-7E65-43C9-A371-125BC9CBB5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593948-61E9-4FFD-BA09-DA7719C554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9F95B6-E9E3-4C74-BC88-694641049B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FF7D-742E-4534-B782-CD6F3FD0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CAC255-3957-4A61-AF20-82E75112AD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28EB89-6217-43D9-9134-CC046DF2B8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64F607-D3A3-4CEB-BD8A-80859B3679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17AC59-C28A-4C56-A261-2640DAE1AA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9362FD-D17B-45E0-AE01-79FED6F04D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91A539-52D1-46D2-8EBF-F3313EBD3B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4B6D12-D6FF-4FBF-A024-9FEC5DFFF3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97BBEC-C24A-410C-A069-F111DE25D7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49C2AE-5396-4519-9E24-9D909E151D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6D6AE6E-582C-45D0-82D9-351DC4E6116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DBBF-2F0B-4D13-B4C6-2178EA9F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80DC78-8D33-4DDB-81C6-F1ED92EE378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F9357D-9E72-4EAF-BEF4-93C9FAFD2F2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E43058-4918-404B-80C6-1BF320A96D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F25E76-DE53-4E35-AC40-2A7CCEF8A5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D388C4-F8AE-40AD-B423-E1ABFFB02D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4A1144-0416-4D6C-9476-D67A285CBB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599713-3C02-434E-AE0A-B6D1115269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A32FF8-9E60-492E-ADDC-E80FB9D178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68048D-EC16-491B-AA99-83E1E58778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1878B07-8828-4555-9F1C-25EEEAFCC1B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C925-A927-4259-AA39-6D25B831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8C976EF-46EA-44CF-9EF3-96F1AAFA361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2C550AE-32B7-48BC-9E45-30ECFA95C03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6878A7-E1AA-4D45-888B-76949C6A32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E0AB453-F4DF-40A9-9767-2F103EE85AC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B9E4B2-B642-4658-B2E8-DC886DDC06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D0A6F3-9B7E-4508-96FA-D3BF4D3FEC0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6F2DB8-47BF-4DA4-8177-2E578BD834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DC7A2E-3757-47E0-AD75-8760B90AD3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8A58E3-10D0-4502-B57E-44B32B7F34A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7CC79E-E798-4095-9FD0-66046446F2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AE0E-7E11-4DEF-87B6-3A4B1E2F3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39480D-EF77-40D4-A9EB-6F35769159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7A8E976-96B4-4568-AB04-2ECBF5611A3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6E799F6-9221-4799-A32A-442B58E4B64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3EC70D8-60BD-4290-A001-DF1A331DDE5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800990-5202-44FA-B44D-2EAEA40361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86D75A1-E25A-4634-A874-8A636EB0F16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58DF3F-CB03-4A66-912E-BF055F8904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6B81F7-3FEE-4A60-8C8A-B80FB5C0EA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AF1A78-DCD0-400D-A035-4AE77AB996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3B67472-0AE6-4322-92B5-2BFDD37BB3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C04E2-27ED-40FA-90ED-3831E81F0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1CDCB4-3DE5-4F92-B082-95282A70DD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A50C58-CF6A-420B-AE2D-B56B0B931F4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471E04-4CA0-468A-A63A-FCC188C1315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3F5DBEF-9DF8-4496-8072-842E8BD7CDB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B8D5BA8-06AE-4B72-9035-808E5AE2024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8B612DC-3F4D-424E-BBFD-07E5560A92C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A0C0A6-955E-45D6-90B1-BE4AECD0B7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B1B9F2-0C59-4B03-9D9D-F0CAA55D60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5AD1277-4F37-49A7-A517-22B920EEA1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5F425F-0505-4438-989B-ECBF46EE092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7A6A-4542-4425-A4C0-A7EAF4CD4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A59D9A-516E-42C5-B7E1-1FE324788A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5854C8-85FC-4AC0-8F01-28BA800DCC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3BCE2A-BCE4-4594-99DC-8354786027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F4A7B1-208C-49A4-A622-C2306DA9B9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C45042-45E5-4936-8939-E1681BD093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51D8B17-0328-43AC-A822-DF7F6BEC88D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A5997F1-754E-40C1-A873-7AE61858C5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1DF1247-9D80-47A8-9558-54E434A438F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4847878-0F70-4ECE-9AD9-D3544C62E4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A297432-8DE2-453D-A6AF-4CA95D594CA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6B80-A042-4650-A577-F89007D0703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C23D-F1C3-4ADE-99C2-6B8FE265DB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5965-BB9F-4857-9FEE-A36F5FAF24F3}"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0D1D-8803-460D-823A-8E49F93B8B5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4AB9-E675-4C55-B2E0-D8AB7AD6CE78}"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7FEA-2DE3-46DF-857D-6B656055D40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7246-2953-499D-9010-EB558AAF16E3}"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E4CD-A644-4847-A79D-71A639E0CCC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8DE1-D3D1-46E7-9BEE-CD6DBFAF9909}"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8D67-9FEE-4B68-8D13-7904CA3CEAD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55C6-D7BC-4373-BA24-6668CA640279}"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D9AF-6571-4875-8782-BE4FA14EE1BC}"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07CF-900E-46E3-BEA4-2C02EAFE8A12}"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2745-1215-43EB-BD49-0493C631A556}"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1B7F-35CE-4AF0-9C26-9EAF9A87594F}"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781C-0FE3-449D-B599-165ED2D3168F}"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2751-CCC0-4DA5-9981-8FA9635DF85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726B-E1B2-4CDB-9085-94249E64963B}"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04F7-1CE5-4FB7-BBD3-D38F32EF8FA4}"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A5B7-DB59-48F0-95B1-3569D39FE97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41F3-67A8-4BAE-AE73-91C1939E4E3A}"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0667-E0EA-443D-82F6-4AB56069009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D4F3-BC76-4517-8088-E6597E9961A4}"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B784-C00E-46C7-BEA1-58C0DE46A10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2966-9F2F-41C9-8A35-F68BAC7BBC77}" type="datetime">
              <a:rPr b="0" lang="en-US" sz="1200" spc="-1" strike="noStrike">
                <a:solidFill>
                  <a:srgbClr val="898989"/>
                </a:solidFill>
                <a:latin typeface="Helvetica Neue"/>
              </a:rPr>
              <a:t>07/29/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FF29-54D2-432D-A5A7-A002E8AFB02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