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C61C-80A1-4F8A-9FE7-72175B90B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9B17-766D-4FCE-965A-C3C2F88CA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BC4-9213-4A7B-B08B-0FAE988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BF2-407C-4A67-BD33-4DF68964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A73-5296-47C5-B4C4-B26D5BDB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D69-8076-4CC8-8D0F-B5AD96FB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6080-832F-4FE4-A919-2268AE1E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6ED-1A60-4BD7-94EC-A04C4192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79E-97E2-455E-8158-6A5657A5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22C-6971-4E02-B343-E25F7C73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130-9B80-4AF2-9626-130FE296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6EA4-B747-4702-90DD-C1C0CA1F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799-3E25-4BA0-96E3-642E0A97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EF2F-EF36-4B42-9339-10F799FC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3806-C136-441B-9108-ADFDFCFB4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791320" y="64008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Uso Correcto de su Tarje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5A67-2C3E-4C48-A8B1-103C2373F88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76320" y="838080"/>
            <a:ext cx="6629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o Correc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80880" y="1981080"/>
            <a:ext cx="65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su Tarjeta de Cr</a:t>
            </a:r>
            <a:r>
              <a:rPr b="1" lang="es-E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édi</a:t>
            </a: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y María necesitan otro auto. Tienen algo de dinero para pagar la entrada de un auto nuevo, pero aún necesitan tomar unos $10,000 prestados para comprarl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Comprar un au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396252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o devuelven o no pueden devolver el préstamo, ¿qué podría hacer el prestamis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una línea de crédito abierto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límite de dinero preaproba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pago mínimo men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r ejemplo, $15 por un saldo de $6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n tarjetas de cobro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iene que pagar el saldo completo cada 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d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están asociadas a una cuenta corr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6" descr="Credit card"/>
          <p:cNvPicPr/>
          <p:nvPr/>
        </p:nvPicPr>
        <p:blipFill>
          <a:blip r:embed="rId1"/>
          <a:stretch/>
        </p:blipFill>
        <p:spPr>
          <a:xfrm>
            <a:off x="6781680" y="1676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una tarjeta de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tarje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valor resguard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crédito aseguradas y no asegur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oro y pla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prem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pre aprob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ej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ea las divulgaciones antes de solicitar una tarj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vise los costos/pe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Entienda sus protecciones com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me medidas para protegerse del fraude o del ro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 requerido por ley fed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n destacar las tasas, los costos y otros términos cla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jemplo de la sec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tasas de inter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divulga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384120"/>
            <a:ext cx="90676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Divulgación de Veracidad en los Préstamo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5560" indent="-2955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quiere elegir una tarjeta de crédito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porcentual anual (APR) pa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ransferencias de sal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Adelantos de din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de penalidad y cuándo se ap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stos, como el costo 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iodo de gracia, si exi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étodo de computar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érminos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929280" y="2209680"/>
            <a:ext cx="1757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asa porcentual anual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 a lo largo de un año (interés + cos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usque una APR b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costos anuales y otros c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cuánto durarán las tasas iniciales y si la nueva tasa será fija o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saldos </a:t>
            </a:r>
            <a:r>
              <a:rPr b="1" lang="es-E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entes</a:t>
            </a: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440" y="1112760"/>
            <a:ext cx="872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l dinero que debe por cargos ya realizados (saldo existente) por lo general no se puede aumentar a no ser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le informe del aumento cuando abre la cuneta y la tasa inicial dura al menos 6 m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ya un cambio en una tasa basada en el ?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cumple con un acuerdo de re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hace el pago mínimo requerido en el plazo de 60 días tras la fecha de vencimien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transacciones </a:t>
            </a:r>
            <a:r>
              <a:rPr b="1" lang="es-ES" sz="33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uevas</a:t>
            </a: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 transacciones nuevas por lo general no puede aumentar en el plazo de un año después de emitir la tarjet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xcepto si tiene una tarjeta de tasa variable y el índice aumenta o la tasa de promoción expi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acreedor debe notificarle con 45 días de ant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puede cancelar la tarjeta antes de que entren en vigor los camb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de penaliz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APR de finaliz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un aumento permanente en la tasa de interés si no paga su tarjeta de crédito a tiemp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ser el doble de la APR n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ás detalles en las divulgaciones de Veracidad en los Préstam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429000" y="434340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r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por pago atras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gastar más del lími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transferencia de sal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adelanto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aumentar el límite del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transacciones en extranj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Dollar sign"/>
          <p:cNvPicPr/>
          <p:nvPr/>
        </p:nvPicPr>
        <p:blipFill>
          <a:blip r:embed="rId1"/>
          <a:stretch/>
        </p:blipFill>
        <p:spPr>
          <a:xfrm>
            <a:off x="6400800" y="1447920"/>
            <a:ext cx="2201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ite los cargos de financiación al saldar su deuda por completo, o al hacer el pago mínimo, antes o en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riodo de gra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2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aldo diario promed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étodo más común us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ldo x APR x día en el ciclo de factu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ías en el año calend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étodo de computación de sal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rvicio al cli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servicios por teléfono e Internet le pueden ayudar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der a la información de la cuenta, como el saldo y cargos rec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sus factura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tualizar su información personal, como su dire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alizar otras funciones cl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98712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órmese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leyes que le protegen contra errores de facturación y cargos no autoriz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protecciones que ofrezcan las compañías de tarjetas de crédito (por ejemplo, un periodo de garantía extendido para ciertas compr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ómese un momento para entender bien los costos, las ventajas y la verdadera cobertura de los programas de "protección del crédito" o "suspensión de deuda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monto mímimo de crédito que le otorga la compañía de tarjeta de crédito basado en factores como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696780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6643800" cy="11034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333960" cy="1098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ímite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ónde solicitar un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¿Dónde cree que podría ir a solicitar una tarjeta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ble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odo lo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1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iene el derecho de optar por excluirse de recibir ofertas de tarjetas de crédito por corr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nº de teléfono en la oferta de crédi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ar por no compartir información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ell phone"/>
          <p:cNvPicPr/>
          <p:nvPr/>
        </p:nvPicPr>
        <p:blipFill>
          <a:blip r:embed="rId1"/>
          <a:stretch/>
        </p:blipFill>
        <p:spPr>
          <a:xfrm>
            <a:off x="838080" y="4552920"/>
            <a:ext cx="20750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ndividu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sus propios activos, ingresos, su habilidad de pagar y su historial crediti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ted es responsable de pagar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mancomun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los activos, ingresos, la habilidad de pagar y el historial crediticio de las dos personas que lo solicit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mbos solicitantes son responsables de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3059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 individual vs mancomun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Los consumidores </a:t>
            </a:r>
            <a:r>
              <a:rPr b="1" lang="es-E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menores de 21 años</a:t>
            </a: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tener un aval,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demostrar su habilidad de poder p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Si usted es un padre o una madre, estén preparados para ser av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porcionar información correcta en una solicitud de crédi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Dar información falsa es un del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quisitos para una solicit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dad:</a:t>
            </a:r>
            <a:r>
              <a:rPr b="1" lang="es-E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s posibilidades presentes y futuras de cumplir con las obligaciones de pa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Reputación: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ómo han pagado sus cuentas o deudas en el pas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Garantía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i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l crédito es importa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factores que tienen en cuenta los acreedores para tomar decisiones en materia de crédi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el propósito d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dad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tiempo ha estado en su empleo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gana por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sus gastos mensual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tiene en su cuenta corriente y cuenta de ahorr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Es propietario de una viviend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inversiones u otros bienes (p. ej. un automóvil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pu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 ha tenido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as cuentas de crédito tien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claró en bancarro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uvo un juicio por deuda pendi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piedad suya fue embargada o ejecuta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 hecho pagos atrasad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7391520" y="2743200"/>
            <a:ext cx="15206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bienes para garantizar el préstamo más allá de su capacidad de devolverl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emos hablado sobre la información que buscan los acreedores a la hora de decidir si autorizarle una tarjeta de crédito, pero ¿dónde creen que encontrarán esta información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 informe crediticio le informa a los acreedore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Quiíen es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o  dinero d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tenido algún cobro de cuentas en mora, bancarrotas, sentencias, etc. cont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as consultas se han realizado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4176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resentamos a Cath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iene 25 añ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unca ha tenido una tarjeta de crédito ni un préstam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historial crediticio excepto por una consulta que hizo su casero cuando alquiló su apartamento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cide un acreedor si Cathy es un buen riesgo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629400" y="182880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No tener historial no es un miste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gencias de informes credit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criba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 Anual Gratu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8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s 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ntaje FICO (Fair Isaac Sc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untaj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solicitar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tarjeta de crédito es la más adecuada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cómo utilizar una tarjeta de crédito de manera respons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pasos a seguir si pierdo o me roban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Si su solicitud para crédito es deneg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aviso de denegación o aviso de acción adversa, indica los motivos por los que un crédito es denega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ompañías de tarjetas de crédito deben darle los motivos por los que se le denegó un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la agencia crediticia en el plazo de 60 días de recibir la denegación para recibir una copia gratuita de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cualquier información incorrecta en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  <a:ea typeface="Arial"/>
              </a:rPr>
              <a:t>Información en el resumen de la tarjeta de crédit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7640" y="147960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ación de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379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ederalreserve.gov/creditcardcalculator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asesoría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de tasa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ciones o actividad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álculo de cargo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Statement and envelope"/>
          <p:cNvPicPr/>
          <p:nvPr/>
        </p:nvPicPr>
        <p:blipFill>
          <a:blip r:embed="rId1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12952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s recibos de la tarjeta de crédito para compararlos con sus resúmene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resumen mensual para detectar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 errores lo antes po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ga un buen registro de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9800" y="990720"/>
            <a:ext cx="85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 de los siguientes es un buen motivo para pagar más del mínimo que debe en su factura de su tarjeta de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reflejaría como algo positivo en su historial crediti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volver a gastarlo, en montos más elev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 compañía de la tarjeta de crédito aumentaría su límite más rápidam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agaría el saldo con más rapidez y se ahorraría dinero en inter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143000"/>
          <a:ext cx="7925040" cy="3618000"/>
        </p:xfrm>
        <a:graphic>
          <a:graphicData uri="http://schemas.openxmlformats.org/drawingml/2006/table">
            <a:tbl>
              <a:tblPr/>
              <a:tblGrid>
                <a:gridCol w="1524240"/>
                <a:gridCol w="1197000"/>
                <a:gridCol w="1012680"/>
                <a:gridCol w="1295280"/>
                <a:gridCol w="1295640"/>
                <a:gridCol w="1600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tícul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és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-d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i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o d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cios de pagar más que 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orig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s mensua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és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pag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mínimo (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uston, puede que tengamos un probl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i cada persona está usando su tarjeta de manera respons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a lo que podría pasar si cada persona sigue usando su tarjeta de crédito como se desc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i pierde o le roban la tarjeta de crédi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¡Notifique a la compañía de la tarjeta de crédito inmediatament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82760" y="1142640"/>
            <a:ext cx="84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aracter?icas de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tarjetas parecidas a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os diferentes tipos de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encontrar los mejores térmi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solicitar una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una tarjeta de crédito de manera respons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pagar la factura de su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s tarjetas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el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2760" y="99072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le pregunta a un profesional financiero qué es el crédito, ¿cuál de estas respuestas elegiría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habilidad de tomar dinero prestad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acuerdo de tomar dinero prestado a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Garantía o av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guridad, o bien, que promete al prestamista en caso de que no puedan devolver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és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finir 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a importancia d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67280" indent="-46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es importante el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crédi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ser útil en situaciones de emerg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s más conveniente y seguro que llevar encima grandes cantidades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es permite hacer una compra grande, como la de un automóvil o una vivienda, y pagar por ella durante un largo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afectar su posibilidad de obtener un trabajo, comprar o alquilar una casa, u obtener un segu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9800" y="1219320"/>
            <a:ext cx="654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er buen crédito signific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n a tiempo el dinero que d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rá más fácil tomar dinero prestado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n problemas para usar el crédito de manera responsable, será más difícil para ustedes pedir dinero prestado en el fut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7110360" y="1600200"/>
            <a:ext cx="172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buen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</cp:lastModifiedBy>
  <dcterms:modified xsi:type="dcterms:W3CDTF">2011-02-14T18:05:31Z</dcterms:modified>
  <cp:revision>2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