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25.jpeg" ContentType="image/jpeg"/>
  <Override PartName="/ppt/media/image32.png" ContentType="image/png"/>
  <Override PartName="/ppt/media/image24.png" ContentType="image/png"/>
  <Override PartName="/ppt/media/image28.jpeg" ContentType="image/jpeg"/>
  <Override PartName="/ppt/media/image20.png" ContentType="image/png"/>
  <Override PartName="/ppt/media/image2.jpeg" ContentType="image/jpeg"/>
  <Override PartName="/ppt/media/image36.jpeg" ContentType="image/jpeg"/>
  <Override PartName="/ppt/media/image21.png" ContentType="image/png"/>
  <Override PartName="/ppt/media/image19.png" ContentType="image/png"/>
  <Override PartName="/ppt/media/image15.wmf" ContentType="image/x-wmf"/>
  <Override PartName="/ppt/media/image22.jpeg" ContentType="image/jpeg"/>
  <Override PartName="/ppt/media/image39.png" ContentType="image/png"/>
  <Override PartName="/ppt/media/image27.png" ContentType="image/png"/>
  <Override PartName="/ppt/media/image12.wmf" ContentType="image/x-wmf"/>
  <Override PartName="/ppt/media/image4.png" ContentType="image/png"/>
  <Override PartName="/ppt/media/image34.png" ContentType="image/png"/>
  <Override PartName="/ppt/media/image38.jpeg" ContentType="image/jpeg"/>
  <Override PartName="/ppt/media/image7.png" ContentType="image/png"/>
  <Override PartName="/ppt/media/image37.png" ContentType="image/png"/>
  <Override PartName="/ppt/media/image13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33.png" ContentType="image/png"/>
  <Override PartName="/ppt/media/image6.wmf" ContentType="image/x-wmf"/>
  <Override PartName="/ppt/media/image11.png" ContentType="image/png"/>
  <Override PartName="/ppt/media/image9.jpeg" ContentType="image/jpeg"/>
  <Override PartName="/ppt/media/image35.wmf" ContentType="image/x-wmf"/>
  <Override PartName="/ppt/media/image5.wmf" ContentType="image/x-wmf"/>
  <Override PartName="/ppt/media/image1.jpeg" ContentType="image/jpeg"/>
  <Override PartName="/ppt/media/image10.png" ContentType="image/png"/>
  <Override PartName="/ppt/media/image8.jpeg" ContentType="image/jpeg"/>
  <Override PartName="/ppt/media/image3.jpeg" ContentType="image/jpeg"/>
  <Override PartName="/ppt/media/image30.png" ContentType="image/png"/>
  <Override PartName="/ppt/media/image23.jpeg" ContentType="image/jpeg"/>
  <Override PartName="/ppt/media/image16.png" ContentType="image/png"/>
  <Override PartName="/ppt/media/image17.png" ContentType="image/png"/>
  <Override PartName="/ppt/media/image1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6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730080" y="4559040"/>
            <a:ext cx="585504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7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8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08D7A-5AB8-45F6-9645-B658877779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730080" y="4559040"/>
            <a:ext cx="58550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730080" y="4559040"/>
            <a:ext cx="58550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730080" y="4559040"/>
            <a:ext cx="58550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730080" y="4559040"/>
            <a:ext cx="58550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9F07F-071E-4C7A-A55F-6A67D79BFB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730080" y="4559040"/>
            <a:ext cx="58550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730080" y="4559040"/>
            <a:ext cx="58550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C480-8043-4A8E-BAD8-53A464659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B657-ED4C-477C-B630-FBEDFC31F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2E50-48E3-4185-A42C-350B4656B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D170-5915-465B-B92D-AE97E98EB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68A4-F7A1-400E-BAE4-9D24A57F8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A9CB-5327-4B79-812E-8DC3E7DFA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D59C-7140-4141-A2D5-DB98CD525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31F6-4EAB-4C48-9FA1-8E0A4E693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3766-E771-4577-9782-F913FC8E8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CC40-D925-47AE-9F7D-C1783FEEA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AEBC-94D3-4674-B726-CB664BD02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F68D-E27A-4797-B407-08114F991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5D8EC-0835-432F-A125-4C9520F7C5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slide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7"/>
          <p:cNvSpPr/>
          <p:nvPr/>
        </p:nvSpPr>
        <p:spPr>
          <a:xfrm>
            <a:off x="5791320" y="6400800"/>
            <a:ext cx="266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Uso Correcto de su Tarjeta de Crédi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8"/>
          <p:cNvSpPr/>
          <p:nvPr/>
        </p:nvSpPr>
        <p:spPr>
          <a:xfrm>
            <a:off x="8305920" y="6400800"/>
            <a:ext cx="38088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8B9EB-DA9B-4F34-B01A-5444F6C3A947}" type="slidenum">
              <a:rPr b="1" lang="en-US" sz="1000" spc="-1" strike="noStrike">
                <a:solidFill>
                  <a:srgbClr val="132f5a"/>
                </a:solidFill>
                <a:latin typeface="Helvetica Neu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slide3.jpg"/>
          <p:cNvPicPr/>
          <p:nvPr/>
        </p:nvPicPr>
        <p:blipFill>
          <a:blip r:embed="rId3"/>
          <a:stretch/>
        </p:blipFill>
        <p:spPr>
          <a:xfrm>
            <a:off x="5943600" y="5346720"/>
            <a:ext cx="2720880" cy="673200"/>
          </a:xfrm>
          <a:prstGeom prst="rect">
            <a:avLst/>
          </a:prstGeom>
          <a:ln w="0">
            <a:noFill/>
          </a:ln>
        </p:spPr>
      </p:pic>
      <p:sp>
        <p:nvSpPr>
          <p:cNvPr id="45" name="TextBox 10"/>
          <p:cNvSpPr/>
          <p:nvPr/>
        </p:nvSpPr>
        <p:spPr>
          <a:xfrm>
            <a:off x="6480000" y="5638680"/>
            <a:ext cx="251460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1f497d"/>
                </a:solidFill>
                <a:latin typeface="Arial Rounded MT Bold"/>
              </a:rPr>
              <a:t>Programa de Educación Financiera FD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Charge It Right title slide with FDIC Money Smart logo and module logo of credit card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TextBox 6"/>
          <p:cNvSpPr/>
          <p:nvPr/>
        </p:nvSpPr>
        <p:spPr>
          <a:xfrm>
            <a:off x="76320" y="838080"/>
            <a:ext cx="662940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8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Uso Correcto</a:t>
            </a:r>
            <a:endParaRPr b="0" lang="en-US" sz="7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7"/>
          <p:cNvSpPr/>
          <p:nvPr/>
        </p:nvSpPr>
        <p:spPr>
          <a:xfrm>
            <a:off x="380880" y="1981080"/>
            <a:ext cx="65534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de su Tarjeta de Cr</a:t>
            </a:r>
            <a:r>
              <a:rPr b="1" lang="es-ES" sz="7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édi</a:t>
            </a:r>
            <a:r>
              <a:rPr b="1" lang="en-US" sz="7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to</a:t>
            </a:r>
            <a:endParaRPr b="0" lang="en-US" sz="7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8"/>
          <p:cNvSpPr/>
          <p:nvPr/>
        </p:nvSpPr>
        <p:spPr>
          <a:xfrm>
            <a:off x="1143000" y="5016600"/>
            <a:ext cx="41911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c1961c"/>
                </a:solidFill>
                <a:latin typeface="Arial Rounded MT Bold"/>
              </a:rPr>
              <a:t>Programa de Educación Financiera de la FD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1143000"/>
            <a:ext cx="632448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6880" indent="-3268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teve y María necesitan otro auto. Tienen algo de dinero para pagar la entrada de un auto nuevo, pero aún necesitan tomar unos $10,000 prestados para comprarlo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5" descr="Lender reviewing paperwork with a couple"/>
          <p:cNvPicPr/>
          <p:nvPr/>
        </p:nvPicPr>
        <p:blipFill>
          <a:blip r:embed="rId1"/>
          <a:stretch/>
        </p:blipFill>
        <p:spPr>
          <a:xfrm>
            <a:off x="6858000" y="1295280"/>
            <a:ext cx="2057400" cy="20574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Caso crediticio: Comprar un aut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Box 4"/>
          <p:cNvSpPr/>
          <p:nvPr/>
        </p:nvSpPr>
        <p:spPr>
          <a:xfrm>
            <a:off x="457200" y="3962520"/>
            <a:ext cx="838188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lnSpc>
                <a:spcPct val="100000"/>
              </a:lnSpc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i no devuelven o no pueden devolver el préstamo, ¿qué podría hacer el prestamista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6840" y="121932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7320" indent="-337320">
              <a:lnSpc>
                <a:spcPct val="100000"/>
              </a:lnSpc>
              <a:spcBef>
                <a:spcPts val="751"/>
              </a:spcBef>
              <a:buClr>
                <a:srgbClr val="c196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1961c"/>
                </a:solidFill>
                <a:latin typeface="Helvetica Neue"/>
                <a:ea typeface="Arial"/>
              </a:rPr>
              <a:t>Las tarjetas de crédito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on una línea de crédito abierto con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Un límite de dinero preaprobado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Un pago mínimo mensu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-22140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or ejemplo, $15 por un saldo de $600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7320" indent="-337320">
              <a:lnSpc>
                <a:spcPct val="100000"/>
              </a:lnSpc>
              <a:spcBef>
                <a:spcPts val="751"/>
              </a:spcBef>
              <a:buClr>
                <a:srgbClr val="c196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000" spc="-1" strike="noStrike">
                <a:solidFill>
                  <a:srgbClr val="c1961c"/>
                </a:solidFill>
                <a:latin typeface="Helvetica Neue"/>
                <a:ea typeface="Arial"/>
              </a:rPr>
              <a:t>Con tarjetas de cobro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 tiene que pagar el saldo completo cada m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7320" indent="-337320">
              <a:lnSpc>
                <a:spcPct val="100000"/>
              </a:lnSpc>
              <a:spcBef>
                <a:spcPts val="751"/>
              </a:spcBef>
              <a:buClr>
                <a:srgbClr val="c196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1961c"/>
                </a:solidFill>
                <a:latin typeface="Helvetica Neue"/>
                <a:ea typeface="Arial"/>
              </a:rPr>
              <a:t>Las tarjetas de dédito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 están asociadas a una cuenta corrient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732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16" descr="Credit card"/>
          <p:cNvPicPr/>
          <p:nvPr/>
        </p:nvPicPr>
        <p:blipFill>
          <a:blip r:embed="rId1"/>
          <a:stretch/>
        </p:blipFill>
        <p:spPr>
          <a:xfrm>
            <a:off x="6781680" y="1676520"/>
            <a:ext cx="1981440" cy="19810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¿Qué es una tarjeta de crédito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Otras tarjeta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95360" y="106668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40560" indent="-34056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Tarjetas de valor resguardad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0560" indent="-34056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Tarjetas de crédito aseguradas y no asegurad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0560" indent="-34056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Tarjetas oro y platin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0560" indent="-34056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Tarjetas de premi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0560" indent="-34056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Tarjetas pre aprobad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Content Placeholder 2"/>
          <p:cNvSpPr/>
          <p:nvPr/>
        </p:nvSpPr>
        <p:spPr>
          <a:xfrm>
            <a:off x="5029200" y="977760"/>
            <a:ext cx="3962520" cy="5181840"/>
          </a:xfrm>
          <a:prstGeom prst="rect">
            <a:avLst/>
          </a:prstGeom>
          <a:solidFill>
            <a:srgbClr val="252e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onsejo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Lea las divulgaciones antes de solicitar una tarje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Revise los costos/penalidad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  <a:ea typeface="Arial"/>
              </a:rPr>
              <a:t>Entienda sus protecciones como consumid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Tome medidas para protegerse del fraude o del rob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456840" y="990720"/>
            <a:ext cx="83818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6600" indent="-2466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stá requerido por ley federa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46600" indent="-2466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eben destacar las tasas, los costos y otros términos clav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46600" indent="-2466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jemplo de la secci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㮠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e tasas de inter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鳠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e una divulgaci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㮺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320" y="384120"/>
            <a:ext cx="906768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c1961c"/>
                </a:solidFill>
                <a:latin typeface="Helvetica Neue"/>
                <a:ea typeface="Arial"/>
              </a:rPr>
              <a:t>Divulgación de Veracidad en los Préstamos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3" descr="Sample truth in lending disclosure statement showing the APR for purchases, balance transfers, cash advances, and the Penalty APR and when it applies"/>
          <p:cNvPicPr/>
          <p:nvPr/>
        </p:nvPicPr>
        <p:blipFill>
          <a:blip r:embed="rId1"/>
          <a:stretch/>
        </p:blipFill>
        <p:spPr>
          <a:xfrm>
            <a:off x="762120" y="2590920"/>
            <a:ext cx="7915320" cy="35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457200" y="1063800"/>
            <a:ext cx="86868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5560" indent="-29556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uando quiere elegir una tarjeta de crédito, compare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La tasa porcentual anual (APR) para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71280" indent="-194040">
              <a:lnSpc>
                <a:spcPct val="100000"/>
              </a:lnSpc>
              <a:buClr>
                <a:srgbClr val="132f5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32f5a"/>
                </a:solidFill>
                <a:latin typeface="Helvetica Neue"/>
                <a:ea typeface="Arial"/>
              </a:rPr>
              <a:t>Compr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71280" indent="-194040">
              <a:lnSpc>
                <a:spcPct val="100000"/>
              </a:lnSpc>
              <a:buClr>
                <a:srgbClr val="132f5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32f5a"/>
                </a:solidFill>
                <a:latin typeface="Helvetica Neue"/>
                <a:ea typeface="Arial"/>
              </a:rPr>
              <a:t>Transferencias de sald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71280" indent="-194040">
              <a:lnSpc>
                <a:spcPct val="100000"/>
              </a:lnSpc>
              <a:buClr>
                <a:srgbClr val="132f5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32f5a"/>
                </a:solidFill>
                <a:latin typeface="Helvetica Neue"/>
                <a:ea typeface="Arial"/>
              </a:rPr>
              <a:t>Adelantos de dine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71280" indent="-194040">
              <a:lnSpc>
                <a:spcPct val="100000"/>
              </a:lnSpc>
              <a:spcAft>
                <a:spcPts val="1001"/>
              </a:spcAft>
              <a:buClr>
                <a:srgbClr val="132f5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132f5a"/>
                </a:solidFill>
                <a:latin typeface="Helvetica Neue"/>
                <a:ea typeface="Arial"/>
              </a:rPr>
              <a:t>La APR de penalidad y cuándo se apli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lnSpc>
                <a:spcPct val="100000"/>
              </a:lnSpc>
              <a:spcBef>
                <a:spcPts val="700"/>
              </a:spcBef>
              <a:spcAft>
                <a:spcPts val="10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ostos, como el costo anu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lnSpc>
                <a:spcPct val="100000"/>
              </a:lnSpc>
              <a:spcBef>
                <a:spcPts val="700"/>
              </a:spcBef>
              <a:spcAft>
                <a:spcPts val="10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eriodo de gracia, si exis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lnSpc>
                <a:spcPct val="100000"/>
              </a:lnSpc>
              <a:spcBef>
                <a:spcPts val="700"/>
              </a:spcBef>
              <a:spcAft>
                <a:spcPts val="10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Método de computar sald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Términos de la tarjeta de crédit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4" descr="Weight with a percentage symbol"/>
          <p:cNvPicPr/>
          <p:nvPr/>
        </p:nvPicPr>
        <p:blipFill>
          <a:blip r:embed="rId1"/>
          <a:stretch/>
        </p:blipFill>
        <p:spPr>
          <a:xfrm>
            <a:off x="6929280" y="2209680"/>
            <a:ext cx="175752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Tasa porcentual anual (APR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c196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000" spc="-1" strike="noStrike">
                <a:solidFill>
                  <a:srgbClr val="c1961c"/>
                </a:solidFill>
                <a:latin typeface="Helvetica Neue"/>
                <a:ea typeface="Arial"/>
              </a:rPr>
              <a:t>APR:</a:t>
            </a:r>
            <a:r>
              <a:rPr b="1" lang="es-ES" sz="3000" spc="-1" strike="noStrike">
                <a:solidFill>
                  <a:srgbClr val="c1961c"/>
                </a:solidFill>
                <a:latin typeface="Helvetica Neue"/>
                <a:ea typeface="Arial"/>
              </a:rPr>
              <a:t> 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l costo de tomar dinero prestado a lo largo de un año (interés + costos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Busque una APR baj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ompare costos anuales y otros carg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Determine cuánto durarán las tasas iniciales y si la nueva tasa será fija o vari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2" descr="Credit card icon with percentage symbol"/>
          <p:cNvPicPr/>
          <p:nvPr/>
        </p:nvPicPr>
        <p:blipFill>
          <a:blip r:embed="rId1"/>
          <a:stretch/>
        </p:blipFill>
        <p:spPr>
          <a:xfrm>
            <a:off x="3657600" y="4267080"/>
            <a:ext cx="198108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384120"/>
            <a:ext cx="853452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Aumento de APR en saldos </a:t>
            </a:r>
            <a:r>
              <a:rPr b="1" lang="es-ES" sz="3600" spc="-1" strike="noStrike" u="sng">
                <a:solidFill>
                  <a:srgbClr val="c1961c"/>
                </a:solidFill>
                <a:uFillTx/>
                <a:latin typeface="Helvetica Neue"/>
                <a:ea typeface="Arial"/>
              </a:rPr>
              <a:t>existentes</a:t>
            </a: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90440" y="1112760"/>
            <a:ext cx="8724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40560" indent="-3405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La APR que se aplica al dinero que debe por cargos ya realizados (saldo existente) por lo general no se puede aumentar a no ser qu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Se le informe del aumento cuando abre la cuneta y la tasa inicial dura al menos 6 mes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Haya un cambio en una tasa basada en el ?c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No cumple con un acuerdo de resolució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No hace el pago mínimo requerido en el plazo de 60 días tras la fecha de vencimient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28240" y="384120"/>
            <a:ext cx="89154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300" spc="-1" strike="noStrike">
                <a:solidFill>
                  <a:srgbClr val="c1961c"/>
                </a:solidFill>
                <a:latin typeface="Helvetica Neue"/>
                <a:ea typeface="Arial"/>
              </a:rPr>
              <a:t>Aumento de APR en transacciones </a:t>
            </a:r>
            <a:r>
              <a:rPr b="1" lang="es-ES" sz="3300" spc="-1" strike="noStrike" u="sng">
                <a:solidFill>
                  <a:srgbClr val="c1961c"/>
                </a:solidFill>
                <a:uFillTx/>
                <a:latin typeface="Helvetica Neue"/>
                <a:ea typeface="Arial"/>
              </a:rPr>
              <a:t>nuevas</a:t>
            </a:r>
            <a:r>
              <a:rPr b="1" lang="es-ES" sz="3300" spc="-1" strike="noStrike">
                <a:solidFill>
                  <a:srgbClr val="c1961c"/>
                </a:solidFill>
                <a:latin typeface="Helvetica Neue"/>
                <a:ea typeface="Arial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6840" y="121932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La APR que se aplica a transacciones nuevas por lo general no puede aumentar en el plazo de un año después de emitir la tarjeta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69880" indent="-28584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Excepto si tiene una tarjeta de tasa variable y el índice aumenta o la tasa de promoción expir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l acreedor debe notificarle con 45 días de antelació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Usted puede cancelar la tarjeta antes de que entren en vigor los cambi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APR de penalizació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6840" y="11430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Una APR de finalización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s un aumento permanente en la tasa de interés si no paga su tarjeta de crédito a tiempo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odría ser el doble de la APR norm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Más detalles en las divulgaciones de Veracidad en los Préstam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4" descr="Three stacks of money that increase in height and an arrow indicating the increase"/>
          <p:cNvPicPr/>
          <p:nvPr/>
        </p:nvPicPr>
        <p:blipFill>
          <a:blip r:embed="rId1"/>
          <a:stretch/>
        </p:blipFill>
        <p:spPr>
          <a:xfrm>
            <a:off x="3429000" y="4343400"/>
            <a:ext cx="1935000" cy="16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Carg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987120"/>
            <a:ext cx="8229600" cy="487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68360" indent="-285840">
              <a:lnSpc>
                <a:spcPct val="100000"/>
              </a:lnSpc>
              <a:spcBef>
                <a:spcPts val="649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Costos anua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468360" indent="-285840">
              <a:lnSpc>
                <a:spcPct val="100000"/>
              </a:lnSpc>
              <a:spcBef>
                <a:spcPts val="649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Cargos por pago atrasad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468360" indent="-285840">
              <a:lnSpc>
                <a:spcPct val="100000"/>
              </a:lnSpc>
              <a:spcBef>
                <a:spcPts val="649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Costo por gastar más del límit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468360" indent="-285840">
              <a:lnSpc>
                <a:spcPct val="100000"/>
              </a:lnSpc>
              <a:spcBef>
                <a:spcPts val="649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Costos por transferencia de saldo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468360" indent="-285840">
              <a:lnSpc>
                <a:spcPct val="100000"/>
              </a:lnSpc>
              <a:spcBef>
                <a:spcPts val="649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Costos por adelanto de diner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468360" indent="-285840">
              <a:lnSpc>
                <a:spcPct val="100000"/>
              </a:lnSpc>
              <a:spcBef>
                <a:spcPts val="649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Costo por aumentar el límite del crédit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468360" indent="-285840">
              <a:lnSpc>
                <a:spcPct val="100000"/>
              </a:lnSpc>
              <a:spcBef>
                <a:spcPts val="649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Costo transacciones en extranjer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Picture 5" descr="Dollar sign"/>
          <p:cNvPicPr/>
          <p:nvPr/>
        </p:nvPicPr>
        <p:blipFill>
          <a:blip r:embed="rId1"/>
          <a:stretch/>
        </p:blipFill>
        <p:spPr>
          <a:xfrm>
            <a:off x="6400800" y="1447920"/>
            <a:ext cx="220176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191120" y="1828800"/>
            <a:ext cx="4114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7160" indent="-51408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gend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Normas básica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resentacion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Bienvenid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1" descr="Handshake"/>
          <p:cNvPicPr/>
          <p:nvPr/>
        </p:nvPicPr>
        <p:blipFill>
          <a:blip r:embed="rId1"/>
          <a:stretch/>
        </p:blipFill>
        <p:spPr>
          <a:xfrm>
            <a:off x="762120" y="190512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495360" y="10666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vite los cargos de financiación al saldar su deuda por completo, o al hacer el pago mínimo, antes o en la fecha de vencimiento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Periodo de graci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Picture 12" descr="Calendar"/>
          <p:cNvPicPr/>
          <p:nvPr/>
        </p:nvPicPr>
        <p:blipFill>
          <a:blip r:embed="rId1"/>
          <a:stretch/>
        </p:blipFill>
        <p:spPr>
          <a:xfrm>
            <a:off x="3200400" y="2743200"/>
            <a:ext cx="25146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Rounded Rectangle 9"/>
          <p:cNvGrpSpPr/>
          <p:nvPr/>
        </p:nvGrpSpPr>
        <p:grpSpPr>
          <a:xfrm>
            <a:off x="1335240" y="3846600"/>
            <a:ext cx="6619680" cy="1444680"/>
            <a:chOff x="1335240" y="3846600"/>
            <a:chExt cx="6619680" cy="1444680"/>
          </a:xfrm>
        </p:grpSpPr>
        <p:pic>
          <p:nvPicPr>
            <p:cNvPr id="152" name="Rounded Rectangle 9" descr=""/>
            <p:cNvPicPr/>
            <p:nvPr/>
          </p:nvPicPr>
          <p:blipFill>
            <a:blip r:embed="rId1"/>
            <a:stretch/>
          </p:blipFill>
          <p:spPr>
            <a:xfrm>
              <a:off x="1335240" y="3846600"/>
              <a:ext cx="6619680" cy="144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1438200" y="3952800"/>
              <a:ext cx="6419880" cy="123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/>
          <p:cNvSpPr txBox="1"/>
          <p:nvPr/>
        </p:nvSpPr>
        <p:spPr>
          <a:xfrm>
            <a:off x="380880" y="137160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6600" indent="-24660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l saldo diario promedio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46600" indent="-24660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s el método más común usado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46600" indent="-24660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46600" indent="-246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Saldo x APR x día en el ciclo de facturació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46600" indent="-246600" algn="ctr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Días en el año calendari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46600" indent="-2466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46600" indent="-246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elvetica Neue"/>
                <a:ea typeface="Arial"/>
              </a:rPr>
              <a:t>200 x 0.10 x 30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  <a:ea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46600" indent="-246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elvetica Neue"/>
                <a:ea typeface="Arial"/>
              </a:rPr>
              <a:t>36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traight Connector 5"/>
          <p:cNvSpPr/>
          <p:nvPr/>
        </p:nvSpPr>
        <p:spPr>
          <a:xfrm>
            <a:off x="2286000" y="4572000"/>
            <a:ext cx="32004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6"/>
          <p:cNvSpPr/>
          <p:nvPr/>
        </p:nvSpPr>
        <p:spPr>
          <a:xfrm>
            <a:off x="5867280" y="430992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= $1.6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7"/>
          <p:cNvSpPr/>
          <p:nvPr/>
        </p:nvSpPr>
        <p:spPr>
          <a:xfrm>
            <a:off x="1295280" y="3124080"/>
            <a:ext cx="6477120" cy="1800"/>
          </a:xfrm>
          <a:prstGeom prst="line">
            <a:avLst/>
          </a:prstGeom>
          <a:ln w="38160">
            <a:solidFill>
              <a:srgbClr val="132f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Método de computación de sald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Servicio al client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Los servicios por teléfono e Internet le pueden ayudar a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cceder a la información de la cuenta, como el saldo y cargos recien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agar sus facturas onl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ctualizar su información personal, como su direcció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Picture 2" descr="Customer service agent speaking into headset"/>
          <p:cNvPicPr/>
          <p:nvPr/>
        </p:nvPicPr>
        <p:blipFill>
          <a:blip r:embed="rId1"/>
          <a:stretch/>
        </p:blipFill>
        <p:spPr>
          <a:xfrm>
            <a:off x="3429000" y="4191120"/>
            <a:ext cx="2427120" cy="17524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Realizar otras funciones cla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6840" y="987120"/>
            <a:ext cx="8458200" cy="53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Infórmese d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Las leyes que le protegen contra errores de facturación y cargos no autorizado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Otras protecciones que ofrezcan las compañías de tarjetas de crédito (por ejemplo, un periodo de garantía extendido para ciertas compra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Tómese un momento para entender bien los costos, las ventajas y la verdadera cobertura de los programas de "protección del crédito" o "suspensión de deudas"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457200" y="106380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l monto mímimo de crédito que le otorga la compañía de tarjeta de crédito basado en factores como su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Rectangle 3" descr=""/>
          <p:cNvPicPr/>
          <p:nvPr/>
        </p:nvPicPr>
        <p:blipFill>
          <a:blip r:embed="rId1"/>
          <a:stretch/>
        </p:blipFill>
        <p:spPr>
          <a:xfrm>
            <a:off x="811080" y="2266920"/>
            <a:ext cx="6967800" cy="1098720"/>
          </a:xfrm>
          <a:prstGeom prst="rect">
            <a:avLst/>
          </a:prstGeom>
          <a:ln w="0">
            <a:noFill/>
          </a:ln>
        </p:spPr>
      </p:pic>
      <p:pic>
        <p:nvPicPr>
          <p:cNvPr id="166" name="Rectangle 4" descr=""/>
          <p:cNvPicPr/>
          <p:nvPr/>
        </p:nvPicPr>
        <p:blipFill>
          <a:blip r:embed="rId2"/>
          <a:stretch/>
        </p:blipFill>
        <p:spPr>
          <a:xfrm>
            <a:off x="2030400" y="3103560"/>
            <a:ext cx="6643800" cy="1103400"/>
          </a:xfrm>
          <a:prstGeom prst="rect">
            <a:avLst/>
          </a:prstGeom>
          <a:ln w="0">
            <a:noFill/>
          </a:ln>
        </p:spPr>
      </p:pic>
      <p:pic>
        <p:nvPicPr>
          <p:cNvPr id="167" name="Rectangle 5" descr=""/>
          <p:cNvPicPr/>
          <p:nvPr/>
        </p:nvPicPr>
        <p:blipFill>
          <a:blip r:embed="rId3"/>
          <a:stretch/>
        </p:blipFill>
        <p:spPr>
          <a:xfrm>
            <a:off x="3170160" y="3943440"/>
            <a:ext cx="3333960" cy="109836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Límite de la tarjeta de crédit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6868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Dónde solicitar una tarjeta de crédit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2160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060"/>
                </a:solidFill>
                <a:latin typeface="Helvetica Neue"/>
                <a:ea typeface="Arial"/>
              </a:rPr>
              <a:t>¿Dónde cree que podría ir a solicitar una tarjeta de crédito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1352520" indent="-6094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Banc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352520" indent="-6094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Establecimient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352520" indent="-6094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Intern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352520" indent="-6094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Todo lo anteri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457200" y="152100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Usted tiene el derecho de optar por excluirse de recibir ofertas de tarjetas de crédito por correo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Llame al 1-888-5-OPTOUT (567-8688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Visite </a:t>
            </a:r>
            <a:r>
              <a:rPr b="0" lang="en-US" sz="2800" spc="-1" strike="noStrike" u="sng">
                <a:solidFill>
                  <a:srgbClr val="132f5a"/>
                </a:solidFill>
                <a:uFillTx/>
                <a:latin typeface="Helvetica Neue"/>
                <a:ea typeface="Arial"/>
              </a:rPr>
              <a:t>www.optoutprescreen.c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Llame al nº de teléfono en la oferta de crédito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Optar por no compartir información persona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Picture 5" descr="Cell phone"/>
          <p:cNvPicPr/>
          <p:nvPr/>
        </p:nvPicPr>
        <p:blipFill>
          <a:blip r:embed="rId1"/>
          <a:stretch/>
        </p:blipFill>
        <p:spPr>
          <a:xfrm>
            <a:off x="838080" y="4552920"/>
            <a:ext cx="2075040" cy="15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456840" y="99072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12840" indent="-3128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rédito individual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Basado en sus propios activos, ingresos, su habilidad de pagar y su historial crediticio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Usted es responsable de pagar la factura de la tarjeta de crédito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2840" indent="-3128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rédito mancomunado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Basado en los activos, ingresos, la habilidad de pagar y el historial crediticio de las dos personas que lo solicita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Ambos solicitantes son responsables de la factura de la tarjeta de crédito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30592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Crédito individual vs mancomunad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456840" y="11430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40560" indent="-34056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2060"/>
                </a:solidFill>
                <a:latin typeface="Helvetica Neue"/>
                <a:ea typeface="MS PGothic"/>
              </a:rPr>
              <a:t>Los consumidores </a:t>
            </a:r>
            <a:r>
              <a:rPr b="1" lang="es-ES" sz="3200" spc="-1" strike="noStrike" u="sng">
                <a:solidFill>
                  <a:srgbClr val="002060"/>
                </a:solidFill>
                <a:uFillTx/>
                <a:latin typeface="Helvetica Neue"/>
                <a:ea typeface="MS PGothic"/>
              </a:rPr>
              <a:t>menores de 21 años</a:t>
            </a:r>
            <a:r>
              <a:rPr b="1" lang="es-ES" sz="3200" spc="-1" strike="noStrike">
                <a:solidFill>
                  <a:srgbClr val="002060"/>
                </a:solidFill>
                <a:latin typeface="Helvetica Neue"/>
                <a:ea typeface="MS PGothic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MS PGothic"/>
              </a:rPr>
              <a:t>Deben tener un aval, o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MS PGothic"/>
              </a:rPr>
              <a:t>Deben demostrar su habilidad de poder pag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0560" indent="-34056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Helvetica Neue"/>
                <a:ea typeface="MS PGothic"/>
              </a:rPr>
              <a:t>Si usted es un padre o una madre, estén preparados para ser aval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0560" indent="-3405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MS PGothic"/>
              </a:rPr>
              <a:t>Proporcionar información correcta en una solicitud de crédito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MS PGothic"/>
              </a:rPr>
              <a:t>Dar información falsa es un deli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Requisitos para una solicitu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457200" y="9907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6880" indent="-3268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b088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000" spc="-1" strike="noStrike">
                <a:solidFill>
                  <a:srgbClr val="b08830"/>
                </a:solidFill>
                <a:latin typeface="Helvetica Neue"/>
                <a:ea typeface="Arial"/>
              </a:rPr>
              <a:t>Capacidad:</a:t>
            </a:r>
            <a:r>
              <a:rPr b="1" lang="es-ES" sz="3000" spc="-1" strike="noStrike">
                <a:solidFill>
                  <a:srgbClr val="0070c0"/>
                </a:solidFill>
                <a:latin typeface="Helvetica Neue"/>
                <a:ea typeface="Arial"/>
              </a:rPr>
              <a:t> 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us posibilidades presentes y futuras de cumplir con las obligaciones de pag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6880" indent="-3268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b088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000" spc="-1" strike="noStrike">
                <a:solidFill>
                  <a:srgbClr val="b08830"/>
                </a:solidFill>
                <a:latin typeface="Helvetica Neue"/>
                <a:ea typeface="Arial"/>
              </a:rPr>
              <a:t>Capital: 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l valor de sus bienes y capital ne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6880" indent="-3268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b088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000" spc="-1" strike="noStrike">
                <a:solidFill>
                  <a:srgbClr val="b08830"/>
                </a:solidFill>
                <a:latin typeface="Helvetica Neue"/>
                <a:ea typeface="Arial"/>
              </a:rPr>
              <a:t>Reputación: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 cómo han pagado sus cuentas o deudas en el pasad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6880" indent="-3268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b088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b08830"/>
                </a:solidFill>
                <a:latin typeface="Helvetica Neue"/>
                <a:ea typeface="Arial"/>
              </a:rPr>
              <a:t>Garantía: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ropiedad o bienes ofrecidos para garantizar el crédi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6880" indent="-326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Los cuatro factor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456840" y="1219320"/>
            <a:ext cx="85345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6880" indent="-3268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efinir el crédi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6880" indent="-3268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xplicar por qué el crédito es important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6880" indent="-3268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dentificar los factores que tienen en cuenta los acreedores para tomar decisiones en materia de crédit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6880" indent="-3268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escribir el propósito de las tarjetas de crédi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6880" indent="-3268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Objetiv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4" descr="Credit cards"/>
          <p:cNvPicPr/>
          <p:nvPr/>
        </p:nvPicPr>
        <p:blipFill>
          <a:blip r:embed="rId1"/>
          <a:stretch/>
        </p:blipFill>
        <p:spPr>
          <a:xfrm>
            <a:off x="7880400" y="336600"/>
            <a:ext cx="1187280" cy="10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Capacidad</a:t>
            </a: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¿Cuánto tiempo ha estado en su empleo?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¿Cuánto dinero gana por mes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¿Cuáles son sus gastos mensuales?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2" name="Picture 6" descr="Several people reviewing a set of house or building plans"/>
          <p:cNvPicPr/>
          <p:nvPr/>
        </p:nvPicPr>
        <p:blipFill>
          <a:blip r:embed="rId1"/>
          <a:stretch/>
        </p:blipFill>
        <p:spPr>
          <a:xfrm>
            <a:off x="2590920" y="3276720"/>
            <a:ext cx="3305160" cy="21952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Capita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06380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¿Cuánto dinero tiene en su cuenta corriente y cuenta de ahorro?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¿Es propietario de una vivienda?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¿Tiene inversiones u otros bienes (p. ej. un automóvil)?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5" name="Picture 4" descr="Cash"/>
          <p:cNvPicPr/>
          <p:nvPr/>
        </p:nvPicPr>
        <p:blipFill>
          <a:blip r:embed="rId1"/>
          <a:stretch/>
        </p:blipFill>
        <p:spPr>
          <a:xfrm>
            <a:off x="5029200" y="3429000"/>
            <a:ext cx="3048120" cy="17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Reputació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8276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¿Alguna vez ha tenido crédito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¿Cuántas cuentas de crédito tiene?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¿Alguna vez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se declaró en bancarrota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tuvo un juicio por deuda pendiente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una propiedad suya fue embargada o ejecutada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ha hecho pagos atrasado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8" name="Picture 3" descr="Man sitting in front of a pile of bills and final notices with his head in his hands "/>
          <p:cNvPicPr/>
          <p:nvPr/>
        </p:nvPicPr>
        <p:blipFill>
          <a:blip r:embed="rId1"/>
          <a:stretch/>
        </p:blipFill>
        <p:spPr>
          <a:xfrm>
            <a:off x="7391520" y="2743200"/>
            <a:ext cx="152064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482760" y="106380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¿Tiene bienes para garantizar el préstamo más allá de su capacidad de devolverlo?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0" name="Picture 2" descr="Model house"/>
          <p:cNvPicPr/>
          <p:nvPr/>
        </p:nvPicPr>
        <p:blipFill>
          <a:blip r:embed="rId1"/>
          <a:stretch/>
        </p:blipFill>
        <p:spPr>
          <a:xfrm>
            <a:off x="2417760" y="2514600"/>
            <a:ext cx="3879720" cy="21337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Qué buscan los acreedor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6" descr="People in suits reviewing information"/>
          <p:cNvPicPr/>
          <p:nvPr/>
        </p:nvPicPr>
        <p:blipFill>
          <a:blip r:embed="rId1"/>
          <a:stretch/>
        </p:blipFill>
        <p:spPr>
          <a:xfrm>
            <a:off x="257040" y="1295280"/>
            <a:ext cx="8629920" cy="419112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 txBox="1"/>
          <p:nvPr/>
        </p:nvSpPr>
        <p:spPr>
          <a:xfrm>
            <a:off x="3733560" y="1752480"/>
            <a:ext cx="47242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Hemos hablado sobre la información que buscan los acreedores a la hora de decidir si autorizarle una tarjeta de crédito, pero ¿dónde creen que encontrarán esta información</a:t>
            </a:r>
            <a:r>
              <a:rPr b="1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Qué buscan los acreedor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6"/>
          <p:cNvSpPr/>
          <p:nvPr/>
        </p:nvSpPr>
        <p:spPr>
          <a:xfrm>
            <a:off x="1523880" y="4495680"/>
            <a:ext cx="601992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380880" y="106380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30120" indent="-33012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 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u informe crediticio le informa a los acreedores d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Quiíen es us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uánto  dinero deb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Si ha realizado sus pagos a tiemp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Si ha tenido algún cobro de cuentas en mora, bancarrotas, sentencias, etc. contra us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uántas consultas se han realizado de su informe creditici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Informe creditici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304920" y="1417680"/>
            <a:ext cx="6248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30120" indent="-33012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Le presentamos a Cathy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Tiene 25 año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Nunca ha tenido una tarjeta de crédito ni un préstamo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No tiene historial crediticio excepto por una consulta que hizo su casero cuando alquiló su apartamento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0120" indent="-330120">
              <a:lnSpc>
                <a:spcPct val="100000"/>
              </a:lnSpc>
              <a:spcBef>
                <a:spcPts val="2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30120" indent="-33012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¿Cómo decide un acreedor si Cathy es un buen riesgo crediticio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0120" indent="-33012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9" name="Picture 1" descr="C:\Documents and Settings\Karissa\Local Settings\Temporary Internet Files\Content.IE5\6ZO5JZWK\MPj04424310000[1].jpg"/>
          <p:cNvPicPr/>
          <p:nvPr/>
        </p:nvPicPr>
        <p:blipFill>
          <a:blip r:embed="rId1"/>
          <a:stretch/>
        </p:blipFill>
        <p:spPr>
          <a:xfrm>
            <a:off x="6629400" y="1828800"/>
            <a:ext cx="1828800" cy="27432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Caso crediticio: No tener historial no es un misteri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Group 4" descr=""/>
          <p:cNvPicPr/>
          <p:nvPr/>
        </p:nvPicPr>
        <p:blipFill>
          <a:blip r:embed="rId1"/>
          <a:stretch/>
        </p:blipFill>
        <p:spPr>
          <a:xfrm>
            <a:off x="1474920" y="2451240"/>
            <a:ext cx="6205320" cy="1682640"/>
          </a:xfrm>
          <a:prstGeom prst="rect">
            <a:avLst/>
          </a:prstGeom>
          <a:ln w="0">
            <a:noFill/>
          </a:ln>
        </p:spPr>
      </p:pic>
      <p:pic>
        <p:nvPicPr>
          <p:cNvPr id="202" name="Group 13" descr=""/>
          <p:cNvPicPr/>
          <p:nvPr/>
        </p:nvPicPr>
        <p:blipFill>
          <a:blip r:embed="rId2"/>
          <a:stretch/>
        </p:blipFill>
        <p:spPr>
          <a:xfrm>
            <a:off x="1457280" y="1079640"/>
            <a:ext cx="6205680" cy="1682640"/>
          </a:xfrm>
          <a:prstGeom prst="rect">
            <a:avLst/>
          </a:prstGeom>
          <a:ln w="0">
            <a:noFill/>
          </a:ln>
        </p:spPr>
      </p:pic>
      <p:pic>
        <p:nvPicPr>
          <p:cNvPr id="203" name="Group 16" descr=""/>
          <p:cNvPicPr/>
          <p:nvPr/>
        </p:nvPicPr>
        <p:blipFill>
          <a:blip r:embed="rId3"/>
          <a:stretch/>
        </p:blipFill>
        <p:spPr>
          <a:xfrm>
            <a:off x="1457280" y="3786120"/>
            <a:ext cx="6205680" cy="168120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Agencias de informes creditici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Visite </a:t>
            </a:r>
            <a:r>
              <a:rPr b="1" lang="en-US" sz="3000" spc="-1" strike="noStrike" u="sng">
                <a:solidFill>
                  <a:srgbClr val="132f5a"/>
                </a:solidFill>
                <a:uFillTx/>
                <a:latin typeface="Helvetica Neue"/>
                <a:ea typeface="Arial"/>
              </a:rPr>
              <a:t>www.annualcreditreport.c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Llame al 877-322-8228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scriba a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nnual Credit Report Request Servi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. O. Box 105281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tlanta, GA 30348-5281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 algn="ctr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Informe Crediticio Anual Gratuit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Right Arrow 5"/>
          <p:cNvGrpSpPr/>
          <p:nvPr/>
        </p:nvGrpSpPr>
        <p:grpSpPr>
          <a:xfrm>
            <a:off x="974880" y="4151160"/>
            <a:ext cx="6595920" cy="682920"/>
            <a:chOff x="974880" y="4151160"/>
            <a:chExt cx="6595920" cy="682920"/>
          </a:xfrm>
        </p:grpSpPr>
        <p:pic>
          <p:nvPicPr>
            <p:cNvPr id="208" name="Right Arrow 5" descr=""/>
            <p:cNvPicPr/>
            <p:nvPr/>
          </p:nvPicPr>
          <p:blipFill>
            <a:blip r:embed="rId1"/>
            <a:stretch/>
          </p:blipFill>
          <p:spPr>
            <a:xfrm>
              <a:off x="974880" y="4151160"/>
              <a:ext cx="6595920" cy="6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90720" y="4341960"/>
              <a:ext cx="64008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"/>
          <p:cNvSpPr txBox="1"/>
          <p:nvPr/>
        </p:nvSpPr>
        <p:spPr>
          <a:xfrm>
            <a:off x="457200" y="106668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Un número que ayuda a los prestamistas a determinar su riesgo creditici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os tipo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untaje FICO (Fair Isaac Scor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VantageSco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1" name="Rectangle 4" descr=""/>
          <p:cNvPicPr/>
          <p:nvPr/>
        </p:nvPicPr>
        <p:blipFill>
          <a:blip r:embed="rId2"/>
          <a:stretch/>
        </p:blipFill>
        <p:spPr>
          <a:xfrm>
            <a:off x="927000" y="3621240"/>
            <a:ext cx="7083360" cy="828360"/>
          </a:xfrm>
          <a:prstGeom prst="rect">
            <a:avLst/>
          </a:prstGeom>
          <a:ln w="0">
            <a:noFill/>
          </a:ln>
        </p:spPr>
      </p:pic>
      <p:pic>
        <p:nvPicPr>
          <p:cNvPr id="212" name="Rectangle 6" descr=""/>
          <p:cNvPicPr/>
          <p:nvPr/>
        </p:nvPicPr>
        <p:blipFill>
          <a:blip r:embed="rId3"/>
          <a:stretch/>
        </p:blipFill>
        <p:spPr>
          <a:xfrm>
            <a:off x="1689120" y="4462560"/>
            <a:ext cx="6321240" cy="82872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Puntaje creditici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456840" y="1142640"/>
            <a:ext cx="8534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eterminar si está preparado para solicitar una tarjeta de crédi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eterminar qué tarjeta de crédito es la más adecuada para uste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escribir cómo utilizar una tarjeta de crédito de manera responsab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dentificar los pasos a seguir si pierdo o me roban una tarjeta de crédi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Objetiv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4" descr="Credit cards"/>
          <p:cNvPicPr/>
          <p:nvPr/>
        </p:nvPicPr>
        <p:blipFill>
          <a:blip r:embed="rId1"/>
          <a:stretch/>
        </p:blipFill>
        <p:spPr>
          <a:xfrm>
            <a:off x="7880400" y="336600"/>
            <a:ext cx="1187280" cy="10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6868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1961c"/>
                </a:solidFill>
                <a:latin typeface="Helvetica Neue"/>
                <a:ea typeface="Arial"/>
              </a:rPr>
              <a:t>Si su solicitud para crédito es denegad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6840" y="11430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30120" indent="-33012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Un aviso de denegación o aviso de acción adversa, indica los motivos por los que un crédito es denegado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0120" indent="-33012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Las compañías de tarjetas de crédito deben darle los motivos por los que se le denegó un crédito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0120" indent="-33012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Póngase en contacto con la agencia crediticia en el plazo de 60 días de recibir la denegación para recibir una copia gratuita de su informe crediticio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0120" indent="-33012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Dispute cualquier información incorrecta en su informe crediticio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1961c"/>
                </a:solidFill>
                <a:latin typeface="Helvetica Neue"/>
                <a:ea typeface="Arial"/>
              </a:rPr>
              <a:t>Información en el resumen de la tarjeta de crédito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647640" y="1479600"/>
            <a:ext cx="8267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Resumen de la cuen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Información de pag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003320" indent="-3794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www.federalreserve.gov/creditcardcalculator/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Resumen de asesoría creditic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viso de cambios de tasas de interé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Transacciones o actividad de la cuen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álculo de cargos de interé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8" name="Picture 4" descr="Statement and envelope"/>
          <p:cNvPicPr/>
          <p:nvPr/>
        </p:nvPicPr>
        <p:blipFill>
          <a:blip r:embed="rId1"/>
          <a:stretch/>
        </p:blipFill>
        <p:spPr>
          <a:xfrm>
            <a:off x="6880320" y="1066680"/>
            <a:ext cx="177804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152280" y="1295280"/>
            <a:ext cx="5486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993240" indent="-60336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Guarde sus recibos de la tarjeta de crédito para compararlos con sus resúmenes mensua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3240" indent="-60336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Revise su resumen mensual para detectar cualquier err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3240" indent="-60336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Informe de errores lo antes po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100000"/>
              </a:lnSpc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0" name="Picture 4" descr="Collection of bills and receipts beside a calculator and desktop calendar"/>
          <p:cNvPicPr/>
          <p:nvPr/>
        </p:nvPicPr>
        <p:blipFill>
          <a:blip r:embed="rId1"/>
          <a:stretch/>
        </p:blipFill>
        <p:spPr>
          <a:xfrm>
            <a:off x="5867280" y="1219320"/>
            <a:ext cx="2610000" cy="36576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384120"/>
            <a:ext cx="838188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Mantenga un buen registro de cuent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Pago mínim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69800" y="990720"/>
            <a:ext cx="8521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¿Cuál de los siguientes es un buen motivo para pagar más del mínimo que debe en su factura de su tarjeta de crédito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71280" indent="-54900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Se reflejaría como algo positivo en su historial creditici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71280" indent="-54900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Podría volver a gastarlo, en montos más elevado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71280" indent="-54900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La compañía de la tarjeta de crédito aumentaría su límite más rápidamen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71280" indent="-54900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Pagaría el saldo con más rapidez y se ahorraría dinero en interes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4" name=""/>
          <p:cNvGraphicFramePr/>
          <p:nvPr/>
        </p:nvGraphicFramePr>
        <p:xfrm>
          <a:off x="609480" y="1143000"/>
          <a:ext cx="7925040" cy="3618000"/>
        </p:xfrm>
        <a:graphic>
          <a:graphicData uri="http://schemas.openxmlformats.org/drawingml/2006/table">
            <a:tbl>
              <a:tblPr/>
              <a:tblGrid>
                <a:gridCol w="1524240"/>
                <a:gridCol w="1197000"/>
                <a:gridCol w="1012680"/>
                <a:gridCol w="1295280"/>
                <a:gridCol w="1295640"/>
                <a:gridCol w="1600200"/>
              </a:tblGrid>
              <a:tr h="1371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rtículo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reci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P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nteréspagad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Total pagad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Total de años para amortiz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01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1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6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9147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uta-dor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1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8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1,8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299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biliari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2,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5,3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7,8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Costo del pago mínim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Beneficios de pagar más que el pago mínim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380880" y="1600200"/>
          <a:ext cx="8458200" cy="3521160"/>
        </p:xfrm>
        <a:graphic>
          <a:graphicData uri="http://schemas.openxmlformats.org/drawingml/2006/table">
            <a:tbl>
              <a:tblPr/>
              <a:tblGrid>
                <a:gridCol w="1422360"/>
                <a:gridCol w="884520"/>
                <a:gridCol w="1655640"/>
                <a:gridCol w="1504800"/>
                <a:gridCol w="1489320"/>
                <a:gridCol w="1501560"/>
              </a:tblGrid>
              <a:tr h="12553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aldo origin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gos mensuales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 de años para amortiz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terés pagad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 de pagos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976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,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go mínimo (PM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5,3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7,8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8017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,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M + $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,0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,5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664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,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M + $4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75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,25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Actividad 1: Houston, puede que tengamos un problem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6840" y="987480"/>
            <a:ext cx="838188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33720" indent="-33372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3720" indent="-3337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alice la Actividad 1 en la Guía para los Participantes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755360" indent="-49356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Lea cada situación plantead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755360" indent="-49356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Determine si cada persona está usando su tarjeta de manera responsabl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755360" indent="-49356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Describa lo que podría pasar si cada persona sigue usando su tarjeta de crédito como se describ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3720" indent="-33372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0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Si pierde o le roban la tarjeta de crédito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80520" y="1599840"/>
            <a:ext cx="487692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 algn="ctr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¡Notifique a la compañía de la tarjeta de crédito inmediatamente!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3" name="Picture 9" descr="Woman on her cell phone"/>
          <p:cNvPicPr/>
          <p:nvPr/>
        </p:nvPicPr>
        <p:blipFill>
          <a:blip r:embed="rId1"/>
          <a:stretch/>
        </p:blipFill>
        <p:spPr>
          <a:xfrm>
            <a:off x="5715000" y="1447920"/>
            <a:ext cx="2286000" cy="31240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Resum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0666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333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¿Qué preguntas adicionales tienen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333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333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¿Qué han aprendido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333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333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¿Cómo evaluarían el curso de capacitación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6" name="Picture 7" descr="Clipboard and pencil"/>
          <p:cNvPicPr/>
          <p:nvPr/>
        </p:nvPicPr>
        <p:blipFill>
          <a:blip r:embed="rId1"/>
          <a:srcRect l="0" t="22003" r="0" b="0"/>
          <a:stretch/>
        </p:blipFill>
        <p:spPr>
          <a:xfrm>
            <a:off x="6705720" y="4038480"/>
            <a:ext cx="2063520" cy="16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482760" y="1142640"/>
            <a:ext cx="84326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prendieron acerca d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566640" indent="-34596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Las caracter?icas de las tarjetas de crédit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66640" indent="-34596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Otras tarjetas parecidas a las tarjetas de crédit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66640" indent="-34596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Los diferentes tipos de tarjetas de crédit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66640" indent="-34596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Cómo encontrar los mejores término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66640" indent="-34596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Cómo solicitar una tarjeta de crédit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66640" indent="-34596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Cómo utilizar una tarjeta de crédito de manera responsabl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66640" indent="-34596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Cómo pagar la factura de su tarjeta de crédit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Conclusió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¿Qué sabe usted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2819160" y="990360"/>
            <a:ext cx="6172200" cy="426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¿Qué saben o quieren aprender sobre las tarjetas de crédito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13" descr="Figure scratching his head and a question mark by his head"/>
          <p:cNvPicPr/>
          <p:nvPr/>
        </p:nvPicPr>
        <p:blipFill>
          <a:blip r:embed="rId1"/>
          <a:stretch/>
        </p:blipFill>
        <p:spPr>
          <a:xfrm>
            <a:off x="762120" y="1219320"/>
            <a:ext cx="185724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¿Qué es el crédito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82760" y="990720"/>
            <a:ext cx="8508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i le pregunta a un profesional financiero qué es el crédito, ¿cuál de estas respuestas elegiría?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1257840" indent="-5666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Dinero que se le entrega que no tiene que devolv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257840" indent="-5666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Dinero que toma prestado para pagar cosas pero que también debe devolv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257840" indent="-5666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Reconocimiento por un trabajo bien hech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257840" indent="-5666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Los t?ítulos que aparecen al final de una películ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482760" y="106380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7320" indent="-3373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c196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1961c"/>
                </a:solidFill>
                <a:latin typeface="Helvetica Neue"/>
                <a:ea typeface="Arial"/>
              </a:rPr>
              <a:t>Crédito: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La habilidad de tomar dinero prestado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7320" indent="-3373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c196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1961c"/>
                </a:solidFill>
                <a:latin typeface="Helvetica Neue"/>
                <a:ea typeface="Arial"/>
              </a:rPr>
              <a:t>Préstamo: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l acuerdo de tomar dinero prestado a crédi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337320" indent="-3373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c196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1961c"/>
                </a:solidFill>
                <a:latin typeface="Helvetica Neue"/>
                <a:ea typeface="Arial"/>
              </a:rPr>
              <a:t>Garantía o aval: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</a:t>
            </a: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guridad, o bien, que promete al prestamista en caso de que no puedan devolver el préstam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7320" indent="-3373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c196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1961c"/>
                </a:solidFill>
                <a:latin typeface="Helvetica Neue"/>
                <a:ea typeface="Arial"/>
              </a:rPr>
              <a:t>Interés: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l costo de tomar dinero prestad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7320" indent="-33732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Definir el crédit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3" descr="Credit card with a padlock attached to it"/>
          <p:cNvPicPr/>
          <p:nvPr/>
        </p:nvPicPr>
        <p:blipFill>
          <a:blip r:embed="rId1"/>
          <a:stretch/>
        </p:blipFill>
        <p:spPr>
          <a:xfrm>
            <a:off x="7315200" y="22860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La importancia del crédit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6840" y="990720"/>
            <a:ext cx="838188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67280" indent="-467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¿Por qué creen que es importante el crédito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67280" indent="-4672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l crédito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35200" indent="-46728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Puede ser útil en situaciones de emergenci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835200" indent="-46728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Es más conveniente y seguro que llevar encima grandes cantidades de diner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835200" indent="-46728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Les permite hacer una compra grande, como la de un automóvil o una vivienda, y pagar por ella durante un largo tiemp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835200" indent="-46728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Puede afectar su posibilidad de obtener un trabajo, comprar o alquilar una casa, u obtener un segur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67280" indent="-4672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9800" y="1219320"/>
            <a:ext cx="654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7320" indent="-33732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Tener buen crédito significa qu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agan a tiempo el dinero que deb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Será más fácil tomar dinero prestado en el futur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7320" indent="-33732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i tienen problemas para usar el crédito de manera responsable, será más difícil para ustedes pedir dinero prestado en el futuro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3" descr="Credit card in a person's hand"/>
          <p:cNvPicPr/>
          <p:nvPr/>
        </p:nvPicPr>
        <p:blipFill>
          <a:blip r:embed="rId1"/>
          <a:stretch/>
        </p:blipFill>
        <p:spPr>
          <a:xfrm>
            <a:off x="7110360" y="1600200"/>
            <a:ext cx="1728720" cy="25909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El buen crédit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3T14:24:57Z</dcterms:created>
  <dc:creator/>
  <dc:description/>
  <dc:language>en-US</dc:language>
  <cp:lastModifiedBy> </cp:lastModifiedBy>
  <dcterms:modified xsi:type="dcterms:W3CDTF">2011-02-14T18:05:31Z</dcterms:modified>
  <cp:revision>22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F39A119390EE2E43A4E19FA973347658</vt:lpwstr>
  </property>
</Properties>
</file>