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5.wmf" ContentType="image/x-wmf"/>
  <Override PartName="/ppt/media/image22.jpeg" ContentType="image/jpeg"/>
  <Override PartName="/ppt/media/image39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38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8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7B62-BC64-4BA2-BA45-949A7E41A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7BBD-64A4-4246-AF6B-2E00E1F90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1A83-9B78-4FD5-9FB5-F0A760D49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6BF8-1E80-4A6E-B2C1-ED5A8CC82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8F85-B833-4111-99A4-D6307012E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A633-A5FE-4C8F-B74E-42FEE46FA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D341-E6D2-432C-A088-3B9558EC6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41A-D527-423D-A77B-9861D00E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005-5C87-438D-B2DA-E67EE954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89E-BB07-4AC6-AD35-8AC4C0DB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EA9-CC90-4F88-AAA1-F8A4A827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16A-6F35-4AAA-9642-7C36613C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0E1-F59B-4D80-AB0B-2EE1BEE6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23C-08C0-456B-985A-9922EADF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1600-E66E-4B3C-A23A-166E5E9A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381-85C1-4A74-A726-D1CF757E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499-6D2F-4835-AAC1-934DF258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F7A-1BD8-4B0F-A56E-EF312ACD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574-D73B-417D-96C6-BAB487A0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9C42-2958-4A16-916C-4B105B419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harge It 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2637-3E13-4241-9226-484F4F92BB20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federalreserve.gov/creditcardcalculator/" TargetMode="External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harge It Right title slide with FDIC Money Smart logo and module logo of credit 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76320" y="838080"/>
            <a:ext cx="44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harg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28600" y="218124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Righ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eve and Maria need another car. They have some money to put down on a new car, but they still need to borrow about $10,000 to purchase 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6858000" y="129528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se: Buying a C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57200" y="396252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they do not (or cannot) pay back the loan, what might the lender do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a revolving line of credit wit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ed dollar lim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inimum monthly pa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.g., $15 for a $600 bal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harge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you to pay the entire balance every mon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ebit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tied to a checking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6" descr="Credit card"/>
          <p:cNvPicPr/>
          <p:nvPr/>
        </p:nvPicPr>
        <p:blipFill>
          <a:blip r:embed="rId1"/>
          <a:stretch/>
        </p:blipFill>
        <p:spPr>
          <a:xfrm>
            <a:off x="6705720" y="1905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Is a Credit Ca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C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536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ored value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d and unsecured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ld and platinum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ward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ed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5029200" y="977760"/>
            <a:ext cx="3962520" cy="5181840"/>
          </a:xfrm>
          <a:prstGeom prst="rect">
            <a:avLst/>
          </a:prstGeom>
          <a:solidFill>
            <a:srgbClr val="252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 disclosures before you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at fees/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derstand your consumer prot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ke precautions to protect yourself from fraud or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d by federal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st highlight rates, fees, other key te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mple interest rate section of disclosu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uth in Lending Disclosure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Sample truth in lending disclosure statement showing the APR for purchases, balance transfers, cash advances, and the Penalty APR and when it applies"/>
          <p:cNvPicPr/>
          <p:nvPr/>
        </p:nvPicPr>
        <p:blipFill>
          <a:blip r:embed="rId1"/>
          <a:stretch/>
        </p:blipFill>
        <p:spPr>
          <a:xfrm>
            <a:off x="762120" y="2590920"/>
            <a:ext cx="7915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shopping for credit cards, compa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percentage rates (APR)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urc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transf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ash adv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enalty APR, and when it app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ees, such as any annual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race period, if there is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computation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Weight with a percentage symbol"/>
          <p:cNvPicPr/>
          <p:nvPr/>
        </p:nvPicPr>
        <p:blipFill>
          <a:blip r:embed="rId1"/>
          <a:stretch/>
        </p:blipFill>
        <p:spPr>
          <a:xfrm>
            <a:off x="6622920" y="2057400"/>
            <a:ext cx="1757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nual Percentage Rate (AP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APR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st of borrowing money on a yearly basis (interest + fe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ok for a low A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annual fees and other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how long the introductory rates will last and whether the new rate will be fixed or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redit card icon with percentage symbol"/>
          <p:cNvPicPr/>
          <p:nvPr/>
        </p:nvPicPr>
        <p:blipFill>
          <a:blip r:embed="rId1"/>
          <a:stretch/>
        </p:blipFill>
        <p:spPr>
          <a:xfrm>
            <a:off x="3657600" y="4267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Increase on </a:t>
            </a:r>
            <a:r>
              <a:rPr b="1" lang="en-U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Existing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Bala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1904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PR on money you owe for charges you made in the past (existing balance) generally cannot be increased unles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are told about the increase when you open the account and the initial rate lasts at least 6 month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here is a change in an index-based 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don’t satisfy a “workout arrangement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do not make the required minimum payment within 60 days of due d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Increase on </a:t>
            </a:r>
            <a:r>
              <a:rPr b="1" lang="en-U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New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Trans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PR that applies to new transactions generally cannot increase for a year from the date the card was issue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cept if you have a variable rate card and the index increases or promotional rate ex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or must notify you 45 days in adv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 cancel the card before the changes take eff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enalty AP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enalty AP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a permanent rate increase if you do not pay your credit card bill on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be double the regular A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ok for details in Truth in Lending disclos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Three stacks of money that increase in height and an arrow indicating the increase"/>
          <p:cNvPicPr/>
          <p:nvPr/>
        </p:nvPicPr>
        <p:blipFill>
          <a:blip r:embed="rId1"/>
          <a:stretch/>
        </p:blipFill>
        <p:spPr>
          <a:xfrm>
            <a:off x="3505320" y="4038480"/>
            <a:ext cx="1935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t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ver-the-limit fe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transfer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sh advanc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-limit increase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reign transaction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Dollar sign"/>
          <p:cNvPicPr/>
          <p:nvPr/>
        </p:nvPicPr>
        <p:blipFill>
          <a:blip r:embed="rId1"/>
          <a:stretch/>
        </p:blipFill>
        <p:spPr>
          <a:xfrm>
            <a:off x="5410080" y="1371600"/>
            <a:ext cx="2202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191120" y="18288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9536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oid finance charges by paying your balance in full, or making the minimum payment, on or before the due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race Peri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2" descr="Calendar"/>
          <p:cNvPicPr/>
          <p:nvPr/>
        </p:nvPicPr>
        <p:blipFill>
          <a:blip r:embed="rId1"/>
          <a:stretch/>
        </p:blipFill>
        <p:spPr>
          <a:xfrm>
            <a:off x="3200400" y="2743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Rounded Rectangle 9"/>
          <p:cNvGrpSpPr/>
          <p:nvPr/>
        </p:nvGrpSpPr>
        <p:grpSpPr>
          <a:xfrm>
            <a:off x="1335240" y="3846600"/>
            <a:ext cx="6619680" cy="1444680"/>
            <a:chOff x="1335240" y="3846600"/>
            <a:chExt cx="6619680" cy="1444680"/>
          </a:xfrm>
        </p:grpSpPr>
        <p:pic>
          <p:nvPicPr>
            <p:cNvPr id="150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1335240" y="3846600"/>
              <a:ext cx="6619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438200" y="3952800"/>
              <a:ext cx="64198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38088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age Daily Balance is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mon method us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x APR x Days in Billing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ays in Calendar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200 x 0.10 x 30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365   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5"/>
          <p:cNvSpPr/>
          <p:nvPr/>
        </p:nvSpPr>
        <p:spPr>
          <a:xfrm>
            <a:off x="2286000" y="4572000"/>
            <a:ext cx="320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867280" y="430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1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7"/>
          <p:cNvSpPr/>
          <p:nvPr/>
        </p:nvSpPr>
        <p:spPr>
          <a:xfrm>
            <a:off x="1295280" y="3124080"/>
            <a:ext cx="6477120" cy="1800"/>
          </a:xfrm>
          <a:prstGeom prst="line">
            <a:avLst/>
          </a:prstGeom>
          <a:ln w="38160">
            <a:solidFill>
              <a:srgbClr val="132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alance Computation Meth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stomer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atures via telephone and Internet may allow you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cess account information, such as balance and recent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bills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pdate personal information such as your add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ustomer service agent speaking into headset"/>
          <p:cNvPicPr/>
          <p:nvPr/>
        </p:nvPicPr>
        <p:blipFill>
          <a:blip r:embed="rId1"/>
          <a:stretch/>
        </p:blipFill>
        <p:spPr>
          <a:xfrm>
            <a:off x="3429000" y="4191120"/>
            <a:ext cx="242712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Key I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e aware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ws that protect you against billing mistakes and unauthorized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dditional protections that credit card companies may provide (e.g., an extended warranty period on certain purcha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time to fully understand the costs, benefits, and true coverage of “credit protection” or “debt suspension” pro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maximum amount of credit the credit card company grants you based on factors, such as you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Rectangle 3" descr=""/>
          <p:cNvPicPr/>
          <p:nvPr/>
        </p:nvPicPr>
        <p:blipFill>
          <a:blip r:embed="rId1"/>
          <a:stretch/>
        </p:blipFill>
        <p:spPr>
          <a:xfrm>
            <a:off x="811080" y="2266920"/>
            <a:ext cx="5742000" cy="109872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4" descr=""/>
          <p:cNvPicPr/>
          <p:nvPr/>
        </p:nvPicPr>
        <p:blipFill>
          <a:blip r:embed="rId2"/>
          <a:stretch/>
        </p:blipFill>
        <p:spPr>
          <a:xfrm>
            <a:off x="2030400" y="3103560"/>
            <a:ext cx="5907240" cy="1103400"/>
          </a:xfrm>
          <a:prstGeom prst="rect">
            <a:avLst/>
          </a:prstGeom>
          <a:ln w="0">
            <a:noFill/>
          </a:ln>
        </p:spPr>
      </p:pic>
      <p:pic>
        <p:nvPicPr>
          <p:cNvPr id="165" name="Rectangle 5" descr=""/>
          <p:cNvPicPr/>
          <p:nvPr/>
        </p:nvPicPr>
        <p:blipFill>
          <a:blip r:embed="rId3"/>
          <a:stretch/>
        </p:blipFill>
        <p:spPr>
          <a:xfrm>
            <a:off x="3170160" y="3943440"/>
            <a:ext cx="3157560" cy="1098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Lim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re to Apply for a Credit Ca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  <a:ea typeface="Arial"/>
              </a:rPr>
              <a:t>Where do you think you would go to apply for a credit car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t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the right to “opt out” of receiving mailed credit card off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the phone number on the offers of cred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ell phone"/>
          <p:cNvPicPr/>
          <p:nvPr/>
        </p:nvPicPr>
        <p:blipFill>
          <a:blip r:embed="rId2"/>
          <a:stretch/>
        </p:blipFill>
        <p:spPr>
          <a:xfrm>
            <a:off x="533520" y="4038480"/>
            <a:ext cx="23796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990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dividual credi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your own assets, income, ability to pay, and credit histo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are responsible for paying the credit card b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Joint credi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the assets, income, ability to pay, and credit history of both people who ap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th applicants are responsible for the credit card b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vs. Joint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11430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Consumers </a:t>
            </a:r>
            <a:r>
              <a:rPr b="1" lang="en-US" sz="3200" spc="-1" strike="noStrike" u="sng">
                <a:solidFill>
                  <a:srgbClr val="002060"/>
                </a:solidFill>
                <a:uFillTx/>
                <a:latin typeface="Helvetica Neue"/>
                <a:ea typeface="MS PGothic"/>
              </a:rPr>
              <a:t>under age 21</a:t>
            </a: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 mus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Have a co-signer,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Prove the ability to make the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If you are a parent, be prepared for a request to co-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MS PGothic"/>
              </a:rPr>
              <a:t>Provide accurate information on a credit applic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MS PGothic"/>
              </a:rPr>
              <a:t>Giving false information is a cr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plication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acity:</a:t>
            </a:r>
            <a:r>
              <a:rPr b="1" lang="en-US" sz="3000" spc="-1" strike="noStrike">
                <a:solidFill>
                  <a:srgbClr val="0070c0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present and future ability to meet your payment oblig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the value of your assets and your net wo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haracter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how you have paid bills or debts in the pa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ollater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property or assets offered to secure the lo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he Four 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6840" y="1219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fine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lain why credit is import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factors creditors look for when making credit deci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purpose of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acity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have you been in your job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make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are your monthly expenses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6" descr="Several people reviewing a set of house or building plans"/>
          <p:cNvPicPr/>
          <p:nvPr/>
        </p:nvPicPr>
        <p:blipFill>
          <a:blip r:embed="rId1"/>
          <a:stretch/>
        </p:blipFill>
        <p:spPr>
          <a:xfrm>
            <a:off x="2590920" y="3276720"/>
            <a:ext cx="3305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have in your checking and savings accounts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own a hous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 investments or other assets (e.g., a car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Cash"/>
          <p:cNvPicPr/>
          <p:nvPr/>
        </p:nvPicPr>
        <p:blipFill>
          <a:blip r:embed="rId1"/>
          <a:stretch/>
        </p:blipFill>
        <p:spPr>
          <a:xfrm>
            <a:off x="5029200" y="3429000"/>
            <a:ext cx="3048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harac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82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e you had credit in the past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any credit accounts do you hav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e you ev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d for bankruptc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d any outstanding judg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d property repossessed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reclosed up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de late pay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Man sitting in front of a pile of bills and final notices with his head in his hands "/>
          <p:cNvPicPr/>
          <p:nvPr/>
        </p:nvPicPr>
        <p:blipFill>
          <a:blip r:embed="rId1"/>
          <a:stretch/>
        </p:blipFill>
        <p:spPr>
          <a:xfrm>
            <a:off x="6705720" y="2514600"/>
            <a:ext cx="18763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 assets to secure the loan beyond your capacity to pay it off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Model house"/>
          <p:cNvPicPr/>
          <p:nvPr/>
        </p:nvPicPr>
        <p:blipFill>
          <a:blip r:embed="rId1"/>
          <a:stretch/>
        </p:blipFill>
        <p:spPr>
          <a:xfrm>
            <a:off x="2417760" y="2514600"/>
            <a:ext cx="38797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llat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People in suits reviewing information"/>
          <p:cNvPicPr/>
          <p:nvPr/>
        </p:nvPicPr>
        <p:blipFill>
          <a:blip r:embed="rId1"/>
          <a:stretch/>
        </p:blipFill>
        <p:spPr>
          <a:xfrm>
            <a:off x="257040" y="1295280"/>
            <a:ext cx="8629920" cy="4191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3733560" y="17524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e have discussed what information creditors look for in order to decide whether to give you a credit card, but where do you think they might find this inform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Creditors Look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1523880" y="4495680"/>
            <a:ext cx="6019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088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credit report tells credito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o you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you 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ther you have made payments o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ther you have any collection actions, bankruptcies, judgments, etc. against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many credit report inquiries have been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69440" y="156996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et Cathy. S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s 2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s never had a credit card or a lo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s no credit history except for an inquiry by her landlord when she rented her apartment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2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will a creditor decide if Cathy is good credit ris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" descr="C:\Documents and Settings\Karissa\Local Settings\Temporary Internet Files\Content.IE5\6ZO5JZWK\MPj04424310000[1].jpg"/>
          <p:cNvPicPr/>
          <p:nvPr/>
        </p:nvPicPr>
        <p:blipFill>
          <a:blip r:embed="rId1"/>
          <a:stretch/>
        </p:blipFill>
        <p:spPr>
          <a:xfrm>
            <a:off x="6375240" y="1828800"/>
            <a:ext cx="20829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se: No History Is No Mys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Group 4" descr=""/>
          <p:cNvPicPr/>
          <p:nvPr/>
        </p:nvPicPr>
        <p:blipFill>
          <a:blip r:embed="rId1"/>
          <a:stretch/>
        </p:blipFill>
        <p:spPr>
          <a:xfrm>
            <a:off x="1474920" y="2451240"/>
            <a:ext cx="6205320" cy="168264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3" descr=""/>
          <p:cNvPicPr/>
          <p:nvPr/>
        </p:nvPicPr>
        <p:blipFill>
          <a:blip r:embed="rId2"/>
          <a:stretch/>
        </p:blipFill>
        <p:spPr>
          <a:xfrm>
            <a:off x="1457280" y="1079640"/>
            <a:ext cx="6205680" cy="168264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6" descr=""/>
          <p:cNvPicPr/>
          <p:nvPr/>
        </p:nvPicPr>
        <p:blipFill>
          <a:blip r:embed="rId3"/>
          <a:stretch/>
        </p:blipFill>
        <p:spPr>
          <a:xfrm>
            <a:off x="1457280" y="3786120"/>
            <a:ext cx="6205680" cy="16812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Reporting Agenc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annualcreditreport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l: 877-322-82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i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Credit Report Request 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. O. Box 10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lanta, GA 30348-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ree Annual 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Right Arrow 5"/>
          <p:cNvGrpSpPr/>
          <p:nvPr/>
        </p:nvGrpSpPr>
        <p:grpSpPr>
          <a:xfrm>
            <a:off x="974880" y="4151160"/>
            <a:ext cx="6595920" cy="682920"/>
            <a:chOff x="974880" y="4151160"/>
            <a:chExt cx="6595920" cy="682920"/>
          </a:xfrm>
        </p:grpSpPr>
        <p:pic>
          <p:nvPicPr>
            <p:cNvPr id="206" name="Right Arrow 5" descr=""/>
            <p:cNvPicPr/>
            <p:nvPr/>
          </p:nvPicPr>
          <p:blipFill>
            <a:blip r:embed="rId1"/>
            <a:stretch/>
          </p:blipFill>
          <p:spPr>
            <a:xfrm>
              <a:off x="974880" y="4151160"/>
              <a:ext cx="659592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990720" y="4341960"/>
              <a:ext cx="6400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number that helps lenders determine your credit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wo 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Fair Isaac (FICO)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Rectangle 4" descr=""/>
          <p:cNvPicPr/>
          <p:nvPr/>
        </p:nvPicPr>
        <p:blipFill>
          <a:blip r:embed="rId2"/>
          <a:stretch/>
        </p:blipFill>
        <p:spPr>
          <a:xfrm>
            <a:off x="927000" y="3621240"/>
            <a:ext cx="7083360" cy="82836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6" descr=""/>
          <p:cNvPicPr/>
          <p:nvPr/>
        </p:nvPicPr>
        <p:blipFill>
          <a:blip r:embed="rId3"/>
          <a:stretch/>
        </p:blipFill>
        <p:spPr>
          <a:xfrm>
            <a:off x="1689120" y="4462560"/>
            <a:ext cx="6321240" cy="828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Sc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11426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if you are ready to apply for a cred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credit card is best suited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how to use a credit card responsib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steps to take when a credit card is lost or stol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f Your Credit Request Is Deni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denial notice, or adverse action notice, lists reasons for credit deni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card companies must give you reasons why your credit was deni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the credit bureau within 60 days of receiving the denial for a free copy of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pute any inaccuracy in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Statement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95360" y="1189080"/>
            <a:ext cx="826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ount Summ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yment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3080" indent="-367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ederalreserve.gov/creditcardcalculator/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Counseling Stat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ice of Interest Rate Chan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ransactions or Account Activ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Charge Calcu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Statement and envelope"/>
          <p:cNvPicPr/>
          <p:nvPr/>
        </p:nvPicPr>
        <p:blipFill>
          <a:blip r:embed="rId2"/>
          <a:stretch/>
        </p:blipFill>
        <p:spPr>
          <a:xfrm>
            <a:off x="6880320" y="1066680"/>
            <a:ext cx="1778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2400" y="129528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Keep your credit card receipts to compare with monthly statements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eck your monthly statement for mist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mistakes right a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4" descr="Collection of bills and receipts beside a calculator and desktop calendar"/>
          <p:cNvPicPr/>
          <p:nvPr/>
        </p:nvPicPr>
        <p:blipFill>
          <a:blip r:embed="rId1"/>
          <a:stretch/>
        </p:blipFill>
        <p:spPr>
          <a:xfrm>
            <a:off x="5867280" y="1219320"/>
            <a:ext cx="2610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Good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98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ich of the following is a good reason to pay more than the minimum payment due on your credit card bil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t will look good on your credit his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will be able to spend it again, in higher amou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he credit card company will increase your limit fas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 pay if off quicker and save on interest char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609480" y="1143000"/>
          <a:ext cx="7925040" cy="3962520"/>
        </p:xfrm>
        <a:graphic>
          <a:graphicData uri="http://schemas.openxmlformats.org/drawingml/2006/table">
            <a:tbl>
              <a:tblPr/>
              <a:tblGrid>
                <a:gridCol w="1600200"/>
                <a:gridCol w="1121040"/>
                <a:gridCol w="1241280"/>
                <a:gridCol w="1320840"/>
                <a:gridCol w="1320840"/>
                <a:gridCol w="1320840"/>
              </a:tblGrid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est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Years to Pay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0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rni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st of 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nefits of Exceeding the 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600200"/>
          <a:ext cx="8458200" cy="3521160"/>
        </p:xfrm>
        <a:graphic>
          <a:graphicData uri="http://schemas.openxmlformats.org/drawingml/2006/table">
            <a:tbl>
              <a:tblPr/>
              <a:tblGrid>
                <a:gridCol w="1422360"/>
                <a:gridCol w="884520"/>
                <a:gridCol w="1655640"/>
                <a:gridCol w="1504800"/>
                <a:gridCol w="1489320"/>
                <a:gridCol w="1501560"/>
              </a:tblGrid>
              <a:tr h="12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iginal 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nthly Paym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Years to Pay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est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of Paym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mum Payment (M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 + $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 + 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Houston, We Might Have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ether the people are using their cards responsib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what could happen if each person continues to use their credit card as descri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f Your Credit Card is Lost or Stole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520" y="1599840"/>
            <a:ext cx="4876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ify your credit card company immediatel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9" descr="Woman on her cell phone"/>
          <p:cNvPicPr/>
          <p:nvPr/>
        </p:nvPicPr>
        <p:blipFill>
          <a:blip r:embed="rId1"/>
          <a:stretch/>
        </p:blipFill>
        <p:spPr>
          <a:xfrm>
            <a:off x="5715000" y="1447920"/>
            <a:ext cx="2286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276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characteristics of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ards that are similar to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different types of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shop for the best credit card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apply for a credit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a credit card responsib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pay your credit card b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credit car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Is Credi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276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sk a financial professional what “credit” is, which of these would this person choose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ey given to you that you do not have to pay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ey you borrow to pay for things but must also pay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tion for a job well-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ng, scrolling text at the end of a mov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edit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bility to borrow mone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oan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reement to borrow money on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ollateral or Guarante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curity, or asset, you pledge to the lender in case you cannot repay the 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st of borrowing mone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Defin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Credit card with a padlock attached to it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mportance of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87440" indent="-48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y do you think credit is import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 be useful in times of emer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more convenient and safer than carrying large amounts of 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you to make a large purchase, such as a car or house, and pay for it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 affect your ability to obtain a job, buy or rent a house, or obtain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9440" y="1219320"/>
            <a:ext cx="579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2400" indent="-3024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ing good credit mea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ke your loan payments on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t will be easier to borrow money in the fu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have problems using credit responsibly, it will be harder to borrow money in the fu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Credit card in a person's hand"/>
          <p:cNvPicPr/>
          <p:nvPr/>
        </p:nvPicPr>
        <p:blipFill>
          <a:blip r:embed="rId1"/>
          <a:stretch/>
        </p:blipFill>
        <p:spPr>
          <a:xfrm>
            <a:off x="6477120" y="1600200"/>
            <a:ext cx="182880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ood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37:42Z</dcterms:modified>
  <cp:revision>2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