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B9C-6E7A-465D-B5CE-8C980F2FC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76F5-8FFC-464F-B144-496D11AB4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64CA-95A0-4D4E-AFA5-4F2C89AF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1AD-B434-4580-9E5F-0DFF9E31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1EF2-4D2F-49F3-857D-52F7FD44A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9D0C-858F-418F-A8BE-63806643F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12AA-5C3C-412D-B1F3-C2DDF085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91B-FC85-4A58-9695-5DA4A0E3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54A-0FFF-4A25-B3AD-F70E326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B36-6548-4CDD-BCAC-A4E82668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3CD-4815-4EC3-B745-DE10961D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E9D-B506-4EAA-846B-1EA47B58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3B7-27A2-4AA4-8428-9E1203B6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674-DB11-49EF-BE9A-CC217D2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CB7-8CDF-4BFA-96C6-F93D39AA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3174-6081-470C-9A17-6643880C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B64-595E-4731-B03D-6A9D6B11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0FE-7EAB-464D-9636-6BCAF1D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3BB-5589-485A-AFAC-2CAD5EFF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43C0-6058-4025-9AF0-BB23370D7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harge It R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D7D9-CFB1-4B5F-9B32-5BF1B916318A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federalreserve.gov/creditcardcalculator/" TargetMode="External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6"/>
          <p:cNvSpPr/>
          <p:nvPr/>
        </p:nvSpPr>
        <p:spPr>
          <a:xfrm>
            <a:off x="76320" y="83808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harge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228600" y="218124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It R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and Maria need another car. They have some money to put down on a new car, but they still need to borrow about $10,000 to purchase 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Buying a C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457200" y="396252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they do not (or cannot) pay back the loan, what might the lender do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a revolving line of credit wit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dollar li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inimum monthly pa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.g., $15 for a $600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harge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 you to pay the entire balance every mon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-34416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ebit cards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ied to a checking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4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6" descr="Credit card"/>
          <p:cNvPicPr/>
          <p:nvPr/>
        </p:nvPicPr>
        <p:blipFill>
          <a:blip r:embed="rId1"/>
          <a:stretch/>
        </p:blipFill>
        <p:spPr>
          <a:xfrm>
            <a:off x="6705720" y="190512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a Credit Car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C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red value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ecured and unsecured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ld and platinum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war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-approved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 disclosures before you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at fees/penal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consumer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precautions to protect yourself from fraud or 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d by federal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st highlight rates, fees, other key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4240" indent="-2642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mple interest rate section of disclosu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uth in Lending Disclosure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shopping for credit cards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percentage rates (APR)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Penalty APR, and when it a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es, such as any annual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race period, if there is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computation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Ter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622920" y="2057400"/>
            <a:ext cx="1757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Rate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 on a yearly basis (interest + fe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a low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annual fees and other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how long the introductory rates will last and whether the new rate will be fixed or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ing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Bala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904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on money you owe for charges you made in the past (existing balance) generally cannot be increased unles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told about the increase when you open the account and the initial rate lasts at least 6 month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re is a change in an index-based 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n’t satisfy a “workout arrangement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do not make the required minimum payment within 60 days of due d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Increase on </a:t>
            </a:r>
            <a:r>
              <a:rPr b="1" lang="en-U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ew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Trans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PR that applies to new transactions generally cannot increase for a year from the date the card was issue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cept if you have a variable rate card and the index increases or promotional rate ex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or must notify you 45 days in adv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cancel the card before the changes take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nalty AP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enalty AP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a permanent rate increase if you do not pay your credit card bill on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be double the regular A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ok for details in Truth in Lending disclosu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505320" y="403848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t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ver-the-limi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transfer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sh adv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-limit increas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ign transac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Dollar sign"/>
          <p:cNvPicPr/>
          <p:nvPr/>
        </p:nvPicPr>
        <p:blipFill>
          <a:blip r:embed="rId1"/>
          <a:stretch/>
        </p:blipFill>
        <p:spPr>
          <a:xfrm>
            <a:off x="5410080" y="1371600"/>
            <a:ext cx="2202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oid finance charges by paying your balance in full, or making the minimum payment, on or before the due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race Peri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0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verage Daily Balance is th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mon method us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lance x APR x Days in Billing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ys in Calendar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   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3360" indent="-24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alance Computation Meth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stomer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via telephone and Internet may allow you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ss account information, such as balance and recent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bill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pdate personal information such as your addr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Key I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e awar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ws that protect you against billing mistakes and unauthorized ch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dditional protections that credit card companies may provide (e.g., an extended warranty period on certain purcha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time to fully understand the costs, benefits, and true coverage of “credit protection” or “debt suspension” progr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maximum amount of credit the credit card company grants you based on factors, such as you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5742000" cy="1098720"/>
          </a:xfrm>
          <a:prstGeom prst="rect">
            <a:avLst/>
          </a:prstGeom>
          <a:ln w="0">
            <a:noFill/>
          </a:ln>
        </p:spPr>
      </p:pic>
      <p:pic>
        <p:nvPicPr>
          <p:cNvPr id="164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5907240" cy="1103400"/>
          </a:xfrm>
          <a:prstGeom prst="rect">
            <a:avLst/>
          </a:prstGeom>
          <a:ln w="0">
            <a:noFill/>
          </a:ln>
        </p:spPr>
      </p:pic>
      <p:pic>
        <p:nvPicPr>
          <p:cNvPr id="165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157560" cy="1098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re to Apply for a Credit Ca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Where do you think you would go to apply for a credit car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t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the right to “opt out” of receiving mailed credit car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l the phone number on the offers of cr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ell phone"/>
          <p:cNvPicPr/>
          <p:nvPr/>
        </p:nvPicPr>
        <p:blipFill>
          <a:blip r:embed="rId2"/>
          <a:stretch/>
        </p:blipFill>
        <p:spPr>
          <a:xfrm>
            <a:off x="533520" y="4038480"/>
            <a:ext cx="2379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dividual credi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your own assets, income, ability to pay, and credit histo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are responsible for paying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Joint credi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ased on the assets, income, ability to pay, and credit history of both people who app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oth applicants are responsible for the credit card bi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vs. Joint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Consumers </a:t>
            </a:r>
            <a:r>
              <a:rPr b="1" lang="en-U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under age 21</a:t>
            </a: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 mus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Have a co-signer,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Prove the ability to make the pay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If you are a parent, be prepared for a request to co-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vide accurate information on a credit applic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Giving false information is a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plication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ty:</a:t>
            </a:r>
            <a:r>
              <a:rPr b="1" lang="en-U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present and future ability to meet your payment oblig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he value of your assets and your net wo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haracter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how you have paid bills or debts in the pa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ollateral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property or assets offered to secure the lo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he Four 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e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credit is impor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factors creditors look for when making credit decis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purpose of credit c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ty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have you been in your job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make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your monthly expens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have in your checking and savings accounts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own a hous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investments or other assets (e.g., a car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harac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had credit in the past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accounts do you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e you ev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d for bankruptc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any outstanding judg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d property repossessed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reclosed up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de late pay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6705720" y="2514600"/>
            <a:ext cx="1876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have assets to secure the loan beyond your capacity to pay it off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e have discussed what information creditors look for in order to decide whether to give you a credit card, but where do you think they might find this inform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Creditors Look 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r credit report tells credit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you 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ether you have any collection actions, bankruptcies, judgments, etc. against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many credit report inquiries have been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69440" y="156996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et Cathy. S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s 2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ever had a credit card or a lo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s no credit history except for an inquiry by her landlord when she rented her apartment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will a creditor decide if Cathy is good credit ris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375240" y="1828800"/>
            <a:ext cx="20829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se: No History Is No Mys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Reporting Ag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: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ll: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i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Free Annual Credit Repo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6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wo 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Fair Isaac (FICO) 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Sc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if you are ready to apply for a credit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credit card is best suited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how to use a credit card responsibl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steps to take when a credit card is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Request Is Deni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denial notice, or adverse action notice, lists reasons for credit den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ard companies must give you reasons why your credit was deni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the credit bureau within 60 days of receiving the denial for a free copy of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any inaccuracy in your credit repor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Card Statement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95360" y="118908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ccount Summ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ayment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3080" indent="-367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ederalreserve.gov/creditcardcalculator/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Counseling Stat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ce of Interest Rate Chan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tions or Account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harge Cal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89680" indent="-5896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4" descr="Statement and envelope"/>
          <p:cNvPicPr/>
          <p:nvPr/>
        </p:nvPicPr>
        <p:blipFill>
          <a:blip r:embed="rId2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2400" y="12952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Keep your credit card receipts to compare with monthly statements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eck your monthly statement fo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port mistakes right a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Good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98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ich of the following is a good reason to pay more than the minimum payment due on your credit card bil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look good on your credit his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will be able to spend it again, in higher amou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he credit card company will increase your limit fas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 pay if off quicker and save on interest char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609480" y="1143000"/>
          <a:ext cx="7925040" cy="3962520"/>
        </p:xfrm>
        <a:graphic>
          <a:graphicData uri="http://schemas.openxmlformats.org/drawingml/2006/table">
            <a:tbl>
              <a:tblPr/>
              <a:tblGrid>
                <a:gridCol w="1600200"/>
                <a:gridCol w="1121040"/>
                <a:gridCol w="1241280"/>
                <a:gridCol w="1320840"/>
                <a:gridCol w="1320840"/>
                <a:gridCol w="132084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rni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 of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ts of Exceeding the Minimum Pa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iginal Bal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nthly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Years to Pay 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terest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of Paym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mum Payment (MP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P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Houston, We Might Have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ether the people are using their cards responsib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what could happen if each person continues to use their credit card as describ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f Your Credit Card is Lost or Stole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ify your credit card company immediatel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8276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characteristic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ards that are similar to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different types of credit 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shop for the best credit card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apply for a credit 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a credit card responsib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90440" indent="-347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pay your credit card b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credit car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at Is Credi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8276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sk a financial professional what “credit” is, which of these would this person choose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tion for a job well-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11840" indent="-591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ng, scrolling text at the end of a mov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edi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ability to borrow mone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oan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reement to borrow money on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7760" indent="-3477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llateral or Guarantee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curity, or asset, you pledge to the lender in case you cannot repay the 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st of borrowing mone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edit Def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mportance of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87440" indent="-487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do you think credit is importan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be useful in times of emergen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more convenient and safer than carrying large amounts of ca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a large purchase, such as a car or house, and pay for it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87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 affect your ability to obtain a job, buy or rent a house, or obtain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7440" indent="-487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9440" y="1219320"/>
            <a:ext cx="579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aving good credit mea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ke your loan payments o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t will be easier to borrow money in the fut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2400" indent="-3024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have problems using credit responsibly, it will be harder to borrow money in the fu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6477120" y="1600200"/>
            <a:ext cx="1828800" cy="2741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ood Cred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37:42Z</dcterms:modified>
  <cp:revision>2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